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EE9E-A210-4331-8643-A6CDBFF7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038F-D8E1-4B53-B86E-FBBBC2F5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A5AA-1009-41C0-9264-6009E5F3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A907-53FB-4F96-AB3E-85114E34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F0D6-8E75-4442-B12E-381E3594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A401-49B7-4F65-9D9E-6B43FE73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E5B1-60C3-432F-A535-14137C9B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CA9B-681A-46AB-9C5A-F27FD0D6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387F-A3B8-428E-A6C2-4C0DDE52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3403-4BB0-485E-A198-89CE8B49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2C6D-4019-4FAE-A972-98DFFD60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75F3-7435-4957-9479-9532E309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BEAB-3FF4-4957-81C0-E2D8A247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A141-4E90-4995-B095-A87A6131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FB4A-3180-46F1-989E-D0403ADC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F9DE-9DBA-4117-9663-0814C86C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C000-520A-4F9E-9339-299655DD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1D92-6A82-4B01-B6FF-E66BE6C9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932B-5777-448B-B448-60C7AB0B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3D59-BEAC-4BE1-BB68-4C28B445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69EC-E70F-423C-895F-9E66F573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74C0-8876-40F9-BFAC-5F561776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4AF5-2E05-46BF-9370-B895CA15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6AF6-4A35-46B3-831E-48B934FE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1362-76F7-4A10-8C43-C5377BF3BE8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4AE7-C42B-4C69-BDA9-0DE51964CBE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682560" y="317520"/>
            <a:ext cx="7785000" cy="1584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55280" y="227664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СВЕДЕНИЯ О ЧИСЛЕ ЗАБОЛЕВАНИЙ,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ЗАРЕГИСТРИРОВАННЫХ У ПАЦИЕНТОВ, ПРОЖИВАЮЩИХ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В РАЙОНЕ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  <a:ea typeface="Verdana"/>
              </a:rPr>
              <a:t>ОБСЛУЖИВАНИЯ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 МЕДИЦИНСКОЙ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ОРГАНИЗАЦИИ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за  20_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18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__  г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ГОБУЗ МИАЦ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Обжогина Е.Н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г.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ГРАФА 8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В гр. 8 показываются все, кто оставался стоять  на Д-учете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в 2017 году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, +(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  <a:ea typeface="굴림"/>
              </a:rPr>
              <a:t>впервые взятые на Д-учет в текущем году) +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(вновь прибывшие) + (больные, которым диагноз выставлен в прошлые годы, а на Д-учет они не брались) –или+ (переходные по возрасту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остоящие на Д-учете на конец 2017г.не касаются острых сосотояний!По ним на начало года всегда н0ль!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85680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болеваний осуществляется по году рождения. Если в отчетном году ребенку исполняется 15 лет (с 1 января – по 31 декабря), то он считается подростком; 18 лет – взрослым, т.е. переход из одной возрастной группы в другую производится на начало года в не зависимости от того, когда у ребёнка или подростка день рождения. При этом вся их ранее известная заболеваемость показывается в графе 4 – всего, и только вновь выявленная в текущем году в первичной  заболеваемости  (графы 9 и 13  у  подростков, графа 9 у взрослых) соответствующих  таблиц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85840" y="642960"/>
            <a:ext cx="84009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굴림"/>
              </a:rPr>
              <a:t>Таблица 100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(Графа 15 за 2017 г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(переходные дети в подростки) + (впервые взятые на Д-учет в текущем году) + (вновь прибывшие) + (ранее стоящие на Д-учет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оторвавшиес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и кому диагноз был ранее установлен, но на Д-учете не состоял) = графа 8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굴림"/>
              </a:rPr>
              <a:t>Таблица 200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(Графа 15 за 2017 г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(переходные подростки во взрослые) + (впервые взятые на Д-учет в текущем году) + (вновь прибывшие) + (ранее стоящие на Д-учет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оторвавшиес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и кому диагноз был ранее установлен, но на Д-учете не состоял) + (переходные из детей, таблицы 1000) = графа 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굴림"/>
              </a:rPr>
              <a:t>Таблица 300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(Графа 15 за 2017 г) + (впервые взятые на Д-учет в текущем году) + (вновь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прибывшие) + (ранее стоящие на Д-учет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оторвавшиес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и кому диагноз был ранее установлен, но на Д-учете не состоял) + (переходные из подростков, таблицы 2000) = графа 8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ГРАФА 14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7120" y="1934640"/>
            <a:ext cx="83296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14 – снято с диспансерного наблюден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сем причинам: выздоровление, смерть, переезд 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е место жительства и др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ход в другую возрастную групп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входит в графу 1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.8-гр.14=гр.1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Дети первого года жизни</a:t>
            </a:r>
            <a:br>
              <a:rPr sz="50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блица 1500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42884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организация заполняет таблицу 1500 на детей, которые проживают на территории обслуживания и им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полнился год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.ч. умершие).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начало года по всем строкам 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афа 4 = графе 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афа 8 = графе 1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208080" y="633240"/>
            <a:ext cx="1406196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895320" y="268200"/>
            <a:ext cx="81993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3" descr=""/>
          <p:cNvPicPr/>
          <p:nvPr/>
        </p:nvPicPr>
        <p:blipFill>
          <a:blip r:embed="rId1"/>
          <a:stretch/>
        </p:blipFill>
        <p:spPr>
          <a:xfrm>
            <a:off x="444600" y="993600"/>
            <a:ext cx="866304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57200" y="1935000"/>
          <a:ext cx="8229600" cy="2994120"/>
        </p:xfrm>
        <a:graphic>
          <a:graphicData uri="http://schemas.openxmlformats.org/drawingml/2006/table">
            <a:tbl>
              <a:tblPr/>
              <a:tblGrid>
                <a:gridCol w="2743200"/>
                <a:gridCol w="1085760"/>
                <a:gridCol w="4400640"/>
              </a:tblGrid>
              <a:tr h="568440">
                <a:tc>
                  <a:txBody>
                    <a:bodyPr lIns="171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харный диаб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1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10-Е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</a:tr>
              <a:tr h="623880">
                <a:tc>
                  <a:txBody>
                    <a:bodyPr lIns="68760" rIns="6876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его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оражением гл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0.3, Е11.3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2.3, Е13.3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 поражением поч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.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0.2, Е11.2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2.2, Е13.2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01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его (из стр. 5.2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ный диабет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и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marL="2667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ный диабет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ипа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</a:tr>
            </a:tbl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ИЗМЕНЕНИЯ В ФОРМЕ!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таблицы 1000,2000,3000,4000 добавлена новая строка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22160" y="85680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«Болезни уха и сосцевидного отростка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 строке </a:t>
            </a: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Острый средний отит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рафа «Всего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nstantia"/>
              </a:rPr>
              <a:t>строго равна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рафе «Впервые  жизни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табл.2000,3000,4000 по этой строке графы касающиеся диспансерного наблюдения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nstantia"/>
              </a:rPr>
              <a:t>не заполнять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3" descr=""/>
          <p:cNvPicPr/>
          <p:nvPr/>
        </p:nvPicPr>
        <p:blipFill>
          <a:blip r:embed="rId1"/>
          <a:stretch/>
        </p:blipFill>
        <p:spPr>
          <a:xfrm>
            <a:off x="457200" y="689040"/>
            <a:ext cx="827892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274680" y="1249200"/>
            <a:ext cx="824688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2"/>
          <p:cNvSpPr/>
          <p:nvPr/>
        </p:nvSpPr>
        <p:spPr>
          <a:xfrm>
            <a:off x="500040" y="928800"/>
            <a:ext cx="8001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а 10.4.1.1 –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20.0 –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СТАБИЛЬНАЯ СТЕНОКАРДИЯ</a:t>
            </a:r>
            <a:br>
              <a:rPr sz="28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истрируется раз в год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ся графы 4 и 9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4 = графе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2" descr=""/>
          <p:cNvPicPr/>
          <p:nvPr/>
        </p:nvPicPr>
        <p:blipFill>
          <a:blip r:embed="rId1"/>
          <a:stretch/>
        </p:blipFill>
        <p:spPr>
          <a:xfrm>
            <a:off x="281160" y="268200"/>
            <a:ext cx="86547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22160" y="71424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571680" y="1357200"/>
            <a:ext cx="82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острыми, повторными инфарктами миокарда наблюдаются в течени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-30 дне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затем снимаются с диспансерного учета, поэтому в графе 15 таблиц 2000, 3000 и 4000 отмечают только тех пациентов, которые заболели в декабре меся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2" descr=""/>
          <p:cNvPicPr/>
          <p:nvPr/>
        </p:nvPicPr>
        <p:blipFill>
          <a:blip r:embed="rId1"/>
          <a:stretch/>
        </p:blipFill>
        <p:spPr>
          <a:xfrm>
            <a:off x="281160" y="268200"/>
            <a:ext cx="821664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85518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2"/>
          <p:cNvSpPr/>
          <p:nvPr/>
        </p:nvSpPr>
        <p:spPr>
          <a:xfrm>
            <a:off x="857160" y="71424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олезни органов дых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285840" y="1357200"/>
            <a:ext cx="850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острыми пневмониями наблюдаются в течение 6 месяцев, а затем снимаются с диспансерного учета, поэтому в графе 15 таблиц 1000, 2000, 3000 и 4000 показываются только те пациенты, которые заболели во втором полугод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срок диспансерного наблюдения решает врач, и он может быть больше 6 м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2"/>
          <p:cNvSpPr/>
          <p:nvPr/>
        </p:nvSpPr>
        <p:spPr>
          <a:xfrm>
            <a:off x="714240" y="1071720"/>
            <a:ext cx="77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ОРВИ верхних дыхательный путей и грипп под диспансерное наблюдение, как правило, не беру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ы 8, 10, 14, 15-не заполняют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85840" y="1142640"/>
            <a:ext cx="840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бавлены таблицы 1003, 2003, 3003, 4003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пациентов, состоящих на конец года под диспансерным наблюдением (гр. 15): состоит под диспансерным наблюдением лиц с хроническим вирусным гепатитом (В18) и циррозом печени (К74.6) одновременно  1 ________ чел.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хроническим вирусным гепатитом (В18) и гепатоцеллюлярным раком (С22.0) одновременно  2 ________ че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2"/>
          <p:cNvSpPr/>
          <p:nvPr/>
        </p:nvSpPr>
        <p:spPr>
          <a:xfrm>
            <a:off x="142920" y="1214280"/>
            <a:ext cx="887868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Строка 11.4-ОРВИ нижних дыхательных пу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полняется если есть детализация острого бронх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Если диагноз «Бронхит»без детализации 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0-14 лет(табл.1000)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5-17 лет и взрослые(табл.2000, 3000, 4000)-стр.11.7 «бронхит хронический и неуточненн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исьмо МЗ от 03.12.2015 №13-2/15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142920" y="857160"/>
            <a:ext cx="878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Болезни системы пищевар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анный раздел также включаются заболевания стоматологического профиля, но только те, которые подлежа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испансерному наблюд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2"/>
          <p:cNvSpPr/>
          <p:nvPr/>
        </p:nvSpPr>
        <p:spPr>
          <a:xfrm>
            <a:off x="500040" y="857160"/>
            <a:ext cx="8286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дельные состояния, возникающие в перинатальном пери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357120" y="1857240"/>
            <a:ext cx="842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, регистрируются как острые (таблица 1000, графа 4 должна быть равна графе 9), дети наблюдаются в течение 1 месяца, поэтому в графе 15 на конец отчетного периода показывают только тех детей, у которых эти состояния развились в декабре месяц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428760" y="3786120"/>
            <a:ext cx="828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7.0 (таблиц 2000 и 3000) заполняется только в случаях перинатальной смертности и касается состояния здоровья матери. В этих случаях состояния матери кодируются кодами Р00-Р04, а не кодам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асса, и показываются в строке 17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493560" y="665280"/>
            <a:ext cx="7974000" cy="54864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2"/>
          <p:cNvSpPr/>
          <p:nvPr/>
        </p:nvSpPr>
        <p:spPr>
          <a:xfrm>
            <a:off x="500040" y="571680"/>
            <a:ext cx="8001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мптомы, признаки и отклонения от нормы, выявленные при клинических и лабораторных исследованиях, не классифицированные в других рубриках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остояния из этого класса (стр. 19.0), как правило, не должны регистрироваться.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гут быть единичные случаи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торые требуют объяснения, что это за симптомы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ь перечень включенных состояний (диагнозов) в соответствии с МКБ-10 (представить список в виде приложения к таблице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чет данные состояни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е берут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Заголовок 1" descr=""/>
          <p:cNvPicPr/>
          <p:nvPr/>
        </p:nvPicPr>
        <p:blipFill>
          <a:blip r:embed="rId1"/>
          <a:stretch/>
        </p:blipFill>
        <p:spPr>
          <a:xfrm>
            <a:off x="457200" y="781200"/>
            <a:ext cx="8236080" cy="62960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357200" y="5715000"/>
            <a:ext cx="6415200" cy="460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18360" tIns="360" bIns="360" anchor="t">
            <a:noAutofit/>
          </a:bodyPr>
          <a:p>
            <a:pPr algn="r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endParaRPr b="0" lang="en-US" sz="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Заголовок 3" descr=""/>
          <p:cNvPicPr/>
          <p:nvPr/>
        </p:nvPicPr>
        <p:blipFill>
          <a:blip r:embed="rId1"/>
          <a:stretch/>
        </p:blipFill>
        <p:spPr>
          <a:xfrm>
            <a:off x="858960" y="804960"/>
            <a:ext cx="812628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3" descr=""/>
          <p:cNvPicPr/>
          <p:nvPr/>
        </p:nvPicPr>
        <p:blipFill>
          <a:blip r:embed="rId1"/>
          <a:stretch/>
        </p:blipFill>
        <p:spPr>
          <a:xfrm>
            <a:off x="817560" y="1011240"/>
            <a:ext cx="793584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22160" y="571680"/>
            <a:ext cx="7772400" cy="5643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Некоторые КОНТРОЛ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Графа 4  </a:t>
            </a:r>
            <a:r>
              <a:rPr b="1" lang="ru-RU" sz="2200" spc="-1" strike="noStrike" u="sng">
                <a:solidFill>
                  <a:srgbClr val="ff0000"/>
                </a:solidFill>
                <a:uFillTx/>
                <a:latin typeface="Constantia"/>
              </a:rPr>
              <a:t>строго равна 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графе 9 по строка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.1-кишечные инфекц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7.1- воспалительные болезни центральной нервной  систем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7.1.1- бактериальный менинги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7.1.2- энцефалит, миелит и энцефаломиели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9.2.1-острый средний оти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0.1-О.ревматическая лихорад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0.4.1.1-нестабильная стенокард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0.4.2-О.инфарк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0.4.3-Повторный инфарк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0.4.4-др.формы острых ИБС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0.5.1-О.перикарди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0.5.2-острый и подострый эндокарди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0.5.3-О.миокарди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 10.6.1 по 10.6.4-все инсульт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0.6.7-последствия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1"/>
          <p:cNvSpPr/>
          <p:nvPr/>
        </p:nvSpPr>
        <p:spPr>
          <a:xfrm>
            <a:off x="357120" y="1143000"/>
            <a:ext cx="8429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1.1-ОРВИ верх.дыхательных пу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1.1.1-О.ларингит и трахе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1.1.2-О.обстр.ларингит и эпиглотт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1.2-грип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1.3-пневмо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1.4-ОРВИ нижних дыхательных пу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2.9.1-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стрый панкреат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7.0-Отдельные состояния,возникающие в перинатальном перио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2286000" y="25509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о этим же состояниям графа 8=графе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3" descr=""/>
          <p:cNvPicPr/>
          <p:nvPr/>
        </p:nvPicPr>
        <p:blipFill>
          <a:blip r:embed="rId1"/>
          <a:stretch/>
        </p:blipFill>
        <p:spPr>
          <a:xfrm>
            <a:off x="420840" y="493560"/>
            <a:ext cx="811980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22160" y="856800"/>
            <a:ext cx="7772400" cy="4357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onstantia"/>
              </a:rPr>
              <a:t>СТРОГОЕ РАВЕНСТВО ВНИЗ ПО СТРОК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р.10.3 = сумме 10.3.1+….+10.3.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р.10.4 = сумме 10.4.1+….+10.4.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р.10.6 = сумме 10.6.1+….+10.6.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nstantia"/>
              </a:rPr>
              <a:t>ПО ВСЕМ ГРАФА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1"/>
          <p:cNvSpPr/>
          <p:nvPr/>
        </p:nvSpPr>
        <p:spPr>
          <a:xfrm>
            <a:off x="214200" y="100008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28760" y="1643040"/>
          <a:ext cx="6095880" cy="1262160"/>
        </p:xfrm>
        <a:graphic>
          <a:graphicData uri="http://schemas.openxmlformats.org/drawingml/2006/table">
            <a:tbl>
              <a:tblPr/>
              <a:tblGrid>
                <a:gridCol w="2103480"/>
                <a:gridCol w="1280880"/>
                <a:gridCol w="2711520"/>
              </a:tblGrid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4&gt;=гр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  <a:tc rowSpan="5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я всех строк в табл.1000,2000,3000,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4&gt;=гр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8&gt;=гр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9&gt;=гр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7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7&gt;=гр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28760" y="3214800"/>
          <a:ext cx="6095880" cy="2773080"/>
        </p:xfrm>
        <a:graphic>
          <a:graphicData uri="http://schemas.openxmlformats.org/drawingml/2006/table">
            <a:tbl>
              <a:tblPr/>
              <a:tblGrid>
                <a:gridCol w="2103480"/>
                <a:gridCol w="1280880"/>
                <a:gridCol w="1333440"/>
                <a:gridCol w="454320"/>
                <a:gridCol w="426960"/>
                <a:gridCol w="496800"/>
              </a:tblGrid>
              <a:tr h="2844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4&gt;=гр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 gridSpan="4" rowSpan="5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 для всех строк в табл.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7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9&gt;=гр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15&gt;=гр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7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7&gt;=гр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7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7&gt;=гр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62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9&gt;=гр.11+гр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</a:tr>
              <a:tr h="2847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</a:tr>
              <a:tr h="2844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9&gt;=гр.11+гр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 gridSpan="4"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 для всех строк в табл.3000,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36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1"/>
          <p:cNvSpPr/>
          <p:nvPr/>
        </p:nvSpPr>
        <p:spPr>
          <a:xfrm>
            <a:off x="500040" y="928800"/>
            <a:ext cx="847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000 выводить данные по девуш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оводить свер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143000" y="1785960"/>
          <a:ext cx="7000920" cy="1571760"/>
        </p:xfrm>
        <a:graphic>
          <a:graphicData uri="http://schemas.openxmlformats.org/drawingml/2006/table">
            <a:tbl>
              <a:tblPr/>
              <a:tblGrid>
                <a:gridCol w="4351320"/>
                <a:gridCol w="2649600"/>
              </a:tblGrid>
              <a:tr h="78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4-гр.7&gt;=гр.9-гр.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7d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всем строк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7dc"/>
                    </a:solidFill>
                  </a:tcPr>
                </a:tc>
              </a:tr>
              <a:tr h="78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4-гр.7&gt;=гр.15-гр.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7d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всем строк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7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Заголовок 2" descr=""/>
          <p:cNvPicPr/>
          <p:nvPr/>
        </p:nvPicPr>
        <p:blipFill>
          <a:blip r:embed="rId1"/>
          <a:stretch/>
        </p:blipFill>
        <p:spPr>
          <a:xfrm>
            <a:off x="523800" y="1176480"/>
            <a:ext cx="81504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Заголовок 3" descr=""/>
          <p:cNvPicPr/>
          <p:nvPr/>
        </p:nvPicPr>
        <p:blipFill>
          <a:blip r:embed="rId1"/>
          <a:stretch/>
        </p:blipFill>
        <p:spPr>
          <a:xfrm>
            <a:off x="682560" y="1908000"/>
            <a:ext cx="813744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3" descr=""/>
          <p:cNvPicPr/>
          <p:nvPr/>
        </p:nvPicPr>
        <p:blipFill>
          <a:blip r:embed="rId1"/>
          <a:stretch/>
        </p:blipFill>
        <p:spPr>
          <a:xfrm>
            <a:off x="682560" y="781200"/>
            <a:ext cx="8352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3" descr=""/>
          <p:cNvPicPr/>
          <p:nvPr/>
        </p:nvPicPr>
        <p:blipFill>
          <a:blip r:embed="rId1"/>
          <a:stretch/>
        </p:blipFill>
        <p:spPr>
          <a:xfrm>
            <a:off x="208080" y="566640"/>
            <a:ext cx="8485200" cy="58946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2"/>
          <p:cNvSpPr/>
          <p:nvPr/>
        </p:nvSpPr>
        <p:spPr>
          <a:xfrm>
            <a:off x="285840" y="714240"/>
            <a:ext cx="8358120" cy="57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азделы формы №12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ети (0-14 лет включительно) – таблиц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ти первого года жизни – таблиц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0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ети  (15-17 лет включительно) – таблиц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зрослые 18 лет  и старше - таблиц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0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зрослые старше трудоспособного возраста (с 55 лет у женщин и с 60 лет у мужчин) – таблиц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Диспансеризация студентов высших учебных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учреждений </a:t>
            </a:r>
            <a:br>
              <a:rPr sz="2200"/>
            </a:br>
            <a:br>
              <a:rPr sz="2200"/>
            </a:b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се данные в табл.4000 должны быть меньше или равны данным в табл.3000</a:t>
            </a:r>
            <a:br>
              <a:rPr sz="31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2" descr=""/>
          <p:cNvPicPr/>
          <p:nvPr/>
        </p:nvPicPr>
        <p:blipFill>
          <a:blip r:embed="rId1"/>
          <a:stretch/>
        </p:blipFill>
        <p:spPr>
          <a:xfrm>
            <a:off x="19080" y="281160"/>
            <a:ext cx="914868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285840" y="1143000"/>
            <a:ext cx="8572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1000, 2000, 3000, 400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4 - заболевания, зарегистрированные у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ациентов впервые в жизни и повторно один  раз 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году (+ и -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5 – в возрасте 0-4 года, из графы 4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6 – в возрасте 5-9 лет, из графы 4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этом графа 4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графам 5+6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8 – взято под диспансерное наблюдение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течение года, из графы 4 «всего» (+ и -)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9 - заболевания, зарегистрированные у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ациентов впервые в жизни (+),  из графы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66600" y="268200"/>
            <a:ext cx="1287468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3" descr=""/>
          <p:cNvPicPr/>
          <p:nvPr/>
        </p:nvPicPr>
        <p:blipFill>
          <a:blip r:embed="rId1"/>
          <a:stretch/>
        </p:blipFill>
        <p:spPr>
          <a:xfrm>
            <a:off x="480960" y="853920"/>
            <a:ext cx="8321760" cy="28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8T10:10:48Z</dcterms:created>
  <dc:creator>u.oskov</dc:creator>
  <dc:description/>
  <dc:language>en-US</dc:language>
  <cp:lastModifiedBy>Лена</cp:lastModifiedBy>
  <dcterms:modified xsi:type="dcterms:W3CDTF">2018-12-18T09:06:22Z</dcterms:modified>
  <cp:revision>206</cp:revision>
  <dc:subject/>
  <dc:title>Слайд 1</dc:title>
</cp:coreProperties>
</file>