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0" y="942624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49840" y="942624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AEB-1323-4324-B624-26FC9F679E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Номер слайда 6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FD5-19BF-4231-88CB-A9A51F75A7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791B-3BC5-4567-9486-5FB35CCE9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5AA-95E3-4402-B19F-718D9B9994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100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аблице указывается вид подчиненности медицинской организации (юридическое лицо), на конец отчетного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строк 1, 2, 3  ровна Всего медицинских организаций в субъ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 строку включаются сведения о числе медицинских организаций, расположенных в сельских поселениях сельских муниципальных образ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в сельских населенных пунктах, входящих в состав городских поселений или городских окру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738-561E-4827-8D67-BCBE27EA5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, что в таблицу добавлены круглосуточные отдел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стников и ветеранов во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аблице 100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ся сведения о наличии указанных подразделений в структуре медицинск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и с 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 заполняют стационары, имеющие в своем составе отделения (койки) для обслуживания перечисленных контингентов. В таблицу не включаются данные госпиталей ветеранов ВОВ и специализированных учреждений для  инвалидов войны, участников и ветеранов во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и 2 – 4 заполняют независимо от профиля коек и от наличия от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 разделе указываются с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невных стационарах для пациентов, страдающих психическими расстройствами и наркологическими заболеваниями, и числе мест в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ансионатах для приезжих пациентов и числе мест в них;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сихиатрических отделениях специализированного типа и числе коек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лице 1006 в строках 5 – 8 представляются данные, содержащиеся в соответствующих строках отчетной формы отраслевого статистического наблюдения №14-дс «Сведения о деятельности дневных стационаров медицинских организац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ки 10-11 заполняют по данным «Сводной ведомости учета движения пациентов и коечного фонда медицинской организации, оказывающей медицинскую помощь в стационарных условиях» (учетная форма № 016/у-02)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зированные отделения 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верить обязательно с формой 36-П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02E-0552-470A-B684-13695EB20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B972-F216-4A10-8E3D-345A8F2CF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трока 1 равна  сумме строк со 2 по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трока 8 указывается как для центров здоровья – юридических лиц, так и для центров здоровья, являющихся структурными подразделениями других медицински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лановая мощность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не ук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оматологических кабинетов, организованных в специализированных больницах (для нужд паци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авмпунктов, если они организованы в приемном пок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анаторно-курортных организаций (для нужд отдыхающи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3182-1ADE-4F41-B706-DCB1776874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чете медицинской организации, обособленного структурного подразделения(амбулатории, участковой больницы, входящих в состав районных поликлиник) в таблицу включают численность прикрепленного населения на 31.12.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водном отчете субъекта таблица 1050 должна содержать официальные данные Росстата по состоянию на начало отчетного года и может не равняться сумме численности прикрепленного населения подведомственных медицински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 Строка 1 должна быть ров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умме строк 2+7+8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Номер слайда 3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A99-4DB4-40D5-B1E2-593952DEF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78D-5B8E-41BF-B8DA-0B9F7CCB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8AC-EF16-4A49-9FF1-1CC56CA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BA074-2AB3-47A1-A478-EB02EAC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1FAE8-5914-4B1B-B7D6-6E9995B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BF5EB-26FC-415B-9777-ABB61610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082C5-BD84-454E-A8FD-1242F9C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CE6A1-84B7-416B-A63D-DB9D897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12D7-23F3-4AA8-A616-F37CC46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FF99-D3CE-4C18-84DB-85304F7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6DE67-0895-44BC-ADC2-9F738E34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58601-C75D-4D78-B9D2-5548FB3B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EC6F2-2934-415B-9CCD-6FA14666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3B8-A590-452D-89E7-7BD70ABA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0E3C-56E0-461E-97C1-EA6C38A6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199DD-D298-49F4-9520-46FCF91E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79046-5635-4FF6-8521-FDCD6159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E11BA-C088-4469-85EE-15606B0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A4E0F-71FD-4CF6-836C-64924B6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77334-D0F3-4341-A463-8337A32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EE08-A989-49DA-8FFE-0E4D8DF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5A0E4-2221-4364-9733-2886846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CF176-1DFC-4E43-B6B1-6B49878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D9E92-43E4-46C9-B61F-16CFD7F4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46B-B1E9-4ADE-AFC4-2EFB375D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3B5A0-E463-4665-A22F-F2AA1C59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0647-A881-493E-8F03-F6C3ABDB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AD3E6-B225-40BB-B7C0-D577C4D1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48C60-8D54-4EA6-89A7-A3611A06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81D0-8741-4CFD-B22F-6F6692E2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1634D-669F-4898-9971-4A6DEA25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A196-36EB-4BFD-B769-88D0CFC2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880B5-B9ED-4CEC-B5A7-CC00D8F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00B38-806A-450D-B2F9-60343350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6F012-E59A-4107-97EF-9E653B1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476-13B0-4530-AF0E-BFF5A2D8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F4B4-3D00-4FA3-9997-D96CF9A1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0B0AB-6AEC-4DD9-A9AB-AF22BF43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193A-CE28-46A5-9B63-08FC883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2CB1C-9C0A-4F57-9BC6-0839F52A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2B99D-BDC8-4083-84C9-4D61C04C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C0C72-02AF-44A5-B91B-3DFDECD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7A188-91CA-4A8F-9AB1-41E9B6A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066A-9B12-4F6F-BCFC-A2A157FE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44DA-96BA-42A2-8642-49EA8B91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AD93E-580C-4F87-93DC-BDA1C6E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05CB-AA9D-4CF0-8A90-0CC7A47B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0A0C4-E127-493A-881D-38A5FE09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0C79F-E3DE-4F1E-80ED-ED81C68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6A9EA-EB20-40DD-8556-9C66A9B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8F30E-7639-4FD8-A5F4-0F6B4820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469E4-0FBF-4656-BFF5-30C55BF6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DEAC5-7C9C-4107-8D8F-56769BF5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4D5FC-C40F-4722-8B2E-EA227674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56828-A078-4C93-A324-4E26C28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AF75C-B33D-4E3B-992A-E80AAB2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9614C-E273-4E89-8E65-2D344B44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07CC-04F9-4754-866A-D210713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8FB74-FCC4-4787-A124-221C4C5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FCB57-CD09-4CCF-9951-E8E299C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0FF0A-3B83-4E2F-829D-777594F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C1150-6437-4F7C-9122-2A2C758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96618-7763-4B49-97FF-6CFFA65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91F40-E8C5-4EDD-89B7-647328B9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89AF0-7611-401E-AEFE-172FA471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A4DFE-4534-47FD-AE7E-DEBD4B92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75BB1-E2E6-49BF-92F0-15A85AD1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1A45B-589C-44FE-A2C8-1EB4ED5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7CA-AE2F-4689-9F3D-91EEB816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48CE8-05A8-464B-AB38-D6D35EC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D77E1-27DA-4224-8910-A96D70A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BC768-CFC9-4C98-ACA0-664BCBC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E3F1D-3398-4940-8B95-C1EC315C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DD000-6819-49DB-A80D-4B3731EF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4916C-4694-4EE4-B426-5E3F16C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62C65-F427-4648-9442-8EDBD6D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9F4B5-E28F-4787-843C-9DCB7F6E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69125-B394-4818-896F-3C97EED5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85BC9-C49B-4D33-8B75-9A45BA16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FC64-4A85-4020-8E79-50FB7EE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DF35A-0A2E-412B-B1C9-ABB43C6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E37ED-6C91-439E-AD87-2659A460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1565B-27ED-4BCC-8EEB-084A793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D8679-9855-4E87-A49B-965A688B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033B2-A6FE-486E-8053-7495BC3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CF442-4847-49F7-95C1-B0DA1DD9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595E2-BBC0-4C92-87A4-4720025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13636-2E35-4BCD-AAF6-FF5EC5B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670B5-4368-4EA5-8C33-99C0330C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15C06-4B1F-4900-8EE0-001D979A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D541-443F-457C-ACF2-8457D9E3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A32A3-5DB1-4432-937A-667E40A3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EA65-2AE8-4125-895E-991A4C45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772-C099-4F62-9DB6-F2C8EDE9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2BD-E6BC-446C-B5BA-BB0DFCAE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70F3-BB16-4971-9FF0-56B7E41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F40C-39B7-4AEF-BF86-71130752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DD0E-1B1C-4B0F-BAE3-B0A1FF74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117F-325C-4747-B57C-D88C255E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A4E8-0BE9-4CA1-B7AC-7CC8E26A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095C-9F4C-4D00-8BDB-1B3740E6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556A-94DC-441E-82C9-8E79DFA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A072-5F06-4D51-82BF-BEB5221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BFCE-1082-4643-9D0E-87343588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6B8-412D-41A8-BED6-0A39BA25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5A91-617B-488A-9B47-EF0D66AF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B89B-DA4E-4B20-81E8-AD69F7C7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0F9D-DCAA-4982-810C-0219AB2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521B-D8D6-4DE2-9155-F1ACEEC0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0350-2A57-4239-A696-7497662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6C1C-2876-4CFF-B274-3E96731E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7D2B-5CED-4FEA-8577-53631754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AC68-BE98-475B-B99E-88F7634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138E-6F64-4587-AA38-BE71ABEA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4756-50BC-430C-A504-B2A3D4F3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771-9477-4C28-86F2-9F7B3E0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767B-436C-4E7F-AA34-12B3BC52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0222-FA25-46F6-A40E-05C4A3A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2F19-9C38-4DE1-9B3F-E8579481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A3A2-B589-4626-B2DE-7B821ED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19F7-5B25-42CD-AFF0-91C32D9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1FD1-A45A-479E-A78D-EAC092F9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36DF7-DD0C-439A-8F80-08108B37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5BB0-B368-48ED-9E4B-EF6AED74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FFB1-9C51-4321-9264-72CD904B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AFD1D-7B69-40AB-9D94-8530F4A9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17B-C93A-44FC-97D9-6F666D2E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0ADA-160C-48E6-BC3B-E970415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86E08-B0A0-41FD-87A7-1ECFE30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3EFE-BD17-4B1F-872B-C4D75192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41A9F-1329-4809-8D56-5D1CB6E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4E93-70FF-478F-8965-6DCE984B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0B16-D362-4C4D-BBFC-0AA2DE9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4390-4627-4BF6-957B-7AE2941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5985F-4451-48C0-AE4A-7F2BEDF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313C-706D-41C2-9F57-C4A5DEA3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1B01-6813-4B77-9262-DCADFD67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FB3-EE52-491C-96E1-4AD1E8D4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FCD6-D66B-4FDE-85F4-B6EAC33E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5AEB-21AC-4DC5-B67D-32B1D291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3B11A-162B-4EA7-ACE2-0BF0C55A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99DB1-4CEE-4EFA-B1C6-CD8ADAC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3681-77FC-45F0-8536-D2F7B734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B359-3D21-4583-890B-3C862EEA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D20AB-91E5-418E-A398-3C0292A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3AE9D-17FA-4E0D-B19A-F9AF03F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FE5F-E058-40DB-9A4A-2B3F1B9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C3AB-761F-4F63-AFB6-B5C6CBC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70D-D9F7-4487-9164-A79FB28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0D757-9B99-4775-BBFE-A59C1CAA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1C7E-440E-4D05-94E6-493036DF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30450-5421-40A4-AE1D-34C6D0A7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AEBD-3334-4237-935C-B4977B0E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6385-0564-4E98-BABA-31140BE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7813-62EB-42DD-9FC5-AB6B870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0782-1B74-4538-BEE0-E08911F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0617-B64C-4EAF-82C1-D28C3E49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A0336-8DBA-4510-8A23-241D1F07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A161-482A-457A-BD29-1E1B53E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88A-98FB-47DB-9F27-94B76B0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FB1F-F322-4736-9A2B-5459544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97AA-6BA0-426D-A236-F8BEC23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6FE06-2899-4AB6-8D0F-6A1612D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98414-4849-4D44-B6BA-5EF724C5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6062-0D80-4A13-9D54-E0DDCC45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D246-5F9D-434D-AFFD-77F32CEF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2E07C-C27F-4C2B-B562-DAF0805A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05CF-3B88-492F-9A30-355AE3CE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90DD-17F1-4F5E-91CB-D98EC43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C062-780D-4FF8-B8CC-521F6AE4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F0A-E6BF-443C-BAF4-E3E2EAE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91B11-AFCC-4B59-8EF8-FEEE9D2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80DC-217E-42D5-82BB-0033399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4366-86C7-431F-A498-6DE3FC4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9AFE-E555-4D83-B3CE-5C4C6900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7722-8E75-4717-8D74-EA113BB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90095-B46C-40A0-A013-C0BA45EF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FECA-5F20-48DC-8F3C-7911F387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FCA3-9B45-42A4-B499-15183121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0791A-F150-43B4-BA85-6F78BEA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086A1-7B1C-4420-BF97-C2F2AEEB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0B4-5756-4582-A952-77C8B2C5FB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4D6-A87A-4A1F-A131-E2C7A0F64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FA25-3423-4513-BD9D-372F9929E5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FA6A-9295-4A3A-8644-D926DB930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2FC-9681-43BC-8622-3EA9CBECCD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EED0-65FD-4394-95B7-319CE07F5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4441-6FA6-46C4-A480-EF3F02E41D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D2E8-36ED-4235-9B65-8D4E964FE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D4BB-CA41-426F-AE99-A56A5D8D26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1CF0-3026-4642-89A3-715967845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4603-14FF-4C50-A374-0670D4CA8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C7C5-DF98-44AA-AAB9-1253E83A6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6A46-2475-4FF9-81BC-85D92515C2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B49F-51D3-402B-91A5-19FD4A316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384B-3CD8-4C55-B8A6-008F7658D6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419-3766-4EFF-91C5-7353FBEDC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07A-A751-4947-A856-1EC636753B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C37D-5B3F-4332-B5E1-4575D2282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A8C4-7A95-4375-960E-52AE41BCB3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B34-6FF6-4FF6-9067-BADBC7E3B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36E-7CC5-4078-84A0-84E87D8884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647-43EF-472F-A7FF-5DEC95EF6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DEB-E7B2-4977-8043-87F32145A9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F3B2-8FEE-49BD-BFDC-177339FA3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54AF-A39D-4BE0-9620-DC0F9A981C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C1C-9524-4D3A-B381-B6C07F0DA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DD92-0030-4E3E-A74D-59B27DC32D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1F8-472F-4736-95D0-A3C4C5123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181440" y="2060640"/>
            <a:ext cx="9325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орма №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ведения о медицинской организац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099040" y="4361040"/>
            <a:ext cx="36734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.А. Шелеп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Зав. группой сбора и обработки демографической информации отделения статистики специализированных служб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ФГБУ «ЦНИИОИЗ» Минздрава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лектронный адрес: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helepova@medne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Прямоугольник 3"/>
          <p:cNvSpPr/>
          <p:nvPr/>
        </p:nvSpPr>
        <p:spPr>
          <a:xfrm>
            <a:off x="3643200" y="6448320"/>
            <a:ext cx="22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сква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64"/>
          <p:cNvSpPr/>
          <p:nvPr/>
        </p:nvSpPr>
        <p:spPr>
          <a:xfrm>
            <a:off x="2286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1920"/>
                <a:tab algn="ctr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01920"/>
                <a:tab algn="ctr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5"/>
          <p:cNvSpPr/>
          <p:nvPr/>
        </p:nvSpPr>
        <p:spPr>
          <a:xfrm>
            <a:off x="152280" y="914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52280" y="1297080"/>
          <a:ext cx="8763120" cy="1785960"/>
        </p:xfrm>
        <a:graphic>
          <a:graphicData uri="http://schemas.openxmlformats.org/drawingml/2006/table">
            <a:tbl>
              <a:tblPr/>
              <a:tblGrid>
                <a:gridCol w="6220080"/>
                <a:gridCol w="936360"/>
                <a:gridCol w="1606680"/>
              </a:tblGrid>
              <a:tr h="506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 под наблюдением на конец года женщин, имеющих внутриматочные спирали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щих гормональную контрацеп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о внутриматочных спиралей (в подразделениях, оказывающих медицинскую помощь в амбулаторных и стационарных условиях), 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1374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лиц, освидетельствованных на состояние опьянения, которые управляют транспортным средством 1_____, из них: с положительным результатом медицинского освидетельствования всего 2 _____, из них: с алкогольным опьянением  3 _____; с наркотическим опьянением  4 _____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228600" y="609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6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685800" y="4572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инвалидов и участников Великой Отечественной войны и воинов-интернационалис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52280" y="1523880"/>
          <a:ext cx="8763120" cy="4484880"/>
        </p:xfrm>
        <a:graphic>
          <a:graphicData uri="http://schemas.openxmlformats.org/drawingml/2006/table">
            <a:tbl>
              <a:tblPr/>
              <a:tblGrid>
                <a:gridCol w="4683240"/>
                <a:gridCol w="582480"/>
                <a:gridCol w="1182960"/>
                <a:gridCol w="857160"/>
                <a:gridCol w="1457280"/>
              </a:tblGrid>
              <a:tr h="6393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ВОВ (кроме И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ы 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ины-интернационал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начало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овь взято под диспансерное наблюдение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серного наблюдения в течении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ех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группам инвалидности:    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чено комплексными медицинскими осмотрами  (из ст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ись в стационарном леч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 стационарное лечение из числа нуждавшихся (стр.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 санаторно-курортное л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Rectangle 636"/>
          <p:cNvSpPr/>
          <p:nvPr/>
        </p:nvSpPr>
        <p:spPr>
          <a:xfrm>
            <a:off x="5580000" y="2514600"/>
            <a:ext cx="3411720" cy="10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графы 3 и 5 включены категории пациентов, которые не предусматривают наличие инвалид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39"/>
          <p:cNvSpPr/>
          <p:nvPr/>
        </p:nvSpPr>
        <p:spPr>
          <a:xfrm>
            <a:off x="5486400" y="3733920"/>
            <a:ext cx="3505320" cy="838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строка 6 не равна сумме строк 7+8+9, то необходимо дать пояс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40"/>
          <p:cNvSpPr/>
          <p:nvPr/>
        </p:nvSpPr>
        <p:spPr>
          <a:xfrm>
            <a:off x="5486400" y="4952880"/>
            <a:ext cx="3505320" cy="838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строка 10 меньше строки 6, то необходимо дать пояс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Прямоугольник 15"/>
          <p:cNvSpPr/>
          <p:nvPr/>
        </p:nvSpPr>
        <p:spPr>
          <a:xfrm>
            <a:off x="838080" y="160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е вскармл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5800" y="2438280"/>
          <a:ext cx="7924680" cy="1584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, достигших в отчетном году 1 года,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_______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ходились на грудном вскармливан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 до 6 месяцев   2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месяцев до 1 года  3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57200" y="4678200"/>
          <a:ext cx="7924680" cy="14623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46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5"/>
          <p:cNvSpPr/>
          <p:nvPr/>
        </p:nvSpPr>
        <p:spPr>
          <a:xfrm>
            <a:off x="685800" y="12193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ДЕЯТЕЛЬНО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ДИЦИНСК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РГАНИЗАЦИИ ПО ОКАЗАНИ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ОЙ ПОМОЩИ 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ТАЦИОНАРН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30492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ПРОФИЛЯ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76320" y="1695600"/>
          <a:ext cx="8915400" cy="5113080"/>
        </p:xfrm>
        <a:graphic>
          <a:graphicData uri="http://schemas.openxmlformats.org/drawingml/2006/table">
            <a:tbl>
              <a:tblPr/>
              <a:tblGrid>
                <a:gridCol w="2658960"/>
                <a:gridCol w="6256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я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и новорожденных и недоношенных детей,  для новорожденных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007U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1905120" y="403848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в строке 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1981080" y="434340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в строке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52480" y="487692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в строке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1981080" y="5867280"/>
            <a:ext cx="617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в строке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0" name="Прямая со стрелкой 7"/>
          <p:cNvCxnSpPr>
            <a:stCxn id="676" idx="1"/>
          </p:cNvCxnSpPr>
          <p:nvPr/>
        </p:nvCxnSpPr>
        <p:spPr>
          <a:xfrm flipH="1">
            <a:off x="914040" y="4222800"/>
            <a:ext cx="99144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1" name="Прямая со стрелкой 8"/>
          <p:cNvCxnSpPr>
            <a:stCxn id="677" idx="1"/>
          </p:cNvCxnSpPr>
          <p:nvPr/>
        </p:nvCxnSpPr>
        <p:spPr>
          <a:xfrm flipH="1">
            <a:off x="1142640" y="4527720"/>
            <a:ext cx="83880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2" name="Прямая со стрелкой 9"/>
          <p:cNvCxnSpPr/>
          <p:nvPr/>
        </p:nvCxnSpPr>
        <p:spPr>
          <a:xfrm flipH="1">
            <a:off x="990360" y="5105160"/>
            <a:ext cx="9151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3" name="Прямая со стрелкой 10"/>
          <p:cNvCxnSpPr>
            <a:stCxn id="679" idx="1"/>
          </p:cNvCxnSpPr>
          <p:nvPr/>
        </p:nvCxnSpPr>
        <p:spPr>
          <a:xfrm flipH="1" flipV="1">
            <a:off x="1294560" y="5486040"/>
            <a:ext cx="686520" cy="565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4" name="Text Box 7"/>
          <p:cNvSpPr/>
          <p:nvPr/>
        </p:nvSpPr>
        <p:spPr>
          <a:xfrm>
            <a:off x="6019920" y="3049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533520" y="2286000"/>
          <a:ext cx="7848360" cy="3962520"/>
        </p:xfrm>
        <a:graphic>
          <a:graphicData uri="http://schemas.openxmlformats.org/drawingml/2006/table">
            <a:tbl>
              <a:tblPr/>
              <a:tblGrid>
                <a:gridCol w="2313000"/>
                <a:gridCol w="3043080"/>
                <a:gridCol w="24922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ей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СН №30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3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2"/>
          <p:cNvSpPr/>
          <p:nvPr/>
        </p:nvSpPr>
        <p:spPr>
          <a:xfrm>
            <a:off x="45720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аж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533520" y="9907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Таблица 3100 заполняется по профилям коек, а не по наимен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т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койки общего профиля должны быть перепрофилированы и показаны по соответствующему профилю в соответствии с приказом Минздравсоцразвития России от 12.05.2012  № 555н (терапевтические, сестринского ухода, паллиативные или др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койки одноименного профиля, развернутые в различных отделениях медицинской организации, показывают суммарно одной стро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в городской больнице на конец отчетного года работал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рапевтическом отделении 5 коек по профилю «интенсивной терапии», в хирургическом отделении 5 коек по профилю «интенсивной терапии». В этом случае, в таблице 3100 по графе 3 строке 45.2 «интенсивной терапии» ставим 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заполняется по данным «Сводной ведомости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16/у-0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«Листков ежедневного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07/у-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и перевода пациентов из любого профильного отделения в другое этой же медицинской организации показывают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е перево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ациенты, направленные в дневной стационар, в другую медицинскую организацию или из них, счит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исанны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еводом)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ивши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ереводом), а не переведенн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Прямоугольник 1"/>
          <p:cNvSpPr/>
          <p:nvPr/>
        </p:nvSpPr>
        <p:spPr>
          <a:xfrm>
            <a:off x="611280" y="3141720"/>
            <a:ext cx="72007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нсивная терапия 5 (в хирургическом отд.)+5 (в терапевтическом отд.)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457200" y="4572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й перевод в А** городской боль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52280" y="1371600"/>
          <a:ext cx="358164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AutoShape 59"/>
          <p:cNvSpPr/>
          <p:nvPr/>
        </p:nvSpPr>
        <p:spPr>
          <a:xfrm rot="18991800">
            <a:off x="685800" y="2209320"/>
            <a:ext cx="1457280" cy="692280"/>
          </a:xfrm>
          <a:prstGeom prst="rightArrow">
            <a:avLst>
              <a:gd name="adj1" fmla="val 50000"/>
              <a:gd name="adj2" fmla="val 52626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61"/>
          <p:cNvSpPr/>
          <p:nvPr/>
        </p:nvSpPr>
        <p:spPr>
          <a:xfrm>
            <a:off x="3809880" y="1676520"/>
            <a:ext cx="1600200" cy="485640"/>
          </a:xfrm>
          <a:prstGeom prst="rightArrow">
            <a:avLst>
              <a:gd name="adj1" fmla="val 50000"/>
              <a:gd name="adj2" fmla="val 82376"/>
            </a:avLst>
          </a:prstGeom>
          <a:solidFill>
            <a:srgbClr val="c0504d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ве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410080" y="1371600"/>
          <a:ext cx="3581640" cy="127944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Rectangle 2"/>
          <p:cNvSpPr/>
          <p:nvPr/>
        </p:nvSpPr>
        <p:spPr>
          <a:xfrm>
            <a:off x="2743200" y="3505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таблица 3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18"/>
          <p:cNvSpPr/>
          <p:nvPr/>
        </p:nvSpPr>
        <p:spPr>
          <a:xfrm rot="5400000">
            <a:off x="4381560" y="-102852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14400" y="3962520"/>
          <a:ext cx="7543800" cy="2163600"/>
        </p:xfrm>
        <a:graphic>
          <a:graphicData uri="http://schemas.openxmlformats.org/drawingml/2006/table">
            <a:tbl>
              <a:tblPr/>
              <a:tblGrid>
                <a:gridCol w="2362320"/>
                <a:gridCol w="753840"/>
                <a:gridCol w="1257480"/>
                <a:gridCol w="1468440"/>
                <a:gridCol w="1701720"/>
              </a:tblGrid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AutoShape 20"/>
          <p:cNvSpPr/>
          <p:nvPr/>
        </p:nvSpPr>
        <p:spPr>
          <a:xfrm rot="2167200">
            <a:off x="7623000" y="2344680"/>
            <a:ext cx="1457640" cy="692280"/>
          </a:xfrm>
          <a:prstGeom prst="rightArrow">
            <a:avLst>
              <a:gd name="adj1" fmla="val 50000"/>
              <a:gd name="adj2" fmla="val 52639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Прямая со стрелкой 10"/>
          <p:cNvCxnSpPr/>
          <p:nvPr/>
        </p:nvCxnSpPr>
        <p:spPr>
          <a:xfrm>
            <a:off x="2666880" y="2057040"/>
            <a:ext cx="2363040" cy="3963240"/>
          </a:xfrm>
          <a:prstGeom prst="straightConnector1">
            <a:avLst/>
          </a:prstGeom>
          <a:ln w="6336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701" name="Прямая со стрелкой 11"/>
          <p:cNvCxnSpPr/>
          <p:nvPr/>
        </p:nvCxnSpPr>
        <p:spPr>
          <a:xfrm flipH="1">
            <a:off x="6629040" y="2057040"/>
            <a:ext cx="838800" cy="3429720"/>
          </a:xfrm>
          <a:prstGeom prst="straightConnector1">
            <a:avLst/>
          </a:prstGeom>
          <a:ln w="63360">
            <a:solidFill>
              <a:srgbClr val="99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та медицинско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990720" y="5181480"/>
            <a:ext cx="7848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304920" y="4572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й перевод в дневной стационар в А* городской боль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28600" y="1523880"/>
          <a:ext cx="358128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2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c0504d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евод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5410080" y="1523880"/>
          <a:ext cx="3581640" cy="131148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Дневной стационар при поликли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Rectangle 2"/>
          <p:cNvSpPr/>
          <p:nvPr/>
        </p:nvSpPr>
        <p:spPr>
          <a:xfrm>
            <a:off x="2819520" y="36576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40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углосуточный стацио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5410080" y="1143000"/>
            <a:ext cx="358164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9d9d9"/>
                </a:solidFill>
                <a:latin typeface="Times New Roman"/>
              </a:rPr>
              <a:t>Дневной стацио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066680" y="4114800"/>
          <a:ext cx="6782040" cy="2073240"/>
        </p:xfrm>
        <a:graphic>
          <a:graphicData uri="http://schemas.openxmlformats.org/drawingml/2006/table">
            <a:tbl>
              <a:tblPr/>
              <a:tblGrid>
                <a:gridCol w="2238480"/>
                <a:gridCol w="565200"/>
                <a:gridCol w="1289160"/>
                <a:gridCol w="1158840"/>
                <a:gridCol w="1530360"/>
              </a:tblGrid>
              <a:tr h="335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2" name="Скругленный прямоугольник 13"/>
          <p:cNvSpPr/>
          <p:nvPr/>
        </p:nvSpPr>
        <p:spPr>
          <a:xfrm>
            <a:off x="6172200" y="27432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e6b9b8">
              <a:alpha val="60000"/>
            </a:srgbClr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тория болезни стационарного больного закры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Прямая со стрелкой 14"/>
          <p:cNvCxnSpPr/>
          <p:nvPr/>
        </p:nvCxnSpPr>
        <p:spPr>
          <a:xfrm>
            <a:off x="2361960" y="2133360"/>
            <a:ext cx="2515320" cy="381060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14" name="Прямая со стрелкой 15"/>
          <p:cNvCxnSpPr/>
          <p:nvPr/>
        </p:nvCxnSpPr>
        <p:spPr>
          <a:xfrm>
            <a:off x="3428640" y="2133360"/>
            <a:ext cx="2591640" cy="388692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15" name="Прямая со стрелкой 16"/>
          <p:cNvCxnSpPr/>
          <p:nvPr/>
        </p:nvCxnSpPr>
        <p:spPr>
          <a:xfrm>
            <a:off x="3429000" y="2133360"/>
            <a:ext cx="4191840" cy="381060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228600" y="2286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перевод в другую медицинскую организ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228600" y="1523880"/>
          <a:ext cx="3581280" cy="134172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609480" y="3581280"/>
            <a:ext cx="33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38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** районная б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5334120" y="1143000"/>
            <a:ext cx="3581280" cy="380880"/>
          </a:xfrm>
          <a:prstGeom prst="rect">
            <a:avLst/>
          </a:prstGeom>
          <a:solidFill>
            <a:srgbClr val="c0504d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** областная б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5410080" y="1523880"/>
          <a:ext cx="3581640" cy="127980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228600" y="3962520"/>
          <a:ext cx="4038480" cy="1982520"/>
        </p:xfrm>
        <a:graphic>
          <a:graphicData uri="http://schemas.openxmlformats.org/drawingml/2006/table">
            <a:tbl>
              <a:tblPr/>
              <a:tblGrid>
                <a:gridCol w="1719360"/>
                <a:gridCol w="436320"/>
                <a:gridCol w="870120"/>
                <a:gridCol w="1012680"/>
              </a:tblGrid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Rectangle 2"/>
          <p:cNvSpPr/>
          <p:nvPr/>
        </p:nvSpPr>
        <p:spPr>
          <a:xfrm>
            <a:off x="5257800" y="3581280"/>
            <a:ext cx="33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4876920" y="3962520"/>
          <a:ext cx="4038480" cy="1996920"/>
        </p:xfrm>
        <a:graphic>
          <a:graphicData uri="http://schemas.openxmlformats.org/drawingml/2006/table">
            <a:tbl>
              <a:tblPr/>
              <a:tblGrid>
                <a:gridCol w="1719000"/>
                <a:gridCol w="436680"/>
                <a:gridCol w="870120"/>
                <a:gridCol w="1012680"/>
              </a:tblGrid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AutoShape 27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c0504d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переводом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4500720" y="6237360"/>
            <a:ext cx="2819160" cy="457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 3101 –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Скругленный прямоугольник 14"/>
          <p:cNvSpPr/>
          <p:nvPr/>
        </p:nvSpPr>
        <p:spPr>
          <a:xfrm>
            <a:off x="3276720" y="15228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f2dcdb">
              <a:alpha val="60000"/>
            </a:srgbClr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тория болезни стационарного больного закры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Прямая со стрелкой 15"/>
          <p:cNvCxnSpPr/>
          <p:nvPr/>
        </p:nvCxnSpPr>
        <p:spPr>
          <a:xfrm>
            <a:off x="2895120" y="2133720"/>
            <a:ext cx="229320" cy="350568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31" name="Прямая со стрелкой 17"/>
          <p:cNvCxnSpPr/>
          <p:nvPr/>
        </p:nvCxnSpPr>
        <p:spPr>
          <a:xfrm>
            <a:off x="3428640" y="2057400"/>
            <a:ext cx="686520" cy="358200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32" name="Прямая со стрелкой 21"/>
          <p:cNvCxnSpPr/>
          <p:nvPr/>
        </p:nvCxnSpPr>
        <p:spPr>
          <a:xfrm flipH="1">
            <a:off x="7543080" y="2209680"/>
            <a:ext cx="305640" cy="335376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733" name="Прямая со стрелкой 22"/>
          <p:cNvCxnSpPr/>
          <p:nvPr/>
        </p:nvCxnSpPr>
        <p:spPr>
          <a:xfrm>
            <a:off x="8076960" y="2209680"/>
            <a:ext cx="533880" cy="3353760"/>
          </a:xfrm>
          <a:prstGeom prst="straightConnector1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734" name="AutoShape 59"/>
          <p:cNvSpPr/>
          <p:nvPr/>
        </p:nvSpPr>
        <p:spPr>
          <a:xfrm rot="2509200">
            <a:off x="7641720" y="2760840"/>
            <a:ext cx="1457640" cy="691920"/>
          </a:xfrm>
          <a:prstGeom prst="rightArrow">
            <a:avLst>
              <a:gd name="adj1" fmla="val 50000"/>
              <a:gd name="adj2" fmla="val 52666"/>
            </a:avLst>
          </a:prstGeom>
          <a:solidFill>
            <a:srgbClr val="c0504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31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05"/>
          <p:cNvSpPr/>
          <p:nvPr/>
        </p:nvSpPr>
        <p:spPr>
          <a:xfrm>
            <a:off x="1219320" y="1066680"/>
            <a:ext cx="6324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ечный фонд и его ис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152280" y="1905120"/>
          <a:ext cx="8610840" cy="4376520"/>
        </p:xfrm>
        <a:graphic>
          <a:graphicData uri="http://schemas.openxmlformats.org/drawingml/2006/table">
            <a:tbl>
              <a:tblPr/>
              <a:tblGrid>
                <a:gridCol w="2895840"/>
                <a:gridCol w="761760"/>
                <a:gridCol w="1524240"/>
                <a:gridCol w="1941480"/>
                <a:gridCol w="1487520"/>
              </a:tblGrid>
              <a:tr h="3049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оминальной хирур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9" name="Rectangle 1929"/>
          <p:cNvSpPr/>
          <p:nvPr/>
        </p:nvSpPr>
        <p:spPr>
          <a:xfrm>
            <a:off x="380880" y="380880"/>
            <a:ext cx="807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310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930"/>
          <p:cNvSpPr/>
          <p:nvPr/>
        </p:nvSpPr>
        <p:spPr>
          <a:xfrm>
            <a:off x="3809880" y="4038480"/>
            <a:ext cx="5181840" cy="2057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о коек в графе 4 указывается по медицинским организациям и их структурным подразделениям, расположенным в сельской местности, то есть в сельских поселениях сельских муниципальных образованиях и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"/>
          <p:cNvSpPr/>
          <p:nvPr/>
        </p:nvSpPr>
        <p:spPr>
          <a:xfrm>
            <a:off x="4065480" y="3390840"/>
            <a:ext cx="4392720" cy="576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ерка с Формой № 30 - с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454"/>
          <p:cNvSpPr/>
          <p:nvPr/>
        </p:nvSpPr>
        <p:spPr>
          <a:xfrm>
            <a:off x="0" y="5157720"/>
            <a:ext cx="4572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0" y="85680"/>
          <a:ext cx="9144000" cy="5226120"/>
        </p:xfrm>
        <a:graphic>
          <a:graphicData uri="http://schemas.openxmlformats.org/drawingml/2006/table">
            <a:tbl>
              <a:tblPr/>
              <a:tblGrid>
                <a:gridCol w="868320"/>
                <a:gridCol w="382680"/>
                <a:gridCol w="703080"/>
                <a:gridCol w="625680"/>
                <a:gridCol w="623880"/>
                <a:gridCol w="625320"/>
                <a:gridCol w="703440"/>
                <a:gridCol w="625320"/>
                <a:gridCol w="547920"/>
                <a:gridCol w="625320"/>
                <a:gridCol w="625320"/>
                <a:gridCol w="781200"/>
                <a:gridCol w="781200"/>
                <a:gridCol w="625320"/>
              </a:tblGrid>
              <a:tr h="3049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и закрытия на ремо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тупивших (гр.6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4952880" y="4876920"/>
          <a:ext cx="3886200" cy="2041560"/>
        </p:xfrm>
        <a:graphic>
          <a:graphicData uri="http://schemas.openxmlformats.org/drawingml/2006/table">
            <a:tbl>
              <a:tblPr/>
              <a:tblGrid>
                <a:gridCol w="1219320"/>
                <a:gridCol w="685800"/>
                <a:gridCol w="1981080"/>
              </a:tblGrid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сроки,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д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6" name="Овал 5"/>
          <p:cNvSpPr/>
          <p:nvPr/>
        </p:nvSpPr>
        <p:spPr>
          <a:xfrm>
            <a:off x="7086600" y="6019920"/>
            <a:ext cx="1143000" cy="83808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Прямая со стрелкой 7"/>
          <p:cNvCxnSpPr/>
          <p:nvPr/>
        </p:nvCxnSpPr>
        <p:spPr>
          <a:xfrm>
            <a:off x="7696080" y="6553080"/>
            <a:ext cx="610560" cy="153360"/>
          </a:xfrm>
          <a:prstGeom prst="straightConnector1">
            <a:avLst/>
          </a:prstGeom>
          <a:ln w="25560">
            <a:solidFill>
              <a:srgbClr val="cc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52280" y="457200"/>
          <a:ext cx="8610840" cy="450540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1828800"/>
                <a:gridCol w="1676520"/>
                <a:gridCol w="1371600"/>
              </a:tblGrid>
              <a:tr h="5122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гинекологические для вспомогательных 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Rectangle 453"/>
          <p:cNvSpPr/>
          <p:nvPr/>
        </p:nvSpPr>
        <p:spPr>
          <a:xfrm>
            <a:off x="3733920" y="1828800"/>
            <a:ext cx="5181480" cy="289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строке «Всего» показывается число коек, движение пациентов и использование коечного фонда в целом по стациона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следующих строках показываются суммарные сведения по профилям ко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со 2 по 77 по всем графам, за исключением входящих ст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йки для производства абортов должны входить в состав гинекологических коек в строке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44"/>
          <p:cNvSpPr/>
          <p:nvPr/>
        </p:nvSpPr>
        <p:spPr>
          <a:xfrm>
            <a:off x="396720" y="5013360"/>
            <a:ext cx="8763120" cy="863640"/>
          </a:xfrm>
          <a:prstGeom prst="rect">
            <a:avLst/>
          </a:prstGeom>
          <a:solidFill>
            <a:srgbClr val="dbeef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акушерских стационара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их организаций люб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ровня должны быть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едусмотрены койки для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еаним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оворожденных, которые показываются по строке 45.1 или 4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228600" y="838080"/>
          <a:ext cx="8610480" cy="4724640"/>
        </p:xfrm>
        <a:graphic>
          <a:graphicData uri="http://schemas.openxmlformats.org/drawingml/2006/table">
            <a:tbl>
              <a:tblPr/>
              <a:tblGrid>
                <a:gridCol w="4541760"/>
                <a:gridCol w="716040"/>
                <a:gridCol w="981000"/>
                <a:gridCol w="1390680"/>
                <a:gridCol w="9810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карди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больных с остр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еврологические для больных с остр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ми мозгового крово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сихо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Rectangle 524"/>
          <p:cNvSpPr/>
          <p:nvPr/>
        </p:nvSpPr>
        <p:spPr>
          <a:xfrm>
            <a:off x="5562720" y="2514600"/>
            <a:ext cx="3352680" cy="10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9 может быть больше суммы строк 19.1 + 19.2 за счет карди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25"/>
          <p:cNvSpPr/>
          <p:nvPr/>
        </p:nvSpPr>
        <p:spPr>
          <a:xfrm>
            <a:off x="5562720" y="3886200"/>
            <a:ext cx="3352680" cy="10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2 может быть больше суммы строк 22.1 + 22.2 за счет невр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525"/>
          <p:cNvSpPr/>
          <p:nvPr/>
        </p:nvSpPr>
        <p:spPr>
          <a:xfrm>
            <a:off x="228600" y="5638680"/>
            <a:ext cx="8610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наличии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еанимационных кое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тделениях ПСО (первичные сосудистые отделения) и РСЦ (региональные сосудистые центры) сведения по ним показываем по строке 45 «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еанимационные кой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04920" y="838080"/>
          <a:ext cx="8534160" cy="3184560"/>
        </p:xfrm>
        <a:graphic>
          <a:graphicData uri="http://schemas.openxmlformats.org/drawingml/2006/table">
            <a:tbl>
              <a:tblPr/>
              <a:tblGrid>
                <a:gridCol w="3200400"/>
                <a:gridCol w="838080"/>
                <a:gridCol w="1371600"/>
                <a:gridCol w="2151000"/>
                <a:gridCol w="973080"/>
              </a:tblGrid>
              <a:tr h="6062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тологии новорожденных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ношенных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Rectangle 407"/>
          <p:cNvSpPr/>
          <p:nvPr/>
        </p:nvSpPr>
        <p:spPr>
          <a:xfrm>
            <a:off x="4343400" y="2362320"/>
            <a:ext cx="4495680" cy="1828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числа педиатрических коек приказом руководителя медицинской организации могут быть выделены койки патологии новорожденных и недоношенных, койки для новорожденных, которые показывают в строке 35.1 и 35.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13"/>
          <p:cNvSpPr/>
          <p:nvPr/>
        </p:nvSpPr>
        <p:spPr>
          <a:xfrm>
            <a:off x="304920" y="4495680"/>
            <a:ext cx="83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йки для новорожденных, строка 35.1, развертываются для оказания медицинской помощи больным новорожденным в организация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ровня -  перинатальные центры. Кроме того, в  педиатрических стационар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304920" y="914400"/>
          <a:ext cx="8458200" cy="4314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295280"/>
                <a:gridCol w="1676520"/>
                <a:gridCol w="1828800"/>
              </a:tblGrid>
              <a:tr h="596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еанимационные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краткоср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сут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349"/>
          <p:cNvSpPr/>
          <p:nvPr/>
        </p:nvSpPr>
        <p:spPr>
          <a:xfrm>
            <a:off x="4038480" y="2743200"/>
            <a:ext cx="4800600" cy="1600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нимационные койки показывают в строке 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йки интенсивной терапии включают в состав реанимационных коек и показывают в строке 4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444"/>
          <p:cNvSpPr/>
          <p:nvPr/>
        </p:nvSpPr>
        <p:spPr>
          <a:xfrm>
            <a:off x="304920" y="53341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акушерских стационарах медицинских организаци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юб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должны быть предусмотрены койк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анимационны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ля новорожденных ил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нтенсивной терап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оворожд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228600" y="685800"/>
          <a:ext cx="876312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762120"/>
                <a:gridCol w="1676160"/>
                <a:gridCol w="2362320"/>
                <a:gridCol w="167652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ных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(стр. 01) - платны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Rectangle 344"/>
          <p:cNvSpPr/>
          <p:nvPr/>
        </p:nvSpPr>
        <p:spPr>
          <a:xfrm>
            <a:off x="228600" y="4572000"/>
            <a:ext cx="8610480" cy="1828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. 78 показывают «движение» больных новорожденных. Это относится к новорожденным, родившимися больными или заболевшими в акушерских стационарах. Если перевод пациента не проводился и случай считается законченным в акушерском стационаре, то пациент показывается как выписанный (или умерший). Если новорожденный переводится, то показывается выписанным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вод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в иную медицинскую организацию для долеч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51"/>
          <p:cNvSpPr/>
          <p:nvPr/>
        </p:nvSpPr>
        <p:spPr>
          <a:xfrm>
            <a:off x="3200400" y="1700280"/>
            <a:ext cx="5791320" cy="509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или прочих коек, показанные в строках 76 и 77, должны быть расшиф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52"/>
          <p:cNvSpPr/>
          <p:nvPr/>
        </p:nvSpPr>
        <p:spPr>
          <a:xfrm>
            <a:off x="3200400" y="2514600"/>
            <a:ext cx="5791320" cy="10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тные койки включают в таблицу 3100 по строкам, соответствующим их профилям. Кроме того, сумму всех платных коек показывают в дополнительной стр.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51"/>
          <p:cNvSpPr/>
          <p:nvPr/>
        </p:nvSpPr>
        <p:spPr>
          <a:xfrm>
            <a:off x="4267080" y="3886200"/>
            <a:ext cx="3886200" cy="380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стр. 78 графы 3-5 не заполн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4"/>
          <p:cNvSpPr/>
          <p:nvPr/>
        </p:nvSpPr>
        <p:spPr>
          <a:xfrm>
            <a:off x="30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еобходимо обратить внимание на показатель деятельнос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тационара:          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Работа к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анный показатель  не должен превышать рекомендованный по ТПГГ (330 дней) в целом по субъекту РФ и, соответственно, рекомендованные по профилям ко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оставить пояснительные записки (за подписью руководителя органа исполнительной власти субъекта Российской Федерации) при работе койки в целом по субъекту по профилю выше 350 дней и ниже 280 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бщие с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457200" y="1295280"/>
          <a:ext cx="8153280" cy="2544840"/>
        </p:xfrm>
        <a:graphic>
          <a:graphicData uri="http://schemas.openxmlformats.org/drawingml/2006/table">
            <a:tbl>
              <a:tblPr/>
              <a:tblGrid>
                <a:gridCol w="5208480"/>
                <a:gridCol w="944640"/>
                <a:gridCol w="2000160"/>
              </a:tblGrid>
              <a:tr h="6238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                  (нет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ность:  муницип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оссийской Фед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организация расположена в сельской мес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Rectangle 3"/>
          <p:cNvSpPr/>
          <p:nvPr/>
        </p:nvSpPr>
        <p:spPr>
          <a:xfrm>
            <a:off x="2027160" y="2192400"/>
            <a:ext cx="340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457200" y="9144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14"/>
          <p:cNvSpPr/>
          <p:nvPr/>
        </p:nvSpPr>
        <p:spPr>
          <a:xfrm>
            <a:off x="6629400" y="2286000"/>
            <a:ext cx="2286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медицин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й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бъекте ра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е строк 1+2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380880" y="17524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ЛЕЧЕБНО-ВСПОМОГАТЕЛЬ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2057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6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Деятельность физиотерапевтического отделения (кабине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228600" y="1295280"/>
          <a:ext cx="8610480" cy="2743200"/>
        </p:xfrm>
        <a:graphic>
          <a:graphicData uri="http://schemas.openxmlformats.org/drawingml/2006/table">
            <a:tbl>
              <a:tblPr/>
              <a:tblGrid>
                <a:gridCol w="3986280"/>
                <a:gridCol w="745920"/>
                <a:gridCol w="621000"/>
                <a:gridCol w="2004840"/>
                <a:gridCol w="1252440"/>
              </a:tblGrid>
              <a:tr h="2257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ц, закончивших лечение,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общего числа лиц, закончивших лечение -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отпущенных процедур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д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Rectangle 453"/>
          <p:cNvSpPr/>
          <p:nvPr/>
        </p:nvSpPr>
        <p:spPr>
          <a:xfrm>
            <a:off x="5029200" y="2895480"/>
            <a:ext cx="3657600" cy="12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+5 за счет сведений о пациентах, закончивших лечение в стационарных услов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1895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7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Деятельность кабинета Л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04920" y="1447920"/>
          <a:ext cx="8458200" cy="2560680"/>
        </p:xfrm>
        <a:graphic>
          <a:graphicData uri="http://schemas.openxmlformats.org/drawingml/2006/table">
            <a:tbl>
              <a:tblPr/>
              <a:tblGrid>
                <a:gridCol w="3916080"/>
                <a:gridCol w="808200"/>
                <a:gridCol w="685800"/>
                <a:gridCol w="1817640"/>
                <a:gridCol w="123048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условиях дневного стацион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ц, закончивших лечение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общего числа лиц, закончивших лечение -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отпущеных процедур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д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2" name="Rectangle 453"/>
          <p:cNvSpPr/>
          <p:nvPr/>
        </p:nvSpPr>
        <p:spPr>
          <a:xfrm>
            <a:off x="5029200" y="3048120"/>
            <a:ext cx="3657600" cy="1295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 + 5 за счет сведений о пациентах, закончивших лечение в стационарных услов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1895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Деятельность кабинета рефлекс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28600" y="1447920"/>
          <a:ext cx="8534520" cy="2009520"/>
        </p:xfrm>
        <a:graphic>
          <a:graphicData uri="http://schemas.openxmlformats.org/drawingml/2006/table">
            <a:tbl>
              <a:tblPr/>
              <a:tblGrid>
                <a:gridCol w="3952800"/>
                <a:gridCol w="814320"/>
                <a:gridCol w="692280"/>
                <a:gridCol w="1833480"/>
                <a:gridCol w="124164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условиях дневного стацион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ц, закончивших лечение – всего, ч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отпущенных процедур – всего, 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7" name="Rectangle 453"/>
          <p:cNvSpPr/>
          <p:nvPr/>
        </p:nvSpPr>
        <p:spPr>
          <a:xfrm>
            <a:off x="5029200" y="3048120"/>
            <a:ext cx="3657600" cy="1295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 + 5 за счет сведений о пациентах, закончивших лечение в стационарных услов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2255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Деятельность отделения ди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62080" y="1447920"/>
          <a:ext cx="8702640" cy="2303280"/>
        </p:xfrm>
        <a:graphic>
          <a:graphicData uri="http://schemas.openxmlformats.org/drawingml/2006/table">
            <a:tbl>
              <a:tblPr/>
              <a:tblGrid>
                <a:gridCol w="6686280"/>
                <a:gridCol w="912960"/>
                <a:gridCol w="110340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диализных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ациентов, которым проведен диализ, ч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пациентам с ХП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веденных гемодиализов всего, 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пациентам с ХП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ациентов, которым проведен перитониальный диализ, ч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общего числа гемодиализов (из стр. 4) проведено в условиях дневного стацион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2255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Деятельность отделения гипербарической оксиген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262080" y="1447920"/>
          <a:ext cx="8327880" cy="1662120"/>
        </p:xfrm>
        <a:graphic>
          <a:graphicData uri="http://schemas.openxmlformats.org/drawingml/2006/table">
            <a:tbl>
              <a:tblPr/>
              <a:tblGrid>
                <a:gridCol w="6029280"/>
                <a:gridCol w="1243080"/>
                <a:gridCol w="105552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барокамер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действую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веденных сеансов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в условиях дневного стацион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Логопедическ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380880" y="1371600"/>
          <a:ext cx="8305920" cy="1494000"/>
        </p:xfrm>
        <a:graphic>
          <a:graphicData uri="http://schemas.openxmlformats.org/drawingml/2006/table">
            <a:tbl>
              <a:tblPr/>
              <a:tblGrid>
                <a:gridCol w="4191120"/>
                <a:gridCol w="914400"/>
                <a:gridCol w="320040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ц, закончивших занятия с логопе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дете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144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Rectangle 453"/>
          <p:cNvSpPr/>
          <p:nvPr/>
        </p:nvSpPr>
        <p:spPr>
          <a:xfrm>
            <a:off x="304920" y="4267080"/>
            <a:ext cx="8686800" cy="1219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на основании сведений, указанных в медицинской карте пациента, получающего медицинскую помощь в амбулаторных условиях (ф. 025/у) и истории развития ребенка (ф. 112/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ются по всем пациентам, закончившим занятия с логопе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453"/>
          <p:cNvSpPr/>
          <p:nvPr/>
        </p:nvSpPr>
        <p:spPr>
          <a:xfrm>
            <a:off x="5486400" y="2057400"/>
            <a:ext cx="3276720" cy="1295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может быть больше суммы строк 2+3 за счет пациентов в возрасте 18 лет и старше, закончивших занятия с логопе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605"/>
          <p:cNvSpPr/>
          <p:nvPr/>
        </p:nvSpPr>
        <p:spPr>
          <a:xfrm>
            <a:off x="22860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Деятельность отделения гемосорбции и гравитационной хирургии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380880" y="1752480"/>
          <a:ext cx="8534520" cy="3687840"/>
        </p:xfrm>
        <a:graphic>
          <a:graphicData uri="http://schemas.openxmlformats.org/drawingml/2006/table">
            <a:tbl>
              <a:tblPr/>
              <a:tblGrid>
                <a:gridCol w="3495960"/>
                <a:gridCol w="688680"/>
                <a:gridCol w="685800"/>
                <a:gridCol w="2603520"/>
                <a:gridCol w="1060560"/>
              </a:tblGrid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дневного стацион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ст в отде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роцедур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гемосорб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фере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зерного облучения к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ого облучения к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озонотерапии к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Rectangle 453"/>
          <p:cNvSpPr/>
          <p:nvPr/>
        </p:nvSpPr>
        <p:spPr>
          <a:xfrm>
            <a:off x="4876920" y="3429000"/>
            <a:ext cx="3657600" cy="838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может быть больше суммы строк с 3 по 7 на прочие процедуры, которые необходим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53"/>
          <p:cNvSpPr/>
          <p:nvPr/>
        </p:nvSpPr>
        <p:spPr>
          <a:xfrm>
            <a:off x="4876920" y="4495680"/>
            <a:ext cx="36576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 + 5 за счет процедур, выполненных в стационарных услов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605"/>
          <p:cNvSpPr/>
          <p:nvPr/>
        </p:nvSpPr>
        <p:spPr>
          <a:xfrm>
            <a:off x="2286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 Деятельность отделения (кабинета) медицинской профил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152280" y="1295280"/>
          <a:ext cx="8839440" cy="3140280"/>
        </p:xfrm>
        <a:graphic>
          <a:graphicData uri="http://schemas.openxmlformats.org/drawingml/2006/table">
            <a:tbl>
              <a:tblPr/>
              <a:tblGrid>
                <a:gridCol w="7162920"/>
                <a:gridCol w="762120"/>
                <a:gridCol w="914400"/>
              </a:tblGrid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ц, обученных основам здорового образа жизн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медицинских работников, обученных методике профилактики заболеваний и укрепления здоровья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ациентов обученных в “школах”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 школе для берем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е для пациентов с сердечной недостаточ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е для пациентов на хроническом диали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школе для пациентов с ишемической болезнью сердца и перенесших острый инфаркт миокар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школе для пациентов перенесших острое нарушение мозгового крово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х школ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веденных массовых мероприятий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ц, участвующих в меропри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5"/>
          <p:cNvSpPr/>
          <p:nvPr/>
        </p:nvSpPr>
        <p:spPr>
          <a:xfrm>
            <a:off x="380880" y="19051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ИАГНОСТИЧЕСКИ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64"/>
          <p:cNvSpPr/>
          <p:nvPr/>
        </p:nvSpPr>
        <p:spPr>
          <a:xfrm>
            <a:off x="2286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Отделения для инвалидов войны, участников и ветеранов войн (ИОВ), стационары, пансио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5"/>
          <p:cNvSpPr/>
          <p:nvPr/>
        </p:nvSpPr>
        <p:spPr>
          <a:xfrm>
            <a:off x="152280" y="914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52280" y="1297080"/>
          <a:ext cx="8763120" cy="4816440"/>
        </p:xfrm>
        <a:graphic>
          <a:graphicData uri="http://schemas.openxmlformats.org/drawingml/2006/table">
            <a:tbl>
              <a:tblPr/>
              <a:tblGrid>
                <a:gridCol w="4267440"/>
                <a:gridCol w="914400"/>
                <a:gridCol w="358128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е отделения для ИОВ,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ОВ и В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: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ече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пациентов, больных психическими расстройствами,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лечилось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пациентов, больных наркологическими заболеваниями, ме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лечилось паци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сионаты для приезжающих пациентов, ме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 отделения специализированного тип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Rectangle 328"/>
          <p:cNvSpPr/>
          <p:nvPr/>
        </p:nvSpPr>
        <p:spPr>
          <a:xfrm>
            <a:off x="5580000" y="2492280"/>
            <a:ext cx="3335400" cy="792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2-4 заполняют не зависимо от профиля ко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51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605"/>
          <p:cNvSpPr/>
          <p:nvPr/>
        </p:nvSpPr>
        <p:spPr>
          <a:xfrm>
            <a:off x="228600" y="76320"/>
            <a:ext cx="853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228600" y="990720"/>
          <a:ext cx="8686800" cy="5121000"/>
        </p:xfrm>
        <a:graphic>
          <a:graphicData uri="http://schemas.openxmlformats.org/drawingml/2006/table">
            <a:tbl>
              <a:tblPr/>
              <a:tblGrid>
                <a:gridCol w="3276720"/>
                <a:gridCol w="533160"/>
                <a:gridCol w="1365480"/>
                <a:gridCol w="1865160"/>
                <a:gridCol w="569880"/>
                <a:gridCol w="107640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оснащены детектором на основе ПЗС матр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им матричным детект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ой компьютерной радиограф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3 рабочих ме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шасси автомоби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ночные флюор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шасси автомоби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7" name="Rectangle 453"/>
          <p:cNvSpPr/>
          <p:nvPr/>
        </p:nvSpPr>
        <p:spPr>
          <a:xfrm>
            <a:off x="4114800" y="2933640"/>
            <a:ext cx="4724280" cy="38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любой из граф 4, 5,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53"/>
          <p:cNvSpPr/>
          <p:nvPr/>
        </p:nvSpPr>
        <p:spPr>
          <a:xfrm>
            <a:off x="4114800" y="3657600"/>
            <a:ext cx="472428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1 может быть больше суммы строк 1.1+1.2+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53"/>
          <p:cNvSpPr/>
          <p:nvPr/>
        </p:nvSpPr>
        <p:spPr>
          <a:xfrm>
            <a:off x="4114800" y="4343400"/>
            <a:ext cx="472428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5 должна быть больше строки 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453"/>
          <p:cNvSpPr/>
          <p:nvPr/>
        </p:nvSpPr>
        <p:spPr>
          <a:xfrm>
            <a:off x="4114800" y="4952880"/>
            <a:ext cx="472428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6 должна быть больше строки 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51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228600" y="1295280"/>
          <a:ext cx="8686800" cy="4870440"/>
        </p:xfrm>
        <a:graphic>
          <a:graphicData uri="http://schemas.openxmlformats.org/drawingml/2006/table">
            <a:tbl>
              <a:tblPr/>
              <a:tblGrid>
                <a:gridCol w="3276720"/>
                <a:gridCol w="685800"/>
                <a:gridCol w="1212840"/>
                <a:gridCol w="1865160"/>
                <a:gridCol w="569880"/>
                <a:gridCol w="107640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шаг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альные односрез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альные многосрезовые 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marL="630360">
                        <a:lnSpc>
                          <a:spcPct val="100000"/>
                        </a:lnSpc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 ч.: менее 16 сре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ctr">
                      <a:noAutofit/>
                    </a:bodyPr>
                    <a:p>
                      <a:pPr marL="99072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сре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ctr">
                      <a:noAutofit/>
                    </a:bodyPr>
                    <a:p>
                      <a:pPr marL="99072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40 сре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marL="99072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ср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marL="99072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и более сре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marL="99072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вумя рентгеновскими труб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Rectangle 453"/>
          <p:cNvSpPr/>
          <p:nvPr/>
        </p:nvSpPr>
        <p:spPr>
          <a:xfrm>
            <a:off x="4191120" y="5943600"/>
            <a:ext cx="281916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из многосрезовых аппа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6" name="Прямая со стрелкой 26"/>
          <p:cNvCxnSpPr>
            <a:stCxn id="825" idx="1"/>
          </p:cNvCxnSpPr>
          <p:nvPr/>
        </p:nvCxnSpPr>
        <p:spPr>
          <a:xfrm flipH="1">
            <a:off x="2133360" y="6171840"/>
            <a:ext cx="2057760" cy="1080"/>
          </a:xfrm>
          <a:prstGeom prst="straightConnector1">
            <a:avLst/>
          </a:prstGeom>
          <a:ln w="34920">
            <a:solidFill>
              <a:srgbClr val="77933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51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228600" y="1295280"/>
          <a:ext cx="8686800" cy="2865600"/>
        </p:xfrm>
        <a:graphic>
          <a:graphicData uri="http://schemas.openxmlformats.org/drawingml/2006/table">
            <a:tbl>
              <a:tblPr/>
              <a:tblGrid>
                <a:gridCol w="3276720"/>
                <a:gridCol w="685800"/>
                <a:gridCol w="1212840"/>
                <a:gridCol w="1865160"/>
                <a:gridCol w="569880"/>
                <a:gridCol w="107640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диологическая информационная сеть 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стема получения, архивирования, хранения и поиска цифровых изображений 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рентгеновских аппаратов с функцией томосинт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56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05"/>
          <p:cNvSpPr/>
          <p:nvPr/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. Аппараты и оборудование отделений службы переливания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0" y="914400"/>
          <a:ext cx="8991720" cy="6126120"/>
        </p:xfrm>
        <a:graphic>
          <a:graphicData uri="http://schemas.openxmlformats.org/drawingml/2006/table">
            <a:tbl>
              <a:tblPr/>
              <a:tblGrid>
                <a:gridCol w="3795840"/>
                <a:gridCol w="555480"/>
                <a:gridCol w="1077840"/>
                <a:gridCol w="1741680"/>
                <a:gridCol w="609480"/>
                <a:gridCol w="1211400"/>
              </a:tblGrid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й/ автоматизированный комплекс для генотестирования донорской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й иммуногематологический анализатор для проведения иммуногематолог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 для контроля стерильности компонент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 для плазмафе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 для цитафе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замораживатель для плазм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 оборудования для глицеринизации и деглицеринизации эритр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 оборудования для проведения фотогемо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а теплоизоляционная низкотемпературная для хранения свежезамороженной плаз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 оборудования для замораживания и хранения клеток крови при сверхнизкой темпера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й комплекс заготовки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175248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.7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605"/>
          <p:cNvSpPr/>
          <p:nvPr/>
        </p:nvSpPr>
        <p:spPr>
          <a:xfrm>
            <a:off x="228600" y="152280"/>
            <a:ext cx="8686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Оснащенность компьютерным оборуд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152280" y="657360"/>
          <a:ext cx="8896320" cy="5992560"/>
        </p:xfrm>
        <a:graphic>
          <a:graphicData uri="http://schemas.openxmlformats.org/drawingml/2006/table">
            <a:tbl>
              <a:tblPr/>
              <a:tblGrid>
                <a:gridCol w="3915000"/>
                <a:gridCol w="285480"/>
                <a:gridCol w="457200"/>
                <a:gridCol w="914400"/>
                <a:gridCol w="914400"/>
                <a:gridCol w="914400"/>
                <a:gridCol w="906480"/>
                <a:gridCol w="588960"/>
              </a:tblGrid>
              <a:tr h="192600">
                <a:tc rowSpan="3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трой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(из гр.3)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административно-хозяйственной деятельности орган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медицинского персонала (для автоматизации лечебного процесс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ьные компьютеры (моноблоки, системные блоки, терминалы, ноутбук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о сроком эксплуатации более 5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щих операционные системы семейств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щих операционные системы отечественной разрабо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щих иные операционные систе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ерное оборуд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о сроком эксплуатации более 5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тающие устройства и МФ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о сроком эксплуатации более 5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ированные рабочие места, подключенные к медицинской информационной системе медицинской организации или государственной информационной системе в сфере здравоохранения субъекта Российской Фед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томатизированные рабочие места, подключенные к защищенной сети передачи данных субъекта Российской Фед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9" name="Прямоугольник 1"/>
          <p:cNvSpPr/>
          <p:nvPr/>
        </p:nvSpPr>
        <p:spPr>
          <a:xfrm>
            <a:off x="4500720" y="3284640"/>
            <a:ext cx="4547880" cy="64908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фа 3 равна сумме граф с 4 по 8 по всем стро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281952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7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оугольник 1"/>
          <p:cNvSpPr/>
          <p:nvPr/>
        </p:nvSpPr>
        <p:spPr>
          <a:xfrm>
            <a:off x="533520" y="1143000"/>
            <a:ext cx="7772400" cy="1219320"/>
          </a:xfrm>
          <a:prstGeom prst="rect">
            <a:avLst/>
          </a:prstGeom>
          <a:solidFill>
            <a:srgbClr val="00b0f0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ов  медицинской статистики, имеющих доступ к высокоскоростным каналам передачи данных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_______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 к сети Интернет по типам подключения:  коммутируемый (модемный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_______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полосный доступ по технологии xDSL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3 _______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N через сеть общего пользования  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_______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5"/>
          <p:cNvSpPr/>
          <p:nvPr/>
        </p:nvSpPr>
        <p:spPr>
          <a:xfrm>
            <a:off x="685800" y="3598920"/>
            <a:ext cx="7772400" cy="127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о медицинских работников, работающих в медицинской информационной системе или государственной информационной системе в сфере здравоохранения субъектов Российской Федерации, обеспеченных усиленной квалифицированной электронной подписью – всего 1_______, из них: врачей 2 _______, среднего медицинского персонала 3 _______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2"/>
          <p:cNvSpPr/>
          <p:nvPr/>
        </p:nvSpPr>
        <p:spPr>
          <a:xfrm>
            <a:off x="685800" y="325908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7002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новая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70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нова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рактеристика автоматизации основных задач в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76320" y="990720"/>
          <a:ext cx="8991360" cy="4741920"/>
        </p:xfrm>
        <a:graphic>
          <a:graphicData uri="http://schemas.openxmlformats.org/drawingml/2006/table">
            <a:tbl>
              <a:tblPr/>
              <a:tblGrid>
                <a:gridCol w="6629400"/>
                <a:gridCol w="457200"/>
                <a:gridCol w="1904760"/>
              </a:tblGrid>
              <a:tr h="164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централизованной подсистемы государственной информационной системы в сфере здравоохранения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автоматизированных рабочих мест, подключенных к государственной информационной системе в сфере здравоохра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ение скорой и неотложной медицинской помощью (в том числе санитарной авиаци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ение льготным лекарственным обеспечени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ение потоками пациентов (электронная регистратур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ая электронная медицинская кар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медицинские консульт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ие исследования (Центральный архив медицинских изображени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бораторные исслед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оказания медицинской помощи больным онкологическими заболевания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оказания медицинской помощи больным сердечно-сосудистыми заболевания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оказания медицинской помощи по профилям «Акушерство и гинекология» и «Неонатология» (Мониторинг беременных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оказания профилактической медицинской помощи (диспансеризация, диспансерное наблюдение, профилактические осмотры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333360"/>
            <a:ext cx="289548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70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нова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05"/>
          <p:cNvSpPr/>
          <p:nvPr/>
        </p:nvSpPr>
        <p:spPr>
          <a:xfrm>
            <a:off x="-108000" y="44280"/>
            <a:ext cx="925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о применении телемедицинских технологий при оказании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08000" y="549360"/>
          <a:ext cx="8959680" cy="5121360"/>
        </p:xfrm>
        <a:graphic>
          <a:graphicData uri="http://schemas.openxmlformats.org/drawingml/2006/table">
            <a:tbl>
              <a:tblPr/>
              <a:tblGrid>
                <a:gridCol w="4674960"/>
                <a:gridCol w="382680"/>
                <a:gridCol w="536760"/>
                <a:gridCol w="842760"/>
                <a:gridCol w="920880"/>
                <a:gridCol w="919080"/>
                <a:gridCol w="682560"/>
              </a:tblGrid>
              <a:tr h="192600"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средств О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тлож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денных консультаций с применением телемедицински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оличество проведенных консилиумов врачей с применением телемедицински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оличество проведенных консилиумов врачей с применением телемедицинских технологий, по результатам которой проведена госпитализация пациентов или осуществлен перевод пациента в другое медицинское учрежд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режиме реального времени с применением видеоконференцсвязи (из строки 1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оличество проведенных консультаций пациентов с применением телемедицински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оличество проведенных консультаций пациентов с применением телемедицинских технологий, по результатам которой проведена госпитализация паци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режиме реального времени с применением видеоконференцсвязи (из строки 1.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ациентов находившихся на дистанционном наблюдении за состояние здоровья с применением телемедицински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денных консультаций с применением телемедицинских технологий в целях вынесения заключения по результатам диагностических исслед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3" name="Прямоугольник 1"/>
          <p:cNvSpPr/>
          <p:nvPr/>
        </p:nvSpPr>
        <p:spPr>
          <a:xfrm>
            <a:off x="5508720" y="1700280"/>
            <a:ext cx="3384360" cy="57636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фа 3 равна сумме граф 4+5+6 по всем стро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2"/>
          <p:cNvSpPr/>
          <p:nvPr/>
        </p:nvSpPr>
        <p:spPr>
          <a:xfrm>
            <a:off x="5651640" y="2708280"/>
            <a:ext cx="3241440" cy="93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фа 3 больше или равна графе 7 по всем стро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6705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ТЕХНИЧЕСКО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ОЯНИЕ ЗД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457200" y="4267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оение, имеющее свой технический паспорт и состоящее на балансе медицинской организации или арендуемое у других организаций на конец отчетного года. Таблица 8000 заполняется на основании технического паспорта здания, актов обследования зданий на необходимость капитального ремонта, актов об аварийном состоянии зд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ное помещ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мещение технически переобустроенное для определенных целей использования. То, что изначально не входило в типовой 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ехническое состояние зданий» ФФСН №30 следует иметь в ви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4"/>
          <p:cNvSpPr/>
          <p:nvPr/>
        </p:nvSpPr>
        <p:spPr>
          <a:xfrm>
            <a:off x="2286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1920"/>
                <a:tab algn="ctr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матологические кабин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5"/>
          <p:cNvSpPr/>
          <p:nvPr/>
        </p:nvSpPr>
        <p:spPr>
          <a:xfrm>
            <a:off x="152280" y="914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52280" y="1297080"/>
          <a:ext cx="8763120" cy="1725480"/>
        </p:xfrm>
        <a:graphic>
          <a:graphicData uri="http://schemas.openxmlformats.org/drawingml/2006/table">
            <a:tbl>
              <a:tblPr/>
              <a:tblGrid>
                <a:gridCol w="5572080"/>
                <a:gridCol w="1295640"/>
                <a:gridCol w="1895400"/>
              </a:tblGrid>
              <a:tr h="506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сших, средних специальных учебных заведен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х школах, лицеях, гимназиях, колледж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х предприят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53"/>
          <p:cNvSpPr/>
          <p:nvPr/>
        </p:nvSpPr>
        <p:spPr>
          <a:xfrm>
            <a:off x="685800" y="76212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амбулаторных условиях, расположены в одном или нескольких отдельных зданиях, сведения о них показывают в стр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стационарных условиях, расположены в одном или нескольких отдельных зданиях, сведения о них показывают в стр.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амбулаторных и стационарных условиях, расположены в одном или нескольких отдельных зданиях, сведения о них показывают в стр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дания, в которых расположены подразделения, указанные в стр. 1-3 показывают в соответствующих строках, независимо от того, все здание или только часть его используется подраздел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тдельных строках показывают сведения о зданиях офисов врачей общей практики, ФАПов, фельдшерских пунктов и патологоанатомических бюро и отделений (стр. 4-7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дания, в которых расположены все остальные подразделения, показывают суммарно в стр. 8. Учитывают число всех зданий, независимо от того, сколько подразделений в нем расположе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. 9 должна быть равна сумме строк 1-8 по всем граф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8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05"/>
          <p:cNvSpPr/>
          <p:nvPr/>
        </p:nvSpPr>
        <p:spPr>
          <a:xfrm>
            <a:off x="228600" y="76320"/>
            <a:ext cx="853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состояние з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08000" y="609480"/>
          <a:ext cx="8928000" cy="5550120"/>
        </p:xfrm>
        <a:graphic>
          <a:graphicData uri="http://schemas.openxmlformats.org/drawingml/2006/table">
            <a:tbl>
              <a:tblPr/>
              <a:tblGrid>
                <a:gridCol w="1800000"/>
                <a:gridCol w="241560"/>
                <a:gridCol w="252360"/>
                <a:gridCol w="614160"/>
                <a:gridCol w="560520"/>
                <a:gridCol w="546120"/>
                <a:gridCol w="520560"/>
                <a:gridCol w="508320"/>
                <a:gridCol w="492120"/>
                <a:gridCol w="520560"/>
                <a:gridCol w="520560"/>
                <a:gridCol w="454320"/>
                <a:gridCol w="453960"/>
                <a:gridCol w="425520"/>
                <a:gridCol w="430200"/>
                <a:gridCol w="587160"/>
              </a:tblGrid>
              <a:tr h="17172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дразде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зд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площадь зданий  (кв 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(из гр.3)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я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виды благоустройства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ходятся в аварийном состоянии, требует сно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ребуют реконстр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ребуют капитального ремо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способленных помещен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арендованных помещен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опро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ячее водоснаб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ое отопл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лизац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фонную связ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энергоснаб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.ч. в рабочем состоя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амбулаторных услов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стационарных услов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амбула-торных и стационарных условиях, расположенные в одном зда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сы врачей общей прак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П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льдшерские пун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ологоанатомические отде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(сумма строк 1-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Прямоугольник 1"/>
          <p:cNvSpPr/>
          <p:nvPr/>
        </p:nvSpPr>
        <p:spPr>
          <a:xfrm>
            <a:off x="2438280" y="2895480"/>
            <a:ext cx="2667240" cy="1067040"/>
          </a:xfrm>
          <a:prstGeom prst="rect">
            <a:avLst/>
          </a:prstGeom>
          <a:solidFill>
            <a:srgbClr val="00b0f0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в графах 4, 5, 6 необходимо представить в сканированном виде акты на каждое здание в электронном ви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ЛЕКТРОННЫЙ АДРЕС: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EPOVA@MEDNET.RU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овая мощность поликлиники (число посещений в смену) – э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ускная способность амбулаторно-поликлинического учреждения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м санитарно-эпидемиологического режи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нием для заполнения этого раздела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дицинс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и, где содержится проектная и рабочая площадь здания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бинетов в квадратных метрах.  С учетом требований площади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 посещение рассчитывают плановую мощность (число посещений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ну) подразделений медицинских организаций, оказывающ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 услови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заполнении таблицы 1010 «Мощность (плановое число посещений в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мену)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дразделений, оказывающих медицинскую помощь в амбулаторных условия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иметь в ви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7123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существующей медицинской организации, оказываю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 условиях, изменяется в случаях, к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 открываются на новых площадях или закрываются, а также когда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х проведен капитальный ремонт, в результате которого имеющая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увеличилась или уменьшилась, либо часть площади выведена и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чинения поликлиники на другие цели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женерные площади, аптеки, аренда 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р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рассчитывается для всех зданий юридических лиц, г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уществляется амбулаторный прием (так как на все здания заполняется паспор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рассчитыва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тдельно для центров здоров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даже е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не являются обособленными подразделениями и входят в состав поликли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228600" y="45720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Мощность (плановое число посещений в смену)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дразделений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оказывающих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22860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0" y="1371600"/>
          <a:ext cx="8686800" cy="3278160"/>
        </p:xfrm>
        <a:graphic>
          <a:graphicData uri="http://schemas.openxmlformats.org/drawingml/2006/table">
            <a:tbl>
              <a:tblPr/>
              <a:tblGrid>
                <a:gridCol w="4110120"/>
                <a:gridCol w="766800"/>
                <a:gridCol w="38098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 сме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поликлини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й поликлин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й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го отделения (больницы, диспансе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229"/>
          <p:cNvSpPr/>
          <p:nvPr/>
        </p:nvSpPr>
        <p:spPr>
          <a:xfrm>
            <a:off x="4952880" y="3787920"/>
            <a:ext cx="3962520" cy="116676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наличии нескольких отдельно стоящих зданий медицинской организации мощности подразделений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уммирую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показывают одни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33"/>
          <p:cNvSpPr/>
          <p:nvPr/>
        </p:nvSpPr>
        <p:spPr>
          <a:xfrm>
            <a:off x="4952880" y="2075040"/>
            <a:ext cx="3651480" cy="49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ока 1 равна  сумме строк со 2 по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29"/>
          <p:cNvSpPr/>
          <p:nvPr/>
        </p:nvSpPr>
        <p:spPr>
          <a:xfrm>
            <a:off x="152280" y="4876920"/>
            <a:ext cx="883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новая мощность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не рассчитывается и не ук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томатологических кабинетов, организованных в специализированных больницах (для нужд пациен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травмпунктов, если они организованы в приемном по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анаторно-курортных организаций (для нужд отдыхающи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5486400" y="5257800"/>
            <a:ext cx="3200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ываем в целы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380880" y="-76320"/>
            <a:ext cx="838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Численность обслуживаемого прикреплен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76320" y="2286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76320" y="5089680"/>
            <a:ext cx="9067680" cy="320400"/>
          </a:xfrm>
          <a:prstGeom prst="rect">
            <a:avLst/>
          </a:prstGeom>
          <a:solidFill>
            <a:srgbClr val="c4bd9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- женщины 18-54 года, мужчины 18-59 лет;** - женщины 55 лет и старше, мужчины 60 лет и стар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13"/>
          <p:cNvSpPr/>
          <p:nvPr/>
        </p:nvSpPr>
        <p:spPr>
          <a:xfrm>
            <a:off x="152280" y="44956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3"/>
          <p:cNvSpPr/>
          <p:nvPr/>
        </p:nvSpPr>
        <p:spPr>
          <a:xfrm>
            <a:off x="0" y="5410080"/>
            <a:ext cx="9144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52280" y="476280"/>
          <a:ext cx="8740800" cy="4572000"/>
        </p:xfrm>
        <a:graphic>
          <a:graphicData uri="http://schemas.openxmlformats.org/drawingml/2006/table">
            <a:tbl>
              <a:tblPr/>
              <a:tblGrid>
                <a:gridCol w="5259600"/>
                <a:gridCol w="817560"/>
                <a:gridCol w="26636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детей 0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до 1 год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4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до 1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0 –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5 – 9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10 –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трудоспособного возраста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старше трудоспособного возраста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население (из стр.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5" name="Rectangle 214"/>
          <p:cNvSpPr/>
          <p:nvPr/>
        </p:nvSpPr>
        <p:spPr>
          <a:xfrm>
            <a:off x="6095880" y="1295280"/>
            <a:ext cx="2667240" cy="91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ка 1 должна быть равна сумме ст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+ 7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2:19:09Z</dcterms:created>
  <dc:creator>i.son</dc:creator>
  <dc:description/>
  <dc:language>en-US</dc:language>
  <cp:lastModifiedBy>loc</cp:lastModifiedBy>
  <cp:lastPrinted>2018-12-13T07:17:24Z</cp:lastPrinted>
  <dcterms:modified xsi:type="dcterms:W3CDTF">2018-12-25T11:35:14Z</dcterms:modified>
  <cp:revision>545</cp:revision>
  <dc:subject/>
  <dc:title>Слайд 1</dc:title>
</cp:coreProperties>
</file>