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907588" cy="6858000"/>
  <p:notesSz cx="6732588" cy="9864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32000" cy="98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01960" y="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45920" y="758520"/>
            <a:ext cx="5276520" cy="365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c7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2600" y="4716000"/>
            <a:ext cx="4943160" cy="4411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356400"/>
            <a:ext cx="2890800" cy="530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01960" y="9356400"/>
            <a:ext cx="2890800" cy="530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72F876-55F9-48D5-9D07-8330DBA950BA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01960" y="9356760"/>
            <a:ext cx="28908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8CC8AC-D156-4411-B85F-DAA9947CDB3C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746280" y="758880"/>
            <a:ext cx="5276520" cy="36529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2600" y="4716000"/>
            <a:ext cx="49431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01960" y="9356760"/>
            <a:ext cx="28908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0CA932-4172-4C30-AAB6-876DE2134332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746280" y="758880"/>
            <a:ext cx="5276520" cy="3652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2600" y="4716000"/>
            <a:ext cx="49431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01960" y="9356760"/>
            <a:ext cx="28908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87074F-1853-46EF-BE18-92157CEDB64D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746280" y="758880"/>
            <a:ext cx="5276520" cy="3652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2600" y="4716000"/>
            <a:ext cx="49431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01960" y="9356760"/>
            <a:ext cx="28908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F1C52B-1B91-4EBE-9F9D-87C4E0FE6016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746280" y="758880"/>
            <a:ext cx="5276520" cy="3652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2600" y="4716000"/>
            <a:ext cx="49431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01960" y="9356760"/>
            <a:ext cx="28908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910F19-2349-4829-BBFB-629201170988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746280" y="758880"/>
            <a:ext cx="5276520" cy="3652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4716000"/>
            <a:ext cx="49431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01960" y="9356760"/>
            <a:ext cx="28908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736365-DA01-4177-98D8-39FA536A4842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746280" y="758880"/>
            <a:ext cx="5276520" cy="3652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2600" y="4716000"/>
            <a:ext cx="49431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B64E-1000-4F5A-A92F-7EF02D84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920" y="39121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F6C7-79FE-4EEA-B0F3-87F4DC81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92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2608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2DC-6E4B-439D-9CA9-7DAD47BC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0480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96132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92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20480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96132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14E2-8E45-4A17-BC88-77AE6D98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A74E-0049-4447-BA8E-8BF4E097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2348-DFAC-4CD2-9A7C-354ED3A1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A96A-5193-4C9B-A1D6-B355D2BB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429C-5CE2-43C6-A89B-0BEDC1A9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AC0B-5525-4422-A1F6-C842056A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320" y="304920"/>
            <a:ext cx="8534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F435-F035-4170-B306-2D9ACF92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4792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DD0C-0512-4ABE-A062-28B94EEF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9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807B-D2B6-4239-87D8-29D91B59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2608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075B-5D79-4CFD-93BD-27E69768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47920" y="39121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3DBA-5A7B-48AF-AF2A-08BD131F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47920" y="39121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AB24-4D80-4642-A3B9-8BAFA302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4792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2608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5BC9-76C4-43D2-B11D-F3933749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20480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96132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4792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20480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96132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BE6D-A2EF-4783-BA81-EEB839CA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7ED7-CE8D-4577-9B43-19A3C2C2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F96B-AEAE-4F05-B9E3-276DC851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209-82A3-465E-9649-20164358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320" y="304920"/>
            <a:ext cx="8534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7333-8DF2-4810-AACE-9F095FF8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92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6788-50AB-4882-B918-9E3BC4A7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2608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0712-B16C-44FB-A2CD-EC4F58F5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920" y="39121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8022-6EFB-429F-A25B-8DE20FFB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5" descr="back"/>
          <p:cNvPicPr/>
          <p:nvPr/>
        </p:nvPicPr>
        <p:blipFill>
          <a:blip r:embed="rId2"/>
          <a:stretch/>
        </p:blipFill>
        <p:spPr>
          <a:xfrm>
            <a:off x="0" y="0"/>
            <a:ext cx="990612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c7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pic>
        <p:nvPicPr>
          <p:cNvPr id="2" name="Picture 7" descr="LVM_textFI"/>
          <p:cNvPicPr/>
          <p:nvPr/>
        </p:nvPicPr>
        <p:blipFill>
          <a:blip r:embed="rId3"/>
          <a:stretch/>
        </p:blipFill>
        <p:spPr>
          <a:xfrm>
            <a:off x="7696080" y="6019920"/>
            <a:ext cx="1905120" cy="58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479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451"/>
              </a:spcAft>
              <a:buClr>
                <a:srgbClr val="002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451"/>
              </a:spcAft>
              <a:buClr>
                <a:srgbClr val="002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451"/>
              </a:spcAft>
              <a:buClr>
                <a:srgbClr val="002c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19320" y="6476760"/>
            <a:ext cx="1676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FDE9-1CAD-45B2-B4B7-1D0D8C20333A}" type="datetime">
              <a:rPr b="0" lang="fi-FI" sz="7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95480" y="6476760"/>
            <a:ext cx="46483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04920" y="6476760"/>
            <a:ext cx="3808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7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DD81-BAD7-4F27-82DB-F0D85D533B9A}" type="slidenum">
              <a:rPr b="0" lang="fi-FI" sz="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2" descr="backtitle"/>
          <p:cNvPicPr/>
          <p:nvPr/>
        </p:nvPicPr>
        <p:blipFill>
          <a:blip r:embed="rId2"/>
          <a:stretch/>
        </p:blipFill>
        <p:spPr>
          <a:xfrm>
            <a:off x="0" y="0"/>
            <a:ext cx="990612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LVM_textFI"/>
          <p:cNvPicPr/>
          <p:nvPr/>
        </p:nvPicPr>
        <p:blipFill>
          <a:blip r:embed="rId3"/>
          <a:stretch/>
        </p:blipFill>
        <p:spPr>
          <a:xfrm>
            <a:off x="7696080" y="6019920"/>
            <a:ext cx="1905120" cy="588960"/>
          </a:xfrm>
          <a:prstGeom prst="rect">
            <a:avLst/>
          </a:prstGeom>
          <a:ln w="0">
            <a:noFill/>
          </a:ln>
        </p:spPr>
      </p:pic>
      <p:sp>
        <p:nvSpPr>
          <p:cNvPr id="45" name="Line 16"/>
          <p:cNvSpPr/>
          <p:nvPr/>
        </p:nvSpPr>
        <p:spPr>
          <a:xfrm>
            <a:off x="4952880" y="4191120"/>
            <a:ext cx="4267440" cy="0"/>
          </a:xfrm>
          <a:prstGeom prst="line">
            <a:avLst/>
          </a:prstGeom>
          <a:ln w="19080">
            <a:solidFill>
              <a:srgbClr val="002c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c7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4479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451"/>
              </a:spcAft>
              <a:buClr>
                <a:srgbClr val="002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451"/>
              </a:spcAft>
              <a:buClr>
                <a:srgbClr val="002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451"/>
              </a:spcAft>
              <a:buClr>
                <a:srgbClr val="002c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219320" y="6476760"/>
            <a:ext cx="1676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7C48-9166-4530-B635-617620CEB036}" type="datetime">
              <a:rPr b="0" lang="fi-FI" sz="7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895480" y="6476760"/>
            <a:ext cx="46483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304920" y="6476760"/>
            <a:ext cx="3808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7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1555-C40D-460E-A275-5E118B897096}" type="slidenum">
              <a:rPr b="0" lang="fi-FI" sz="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zdrav-novgorod.r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novbms@mail.r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99800" y="765000"/>
            <a:ext cx="9705960" cy="459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129ab"/>
                </a:solidFill>
                <a:latin typeface="Arial"/>
              </a:rPr>
              <a:t>Полнота и достоверность ведения первичной учетной документац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129ab"/>
                </a:solidFill>
                <a:latin typeface="Arial"/>
              </a:rPr>
              <a:t>Основные требования к сдаче годовых статистических отчетов за 2018год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920880" y="11592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29ab"/>
                </a:solidFill>
                <a:latin typeface="Arial"/>
              </a:rPr>
              <a:t>Департамент здравоохранения Нов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29ab"/>
                </a:solidFill>
                <a:latin typeface="Arial"/>
              </a:rPr>
              <a:t>ГОБУЗ «Медицинский информационно-аналитический цент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376880" y="566100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29ab"/>
                </a:solidFill>
                <a:latin typeface="Arial"/>
              </a:rPr>
              <a:t>Директор ГОБУЗ «Медицинский информационно-аналитический центр»</a:t>
            </a:r>
            <a:r>
              <a:rPr b="1" lang="en-US" sz="1800" spc="-1" strike="noStrike">
                <a:solidFill>
                  <a:srgbClr val="0129ab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29ab"/>
                </a:solidFill>
                <a:latin typeface="Arial"/>
              </a:rPr>
              <a:t>Егорова Алл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12560" y="457200"/>
            <a:ext cx="93279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8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8c7"/>
                </a:solidFill>
                <a:latin typeface="Times New Roman"/>
              </a:rPr>
              <a:t>Приказ Минздравсоцразвития России от 17.05.2012 N 555н  «Об утверждении номенклатуры коечного фонда по профилям медицинской помощ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30120" y="1341360"/>
            <a:ext cx="9328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31800" y="1484280"/>
          <a:ext cx="9109080" cy="5295960"/>
        </p:xfrm>
        <a:graphic>
          <a:graphicData uri="http://schemas.openxmlformats.org/drawingml/2006/table">
            <a:tbl>
              <a:tblPr/>
              <a:tblGrid>
                <a:gridCol w="2870280"/>
                <a:gridCol w="6238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медицинской помощ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a280a"/>
                          </a:solidFill>
                          <a:latin typeface="Times New Roman"/>
                          <a:ea typeface="Times New Roman"/>
                        </a:rPr>
                        <a:t>Профиль койки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кое дело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8f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еременных и рожениц, патологии беременности, койки сестринского ухода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8f6">
                        <a:alpha val="50000"/>
                      </a:srgbClr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еременных и рожениц, патологии беременности, гинекологические, гинекологические для детей, гинекологические для вспомогательных репродуктивных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я и иммунология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я и реаниматология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8f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, реанимационные для новорожденных, интенсивной терапии, интенсивной терапии для новорожденных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8f6">
                        <a:alpha val="50000"/>
                      </a:srgbClr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оэнтерология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оэнтерологические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матовенерология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матологические, венерологические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я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8f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, кардиологические интенсивной терапии, кардиологические для больных с острым инфарктом миокар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8f6">
                        <a:alpha val="50000"/>
                      </a:srgbClr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я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8f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, неврологические для больных с острыми нарушениями мозгового кровообращения, неврологические интенсивной терапии, психоневрологические для детей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8f6">
                        <a:alpha val="5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007U"/>
          <p:cNvPicPr/>
          <p:nvPr/>
        </p:nvPicPr>
        <p:blipFill>
          <a:blip r:embed="rId1"/>
          <a:stretch/>
        </p:blipFill>
        <p:spPr>
          <a:xfrm>
            <a:off x="-231840" y="-352440"/>
            <a:ext cx="10977480" cy="7166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356520" y="0"/>
            <a:ext cx="321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Таблица 3100 заполня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по профилям коек, а не по наименованию отд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73160" y="4648320"/>
            <a:ext cx="676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Сведения о движении пациентов пойдут в строку 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073160" y="5181480"/>
            <a:ext cx="676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Сведения о движении пациентов пойдут в строку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073160" y="5562720"/>
            <a:ext cx="676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Сведения о движении пациентов пойдут в строку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073160" y="5943600"/>
            <a:ext cx="6686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Сведения о движении пациентов пойдут в строку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920880" y="108360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424160" y="1267560"/>
            <a:ext cx="738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041080" y="237564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5114520" y="4823280"/>
            <a:ext cx="3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488880" y="3455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631800" y="242100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544680" y="4294080"/>
            <a:ext cx="93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365040" y="836640"/>
            <a:ext cx="91807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ФОРМА № 14-Д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«СВЕДЕНИЯ О ДЕЯТЕЛЬНОСТИ ДНЕВНЫХ СТАЦИОНАРОВ МЕДИЦИНСКИХ ОРГАНИЗАЦ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(утверждена приказом Росста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т 30.12.2002  №4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976320" y="2952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1000)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жности и физ.лица дневных стационаров 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5"/>
          <p:cNvGraphicFramePr/>
          <p:nvPr/>
        </p:nvGraphicFramePr>
        <p:xfrm>
          <a:off x="1220760" y="692280"/>
          <a:ext cx="8340840" cy="61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692280"/>
                    <a:ext cx="834084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c72"/>
                </a:solidFill>
                <a:latin typeface="Arial"/>
                <a:ea typeface="Times New Roman"/>
              </a:rPr>
              <a:t> </a:t>
            </a:r>
            <a:endParaRPr b="1" lang="en-US" sz="18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04520" y="260280"/>
            <a:ext cx="92012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499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В графах 5, 8 и 11 «Число физических лиц» показывают только основных работников, имеющих трудовую книжку в данной организации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499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499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976320" y="43920"/>
            <a:ext cx="89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304920"/>
            <a:ext cx="85345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1010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ло дневных стационаров, оказывающих медпомощь в стационарных условиях 1_________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з них: для взросл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___,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ля детей  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ло дневных стационаров, оказывающих медпомощь в амбулаторных условиях  4________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з них: для взросл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______,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для детей  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1" lang="en-US" sz="18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83920" y="1052280"/>
            <a:ext cx="891540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Aft>
                <a:spcPts val="52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Aft>
                <a:spcPts val="52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Aft>
                <a:spcPts val="52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Aft>
                <a:spcPts val="52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 среднегодовых коек указывается целыми числ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Aft>
                <a:spcPts val="52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тить внимание, чтобы на койках для детей не указывались сведения о взрослых пациентах, в том числе лиц старше трудоспособно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110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c72"/>
                </a:solidFill>
                <a:latin typeface="Arial"/>
              </a:rPr>
              <a:t>Ф.54 «Отчет врача детского дома, школы-интерната о лечебно-профилактической помощи воспитанникам»</a:t>
            </a:r>
            <a:endParaRPr b="1" lang="en-US" sz="28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88880" y="1628280"/>
            <a:ext cx="91123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яется детскими домами, школами-интернатами, социальными приютами, оказывающими лечебно-профилактическую помощь воспитанникам, с привлечением прикрепленных врачей поликли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яют детские дома, школы-интерны, социальные приюты подчинения министерства образования и министерство социальной защиты в центральную районную (городскую) больницу по территориальной принадле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ая районная (городская) больница представляет отчеты в органы управления здравоохран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15800" y="579240"/>
            <a:ext cx="97218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Образцы форм годовой отчетности выложены на сай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7ec0e6"/>
                </a:solidFill>
                <a:uFillTx/>
                <a:latin typeface="Arial"/>
                <a:hlinkClick r:id="rId1"/>
              </a:rPr>
              <a:t>www.zdrav-novgorod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Раздел: </a:t>
            </a:r>
            <a:r>
              <a:rPr b="1" lang="ru-RU" sz="4000" spc="-1" strike="noStrike">
                <a:solidFill>
                  <a:srgbClr val="da280a"/>
                </a:solidFill>
                <a:latin typeface="Arial"/>
              </a:rPr>
              <a:t>Специалист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Подраздел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d70c16"/>
                </a:solidFill>
                <a:latin typeface="Arial"/>
              </a:rPr>
              <a:t>МИА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Подраздел: </a:t>
            </a:r>
            <a:r>
              <a:rPr b="1" lang="ru-RU" sz="4000" spc="-1" strike="noStrike">
                <a:solidFill>
                  <a:srgbClr val="d70c16"/>
                </a:solidFill>
                <a:latin typeface="Arial"/>
              </a:rPr>
              <a:t>Фор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чень форм отчетной документации, используемых в учреждениях здравоохра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64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64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0" y="207720"/>
            <a:ext cx="10137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Директор ГОБУЗ «Медицинский информационно-аналитический центр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0c16"/>
                </a:solidFill>
                <a:latin typeface="Arial"/>
              </a:rPr>
              <a:t>Егорова Алла Анатоль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Контактные телефон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64-16-69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29ab"/>
                </a:solidFill>
                <a:latin typeface="Arial"/>
              </a:rPr>
              <a:t>E-mail</a:t>
            </a: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129ab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7ec0e6"/>
                </a:solidFill>
                <a:uFillTx/>
                <a:latin typeface="Arial"/>
                <a:hlinkClick r:id="rId1"/>
              </a:rPr>
              <a:t>novbms@mail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64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64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60520" y="1447560"/>
            <a:ext cx="9097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1" lang="ru-RU" sz="2000" spc="-1" strike="noStrike">
                <a:solidFill>
                  <a:srgbClr val="da280a"/>
                </a:solidFill>
                <a:latin typeface="Times New Roman"/>
              </a:rPr>
              <a:t>ведение медицинской документ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медицинской  карты   пациента, получающего медицинскую  помощь  в  амбулаторных  условиях,   истории развития ребенка, индивидуальной карты беременной и родильницы (далее   -амбулаторная карта):     </a:t>
            </a:r>
            <a:r>
              <a:rPr b="0" lang="ru-RU" sz="2000" spc="-1" strike="noStrike">
                <a:solidFill>
                  <a:srgbClr val="da280a"/>
                </a:solidFill>
                <a:latin typeface="Times New Roman"/>
              </a:rPr>
              <a:t>заполнение всех раздел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едусмотренных амбулаторной картой;     наличие  информированного  добровольного  согласия  на   медицинское вмешательство;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ритери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ачества по условиям оказания медицинской помощи </a:t>
            </a:r>
            <a:r>
              <a:rPr b="1" lang="ru-RU" sz="2000" spc="-1" strike="noStrike">
                <a:solidFill>
                  <a:srgbClr val="0078c7"/>
                </a:solidFill>
                <a:latin typeface="Times New Roman"/>
                <a:ea typeface="Arial"/>
              </a:rPr>
              <a:t>в стационарных условиях и условиях дневного стацион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 </a:t>
            </a:r>
            <a:r>
              <a:rPr b="1" lang="ru-RU" sz="2000" spc="-1" strike="noStrike">
                <a:solidFill>
                  <a:srgbClr val="da280a"/>
                </a:solidFill>
                <a:latin typeface="Times New Roman"/>
              </a:rPr>
              <a:t>ведение   медицинской   документ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-       медицинской карты стационарного больного, истории родов, истории  развития   новорожденного(далее - стационарная карта):     </a:t>
            </a:r>
            <a:r>
              <a:rPr b="0" lang="ru-RU" sz="2000" spc="-1" strike="noStrike">
                <a:solidFill>
                  <a:srgbClr val="da280a"/>
                </a:solidFill>
                <a:latin typeface="Times New Roman"/>
              </a:rPr>
              <a:t>заполнение всех раздел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едусмотренных стационарной картой;     наличие  информированного  добровольного  согласия  на   медицинское вмешатель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330120" y="457200"/>
            <a:ext cx="9328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ритерии качества по условиям оказания медицинской помощ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394000" y="914400"/>
            <a:ext cx="4870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8c7"/>
                </a:solidFill>
                <a:latin typeface="Times New Roman"/>
                <a:ea typeface="Arial"/>
              </a:rPr>
              <a:t>в амбулаторных условия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c72"/>
                </a:solidFill>
                <a:latin typeface="Arial"/>
              </a:rPr>
              <a:t>Связка данных МОНИТОРИНГОВ и годового статистического отчета</a:t>
            </a:r>
            <a:endParaRPr b="1" lang="en-US" sz="28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447920" y="1523520"/>
            <a:ext cx="40003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337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00880" y="1523520"/>
            <a:ext cx="40003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280a"/>
                </a:solidFill>
                <a:latin typeface="Arial"/>
              </a:rPr>
              <a:t>Ф.30 «Сведения о медицинской организации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37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таблицы, касаемые оборудования (т.5117, 5118 лучевая диагностика и терапия, 5301 Лабор.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37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и (т.8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37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47920" y="3886200"/>
            <a:ext cx="4000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280a"/>
                </a:solidFill>
                <a:latin typeface="Arial"/>
              </a:rPr>
              <a:t>Фед.регистр медрабо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280a"/>
                </a:solidFill>
                <a:latin typeface="Arial"/>
              </a:rPr>
              <a:t>Ф.131 по диспансер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600880" y="3886200"/>
            <a:ext cx="4000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280a"/>
                </a:solidFill>
                <a:latin typeface="Arial"/>
              </a:rPr>
              <a:t>Ф.30 «Сведения о медицинской организации» таб.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280a"/>
                </a:solidFill>
                <a:latin typeface="Arial"/>
              </a:rPr>
              <a:t>Ежеквартальный мониторинг КАД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280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da280a"/>
                </a:solidFill>
                <a:latin typeface="Arial"/>
              </a:rPr>
              <a:t>Еженедельный мониторинг участковой служ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280a"/>
                </a:solidFill>
                <a:latin typeface="Arial"/>
              </a:rPr>
              <a:t>Ф.30 «Сведения о медицинской организации» таб.21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04520" y="1052280"/>
            <a:ext cx="92012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280a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da280a"/>
                </a:solidFill>
                <a:latin typeface="Arial"/>
              </a:rPr>
              <a:t>Мониторинг 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280a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da280a"/>
                </a:solidFill>
                <a:latin typeface="Arial"/>
              </a:rPr>
              <a:t>Паспорт МО</a:t>
            </a:r>
            <a:r>
              <a:rPr b="0" lang="ru-RU" sz="2400" spc="-1" strike="noStrike">
                <a:solidFill>
                  <a:srgbClr val="da28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9040680" cy="20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c72"/>
                </a:solidFill>
                <a:latin typeface="Arial"/>
              </a:rPr>
              <a:t>Приказ Департамента здравоохранения Новгородской области от 23.05.2016г №490-Д</a:t>
            </a:r>
            <a:br>
              <a:rPr sz="2800"/>
            </a:br>
            <a:r>
              <a:rPr b="1" lang="ru-RU" sz="2800" spc="-1" strike="noStrike">
                <a:solidFill>
                  <a:srgbClr val="002c72"/>
                </a:solidFill>
                <a:latin typeface="Arial"/>
              </a:rPr>
              <a:t>«Об утверждении плана мероприятий («Дорожная карта») по обеспечению доступности медицинской помощи…»</a:t>
            </a:r>
            <a:br>
              <a:rPr sz="2800"/>
            </a:br>
            <a:endParaRPr b="1" lang="en-US" sz="28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4880" y="3860640"/>
            <a:ext cx="887256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280a"/>
                </a:solidFill>
                <a:latin typeface="Arial"/>
              </a:rPr>
              <a:t>Информационная Система мониторинга показателей в сфере здравоохранения (подсистема ГЕОПОРТАЛ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МИАЦ внес в Систему информ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lang="ru-RU" sz="2000" spc="-1" strike="noStrike">
                <a:solidFill>
                  <a:srgbClr val="0078c7"/>
                </a:solidFill>
                <a:latin typeface="Arial"/>
              </a:rPr>
              <a:t>3719 населенным пунк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lang="ru-RU" sz="2000" spc="-1" strike="noStrike">
                <a:solidFill>
                  <a:srgbClr val="0078c7"/>
                </a:solidFill>
                <a:latin typeface="Arial"/>
              </a:rPr>
              <a:t>541 структурному подразделению медицинских организа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раз в полугодие информация должна актуализироваться в ча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икрепленного к МО и его структурному подразделению) насе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численности населения в каждом населенном пунк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60520" y="2133720"/>
            <a:ext cx="8856360" cy="1582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49240" y="304920"/>
            <a:ext cx="9056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c72"/>
                </a:solidFill>
                <a:latin typeface="Arial"/>
              </a:rPr>
              <a:t>Приказ Департамента здравоохранения Новгородской области от 17.12.2018г. №830-Д</a:t>
            </a:r>
            <a:endParaRPr b="1" lang="en-US" sz="28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ем отчетов за 2018 год для всех МО, подчинения ДЗНО только с примене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ы веб-мониторинга на базе программного продукта «Парус – Бюджет 8», модуль «Мониторинг.Web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боту в системе «Парус» начнете строго только после нашего уведомл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.к. сейчас в Парусе проводятся работы по внесению изменений в формы годового отч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тчете за 2018 год в системе веб-мониторинга размещает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олько формы, прописанные в п.5 прика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годовому отч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едицинская организация размещает свои отчеты в Парусе не позднее, чем за 1 день до сдачи отчетов в ГОБУЗ МИАЦ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880" y="304920"/>
            <a:ext cx="93283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c72"/>
                </a:solidFill>
                <a:latin typeface="Arial"/>
              </a:rPr>
              <a:t>Приказ Департамента здравоохранения Новгородской области от 17.12.2018г. №830-Д</a:t>
            </a:r>
            <a:endParaRPr b="1" lang="en-US" sz="28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6160" y="1267920"/>
            <a:ext cx="88250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ицинские организации должны в ОБЯЗАТЕЛЬНОМ порядке провести на местах </a:t>
            </a:r>
            <a:r>
              <a:rPr b="1" lang="ru-RU" sz="2400" spc="-1" strike="noStrike" u="sng">
                <a:solidFill>
                  <a:srgbClr val="da280a"/>
                </a:solidFill>
                <a:uFillTx/>
                <a:latin typeface="Arial"/>
              </a:rPr>
              <a:t>все провер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всем внесенным ими формам в системе ПАРУС и исправить все ошибки, которые выдает сист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четные формы, представляемые на бумажных носителях, должны быть </a:t>
            </a:r>
            <a:r>
              <a:rPr b="1" lang="ru-RU" sz="2400" spc="-1" strike="noStrike">
                <a:solidFill>
                  <a:srgbClr val="da280a"/>
                </a:solidFill>
                <a:latin typeface="Arial"/>
              </a:rPr>
              <a:t>распечатаны с ПАРУ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сле проведения всех проверок и внесения изменений в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чать отчетных форм двусторонняя, с четким изображением текста и циф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ы должны быть крепко сшиты, подписаны руководителем медицинской организации (главным врачом), а также ответственным лицом за составление формы, внесены контактные данные и заверены печатью учреж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ешается заполнять и производить распечатку только тех таблиц, которые касаются деятельности этих медицинских орган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8520" y="304920"/>
            <a:ext cx="9417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c72"/>
                </a:solidFill>
                <a:latin typeface="Arial"/>
              </a:rPr>
              <a:t>Приказ Департамента здравоохранения Новгородской области от 17.12.2018г. №830-Д</a:t>
            </a:r>
            <a:endParaRPr b="1" lang="en-US" sz="28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4160" y="1125360"/>
            <a:ext cx="81770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280a"/>
                </a:solidFill>
                <a:latin typeface="Arial"/>
              </a:rPr>
              <a:t>Приложение 1 к прика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ФИК приема  отчетов по формам ФСН от медицинских организаций  области, подведомственных департаменту за 2018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0078c7"/>
                </a:solidFill>
                <a:uFillTx/>
                <a:latin typeface="Arial"/>
              </a:rPr>
              <a:t>МЕДИЦИНСКИЕ ОРГАНИЗ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о изменять дату сдачи отчета ЗАПРЕЩ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ка строго по графику к 9-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 u="sng">
                <a:solidFill>
                  <a:srgbClr val="0078c7"/>
                </a:solidFill>
                <a:uFillTx/>
                <a:latin typeface="Arial"/>
              </a:rPr>
              <a:t>Члены комиссии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, прописанные в прик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НЫ также явится для приема годовых статистических отчетов СТРОГО к 9-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88520" y="304920"/>
            <a:ext cx="9417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c72"/>
                </a:solidFill>
                <a:latin typeface="Arial"/>
              </a:rPr>
              <a:t>Приказ Департамента здравоохранения Новгородской области от 17.12.2018г. №830-Д</a:t>
            </a:r>
            <a:endParaRPr b="1" lang="en-US" sz="28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76160" y="1196640"/>
            <a:ext cx="88250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280a"/>
                </a:solidFill>
                <a:latin typeface="Arial"/>
              </a:rPr>
              <a:t>Приложение 2 к прик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писана зона ответственности для каждой службы и для каждого главного штатного (нештатного) специалиста департамента, включенного в комиссию по приему отч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ем отчета или соответствующего раздела по служ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ческий и арифметический контр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зирование отчета (соответствующего раздела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пециалист комиссии подписывает непосредственно проверяемую форму или раздел.  После сдачи отчетов главным специалистам вариант отчета с подписью специалиста возвращается в ГОБУЗ «МИАЦ» на дальнейшую проверк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дные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щита в МЗ РФ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520" y="189000"/>
            <a:ext cx="96332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c72"/>
                </a:solidFill>
                <a:latin typeface="Arial"/>
              </a:rPr>
              <a:t>Правила заполнения ф.30  таб.3100 «Коечный фонд и его использование»  </a:t>
            </a:r>
            <a:endParaRPr b="1" lang="en-US" sz="28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0160" y="980640"/>
            <a:ext cx="90406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йки по профилю «реанимационные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ложение к приказу Минздрава России от 15 ноября 2012 г. № 919н «Порядок оказания медицинской помощи взрослому населению по профилю "анестезиология и реаниматология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Число коек для реанимации и интенсивной терапии при оказании медицинской помощи по профилю "анестезиология и реаниматология" в медицинской организации устанавливается руководителем медицинской организации в зависимости от потребностей, обусловленных видами и объемом оказываемой медицинской помощи, и составля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менее 3% общего коечного фон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медицинских организациях, имеющих коечный фонд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200 до 400 коек, не менее 5% общего коечного фон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медицинских организациях, имеющих коечный фонд более 400 коек,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менее 6 ко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 общего коечного фонда в медицинских организациях, имеющих коечный фонд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нее 200 ко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я в таблицу 3100 вносится </a:t>
            </a:r>
            <a:r>
              <a:rPr b="1" lang="ru-RU" sz="2000" spc="-1" strike="noStrike" u="sng">
                <a:solidFill>
                  <a:srgbClr val="0078c7"/>
                </a:solidFill>
                <a:uFillTx/>
                <a:latin typeface="Arial"/>
              </a:rPr>
              <a:t>по профилям  ко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приказ Минздравсоцразвития России от 17.05.2012 N 555н «Об утверждении номенклатуры коечного фонда по профилям медицинской помощи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14:47:54Z</dcterms:created>
  <dc:creator>roinem</dc:creator>
  <dc:description/>
  <dc:language>en-US</dc:language>
  <cp:lastModifiedBy>Егорова</cp:lastModifiedBy>
  <dcterms:modified xsi:type="dcterms:W3CDTF">2018-12-24T06:51:44Z</dcterms:modified>
  <cp:revision>733</cp:revision>
  <dc:subject/>
  <dc:title>PowerPoint-esitys</dc:title>
</cp:coreProperties>
</file>