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7C8-5A3F-4637-8DF6-87FB6620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291-3D3E-4DE9-B61E-BCCA7A6B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5DF-C62E-40B8-82EC-62AF9EB0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2EF-217A-4F8D-9F8B-66DD0BF9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26AD-98B0-4630-A1BE-73372C83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4B87-D864-439E-9276-9D235897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C2C1-B63C-4116-88DA-9CD26474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4485-CA47-4F80-A400-B5BB650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522B-E579-452E-A06D-5DFACA5A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0A6-A42A-4920-BBCD-633990F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0B9-E17B-4C76-ADA7-93ECE30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E0B-F08C-4DA6-9DF6-35F8E6B7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AB33-41A3-4C5D-B430-AE86995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F127-AF8C-42FE-B924-FBE4AB9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89F0-147F-431D-8F5D-D39FC51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7F7-BC29-4E28-8BF2-C23F9A50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2E69-D046-4B37-876E-4E5CF6E6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44B0-5545-4E93-9EE0-6B772754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23C8-8898-4C97-A63F-840A3A8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69F3-EA36-4E07-A026-65A1B22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0BBD-F9EA-4F2D-A635-5E04D1E5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A0B4-1471-4571-BBF1-4530D618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C48-199A-4613-9D65-DB523E9F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61E0-86D9-4A48-9CB2-985D5D12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D9D7-ACA7-4DCE-A043-217922E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21BE-E33F-49B2-9F31-7C0EBA5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BFA8-4BBD-4B4E-A4A3-79C941C6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6281-F79C-4401-B154-0F5CF96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DBDC-3022-4E79-ABDE-205CBFB3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95B1-F348-4CA8-8006-AD6264CD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BEC2-98F1-4FA3-A3D3-0312987C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BDF6-1E54-4329-9351-CA561588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46B0-20AA-4A1F-A3F1-1B06B2C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05B-D43F-4723-AF21-070443E4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DFD7-1C63-42AB-A62C-643D4B89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21D4-F42C-48F7-A569-AD8D919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EB75-D2D4-4929-8D92-D91C9CF0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A7E7-DCC2-4804-807D-5C5904A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BCBF-A3EF-48D8-AC6D-9363626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DE5C-5DD8-40C4-8ACD-65244E6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81DB-0902-482B-BD3B-A942DCE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A032-2988-4B42-8786-558DDA6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D880-9E6F-4DB0-829D-A14332FD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0DC0-D572-48AA-9923-60CC2D45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199-0184-4EEE-9314-771AF442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454C-BE06-4152-B77F-0C738AC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B866-F313-4DF8-BE65-DCEEFDB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AC5F-1015-4DAD-80B6-44151147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207C-95E0-4AC0-BDBF-BD4356BE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30C1-2BDD-4343-A0AC-A2946280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C024-3290-4719-89FD-F28E6D9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7A93-54BD-438F-9250-DB930577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BFBE1-E150-4B71-AB13-640BF96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E192-825D-4082-BEF6-ED06679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BC481-0AA6-40CB-A381-BC31DA2F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DE0-FCC0-4940-924F-63BFF9C8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2694-74F0-46D6-B426-69678037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FAB2-8AF2-475F-BCAF-63AA1BC3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67EA-E76F-47FF-982F-717DB8CC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5A36-F7EF-403F-9435-5869B05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D880-B9F2-46A5-B471-E44D17B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5833-8A54-4CC1-AB0F-935B484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9E00-4C7B-4915-B178-2924741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3F706-1F5A-46DD-AEE1-E740DE8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6542-3440-446D-9A2C-058BB43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1AE02-07A1-41E4-A139-C4F771B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114-0ABD-4A16-81FA-CA425AF5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7BB1B-76CC-4A7F-BBC2-0EB5720C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435A-081E-4358-B195-2A79566E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08C6-1A67-4A59-9A38-291D9AA8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A72E1-BFDD-4B6F-A43F-CB4DEA4C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4346-4A9A-4870-B3CF-D5F6BFC1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330B5-02A3-4E31-874E-183C2B7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BC4D1-B50A-448C-ACD2-C4A3301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FDD0-2CDD-4559-8EC5-4BE0746E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AF6C-95FF-4AEA-A8B5-748E168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DA439-A0F5-4747-A2E2-6E40C254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D82-093C-4F86-99F7-E9AB52B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83A9A-8B00-44A1-B8C7-476A518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20386-769A-424A-887D-C841050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D8555-5D57-4810-B120-FD525FA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A1CE-272F-4327-9604-361CA781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9C0B2-42F1-49A2-AABA-B223608F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E7756-05F3-4454-8416-2B331A6D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56A4E-922B-4F6D-9FE1-E6DD121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CF64-1255-4F40-AED5-B932E16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EFBDE-82CE-4A64-A1A8-E70E0A5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574C-BB28-440A-8898-B24C518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838-2609-4994-8F6E-53DE198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96683-0F4A-44CB-9267-850A62A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5B06B-7AC8-4669-BE49-9FC3B47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B0825-9379-4115-8B19-5F6C6C6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56F3E-B3B8-4795-9A36-748489F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2201-7A75-42BC-854D-B52AC5F4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5FADF-7324-4ECA-8A2A-11E28FC9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4511D-AF23-46A0-98EE-8E78E6FC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8014-73B6-47F7-9E76-DD15CFDFA18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C087-ED52-4834-9D57-BC831066ADF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9196-AFBA-4648-8053-BBCFA248CD3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659-BE33-43D6-9BD2-7AD6F0D0FD6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EF7-12C9-4016-BA8E-EC9CC5603A9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F0E4-3B09-4F51-A546-903C93E4EA4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888D-2914-4BCE-AF84-1A49B2AD37A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272A-63CF-4F33-B9F0-7003198421E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5280" y="227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чет о травмах, отравлениях и некоторых других последствиях воздействия внешних причин за 2016 г. будет приниматься по  форме № 57, утвержденной Росстатом в 2016г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каз № 866 от 27.12.2016 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139680" y="-6480"/>
            <a:ext cx="8815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225360" y="1335240"/>
            <a:ext cx="85536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Графа 4 =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мма граф5,7,13,16,17,18,19,20                                         (по всем строкам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тр.1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 сумма стро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, 6, 9, 13, 17, 19, 21, 23, 25, 27, 29, 31, 32, 33, 34, 35, 38, 40, 41, 42 (по всем графам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.5&gt;=гр.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.7&gt;=гр.8+гр.9+гр.10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.10&gt;=гр.11+гр.1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.13&gt;=гр.14+гр.15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231840" y="6480"/>
            <a:ext cx="875340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2&gt;=стр.3+стр.4+стр.5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6&gt;=стр.7+стр.8 стр.9&gt;=стр.10+стр.11+стр.12 стр.13&gt;=стр.14+стр.15+стр.16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17&gt;=стр.18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19&gt;=стр.2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21&gt;=стр.22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23&gt;=стр.24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25&gt;=стр.26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27&gt;=стр.28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29&gt;=стр.30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35&gt;=стр.36+стр.37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тр.38&gt;=стр.39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-357120" y="1428480"/>
            <a:ext cx="978696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аждая ячейка т.2000 &gt;=соответствующей ячейке т.3000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табл.2000(гр.5-гр.6)&gt;=табл.3000(гр.5-гр.6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абл.2000(гр.7-(гр.8+гр.9+гр.10))&gt;=табл.3000(гр.7-(гр.8+гр.9+гр.10)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абл.2000(гр.10-(гр.11+гр.12))&gt;=табл.3000(гр.7-(гр.10-(гр.11+гр.12)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табл.2000(гр.13-(гр.14+гр.15))&gt;=табл.3000(гр.13-(гр.14+гр.15)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водится с формой № 12 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528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щее число трав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 детей (0-17 лет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ключительно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зарегистрированных в форме № 57 (строка 1, графа 4, таблица 1000), должно быть равно сумме общего числа травм, зарегистрированных в форме № 12 в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троке 20, графа 4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таблицах 1000 + 200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щее число трав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 взросл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зарегистрированных в форме № 5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таблица 2000, строка 1, графа 4), должно            быть равным числу   травм, зарегистрированных в форме № 12  (таблица 3000,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трока 20, графа 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8000" y="907560"/>
            <a:ext cx="8218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щее число травм у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зрослых  старше трудоспособного возрас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 зарегистрированных  в форме № 57 (строка 1, графа 4, таблица 3000),  должно быть равным числу травм, зарегистрированных в форме № 12 (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трока 20, графа 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таблица 400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560" y="1267920"/>
            <a:ext cx="8569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6997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Во всех таблица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строки в графах 14, 15,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не заполняются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57120" y="428400"/>
            <a:ext cx="832968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Случаи смертности от травм в ф.57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Lucida Sans Unicode"/>
              </a:rPr>
              <a:t>НЕ включать!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3571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Таблица 3500 «Случаи смерти от внешних причин» исключена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1280" y="69192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а состоит из 3-х таблиц, содержащих сведения о травмах и других несчастных случаях в следующих возрастных группах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аблица 1000 – травмы у детей в возрасте    от 0 до 17 лет включительн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аблица 2000 – сведения о травмах у взрослого насе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аблица 3000 – сведения о травмах у взрослого населения старше трудоспособного возрас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620640"/>
            <a:ext cx="8300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е  3 таблицы построены однотипн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ждая таблица содержит 20 граф, в которых приведены некоторые внешние причины повреждений, и 42 строки, отражающие характер поврежден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Транспортные несчастные случа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ругие внешние причины (утопление; воздействие дыма, огня, пламени; случайные отравления, включая наркотики, алкоголь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еднамеренные самоповреждения (всего, из них наркотики, алкоголь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пад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овреждения с неопределенными намерениям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61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йствия, предусмотренные законом, военные операции и террориз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ложнения терапевтических и хирургических вмешательст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ледствия воздействия внешних причин, заболеваемости и смерт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авмы, отравления и некоторые другие последствия воздействия внешних причин, представленные в таблицах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 полу не разделяют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06:56:56Z</dcterms:created>
  <dc:creator>user</dc:creator>
  <dc:description/>
  <dc:language>en-US</dc:language>
  <cp:lastModifiedBy>Лена</cp:lastModifiedBy>
  <cp:lastPrinted>2016-12-06T10:59:25Z</cp:lastPrinted>
  <dcterms:modified xsi:type="dcterms:W3CDTF">2018-12-18T09:28:06Z</dcterms:modified>
  <cp:revision>62</cp:revision>
  <dc:subject/>
  <dc:title>ЦЕНТРАЛЬНЫЙ НАУЧНО-ИССЛЕДОВАТЕЛЬСКИЙ ИНСТИТУТ ТРАВМАТОЛОГИИ И ОРТОПЕДИИ  ИМ. Н.Н. ПРИОРОВА</dc:title>
</cp:coreProperties>
</file>