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BDEE-1A25-455A-A804-DA6FEAA40A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585E-08AF-4CFF-ADA9-01117EBE21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20808F-B805-42E0-9EDC-A5CC030DCD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D51E-805E-4D0A-B00D-95B7AA8840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E51F-E789-4C70-8D7D-001C8D425E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7A74-B132-4CAB-B9E7-9B52E0FA66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A971-B96B-49CF-B220-99F0491B8D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B59-8424-4EB5-86B1-5F6A8E7D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84C-B771-486E-AD7F-14EB8A6E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F6D-B047-46EC-8D1B-6F2B37E6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0BA-A1A7-42CC-A115-D6DD08B6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76B-34D5-4DA8-AB32-2C368057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D84-A963-422B-A397-670A5B8D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DFC-5468-43FB-9D4A-BDD181D4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966-ECCD-4D53-A52C-D7488D28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B5C-6ABF-4463-B522-06DF42E6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79B-8214-4D5D-8074-CDB892B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01C-3523-431C-975B-C2504503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163-C1CE-4ED5-8737-C0937A20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2EF-9813-4EC1-9B11-E9E6C17AF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8 год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х вызово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3440"/>
                <a:gridCol w="857160"/>
                <a:gridCol w="1000080"/>
                <a:gridCol w="1251000"/>
                <a:gridCol w="1249200"/>
                <a:gridCol w="1251000"/>
                <a:gridCol w="1251000"/>
              </a:tblGrid>
              <a:tr h="31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фармацевтов, провизоров, специалистов с немедицинским образо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Число штатн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Число занят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Число физических лиц основных работников на занятых должност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20056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-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50920" y="1052640"/>
            <a:ext cx="8713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Росстата № 483 от 3 августа 2018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выполненные вызовы» (2018 год) = «выполненные выезды» (2009-2017 го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6760" y="2357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856720" cy="520056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-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2214360"/>
            <a:ext cx="8407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5 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(60 лет и старше) 6 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 2121.1.01 =  30.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1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499760"/>
            <a:ext cx="856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1571400"/>
            <a:ext cx="828036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000" y="1571400"/>
            <a:ext cx="83516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 (общепрофильными, специализированными и авиамедицинскими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356760"/>
            <a:ext cx="828180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413000"/>
            <a:ext cx="83012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. = 30.2200.21.03. + 30.2200.22.03. + 30.2200.23.03. + 30.2200.24.03. + 30.2200.25.0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. = 30.2200.21.04. + 30.2200.22.04. + 30.2200.23.04. + 30.2200.24.04. + 30.2200.25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. = 30.2200.21.05. + 30.2200.22.05. + 30.2200.23.05. + 30.2200.24.05. + 30.2200.25.0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6164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500120"/>
            <a:ext cx="8479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экстренные консультатив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5.03. = 30.2200.251.03. + 30.2200.252.03. + 30.2200.253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5.04. = 30.2200.251.04. + 30.2200.252.04. + 30.2200.253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5.05. = 30.2200.251.05. + 30.2200.252.05. + 30.2200.253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выездных бригад следует предоставить пояснение по профилю, числу бригад (смен), числу круглосуточных бригад и числу лиц, которым оказана медицинская помощь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135684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, из них сельских ж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2201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2202 необходимо сравнить с данными предыдущего отчетного год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 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медицинской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5880" y="1752480"/>
            <a:ext cx="781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90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медицинскими работниками выездных бригад скорой медицинской помощи по месту вызова бригады, а также в транспортном средстве при медицинской эваку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280" y="2491920"/>
            <a:ext cx="82090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773360"/>
            <a:ext cx="8407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628280"/>
            <a:ext cx="84470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6680" indent="-166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41300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14200" y="571680"/>
          <a:ext cx="8643960" cy="620856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4200" y="571680"/>
          <a:ext cx="8643960" cy="55036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8730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. 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зовы (выезды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23440" y="2071800"/>
            <a:ext cx="82630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ано по причине необоснованности выз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ереадресация непрофильных вызовов в другую медицинскую организ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скорая, в том числе скорая специализированная, медицинская помощь пациентам, которым не требуется круглосуточного медицинского наблюдения и ле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41000"/>
            <a:ext cx="8301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3640" y="1341000"/>
            <a:ext cx="83343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83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 осуществляется медицинскими работниками стационарного отделения скорой медицинской помощ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8 г. по сравнению с 2017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числу автомобил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5840" y="142884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  1____________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5280" y="4759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 5453 необходимо сравнить с данными предыдущего отчетного го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соединении  скорой медицинской помощи к центру медицины катастроф показатели работы службы скорой медицинской помощи заполняются в отчетных формах №№ 30, 4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142640"/>
            <a:ext cx="8235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пациента в медицинскую организацию для оказания скорой медицинской помощи в стационарных условиях в стационарном отделении скорой медицинской помощи осуществляется уточнение диагноза, диагностика, динамическое наблюдение и проведение лечебно-диагностических мероприятий на койках скорой медицинской помощи суточного пребывания и, при наличии медицинских показаний, краткосрочное лечение длительностью не более 3 су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8-12-10T20:23:49Z</dcterms:modified>
  <cp:revision>44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