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1BDA-B1A7-42A8-A143-3A0544E4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952-93AB-4B0E-97CD-79CBB747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B95-C9CC-49EE-A03D-170DB916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A60-AA08-41C2-86B3-9BB673D8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494-01D8-466B-A43F-0D6A5A4D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34E-8D23-4B7E-8BDA-4C0DD6CA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EA705-014A-4DA8-8974-7C76514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CB8FB-A445-48E5-889E-23F9309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C336-360A-4047-A0F1-EDD3C2A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1E7AA-2434-4131-A23F-6B16E8D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C2D0B-1CC7-4594-B07E-3314CDD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A2A67-5CE2-4882-9CF9-1F347D7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5EF7F-3626-4114-AF1E-51D5B81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42A93-8FDF-40A1-90B5-804276D3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1B8B3-D8E7-42A1-9FCA-FBAE28F7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6C369-D319-4010-B925-247BB8B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BF3-5BCC-4FFE-96ED-428E13C5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8D46E-76C0-4661-8B50-5B6A068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05949-6059-458A-95AA-E94E7D6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5BDD6-A412-4A14-A5FB-EAF99B36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CD86-6FAD-43D1-8FBE-164238E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EF04D-B854-4863-819C-2FFCF7B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507DA-5D35-4975-9865-8CDAC5D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BD7F5-9A29-48E6-8FD3-62090BC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D52C3-B653-4992-AD0D-9494EF0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EE4F9-3E91-43E9-B586-ACD2D7B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2BC5A-7E41-4A0A-8C05-D28B6D81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161-E612-4E91-972B-64D859AF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8B7EE-FD88-472A-900C-52A2462F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A1D3-0C48-42C9-986F-27E717EB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668DF-7272-4559-B4C0-C6A27343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D260-1A20-44AB-B123-035EE85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D0B61-0958-4CD9-BAE7-529C5DB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C13F-C380-4DAA-9483-03CB052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0C26-D73E-4367-8DAA-2BE3403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875C0-FDCC-425A-A76D-14FE639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7F08-DC2A-4B9D-862C-F393BEB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B7032-1484-458F-8F25-6E972A4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0238-CF6E-4C59-94A7-C626F7BB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934F-1FB0-4C8A-9038-8ECA2483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2E80-BFD8-4C11-A914-5C6957DC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84533-109A-4B8A-957B-70BC511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846A0-D1BD-4DB3-9873-C89D8743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69E4B-8CA3-498A-A0F9-23090602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226A1-93A1-4ECB-B6CF-8163AEBF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8E711-17A2-47A3-B96E-B6C1B55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57BDD-C3A7-4A9C-B6C9-93210FC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7ACCE-E070-4BFB-A486-A3F85EFB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1F24-4132-44AC-8957-E5396D45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1B2-D3A9-4174-BDE8-A5FA60B1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518EC-49D4-40E7-ACEF-688E51E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587FA-F06F-4967-8337-0A9DB3A3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98BC-F40A-41AA-8C94-6DB8629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F84E7-E554-4151-9E02-43922C4D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8EEFE-DC24-475E-A9A9-E6907C8D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D635E-9CBD-4F7A-88F9-465A4A2B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79B9E-3B2B-4946-997A-E7D61E6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D4E69-0783-4D83-BBFC-2A871E0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589F8-F7E4-460F-8B92-27E6206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B52FC-7395-47A9-A8AC-1C22C10B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0DD5-74A7-410F-9B22-4D19F719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268C2-0540-47BC-914C-6341A5E5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AB308-AD3A-4E04-AA01-BAC1815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7A07E-6D35-40FA-A741-8E3280B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5AA9F-837B-46F1-A49D-1E88D05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7C86C-DD7C-483C-9689-6CB7ED0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94F79-1DF2-41B3-BA8A-470F0BE2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FB078-F3BB-405B-8D0E-C540314F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74DBE-9C0A-42B2-8C07-BA374D5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6A61A-65D5-4FCB-87B7-3765989B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EDE48-859F-4792-AEF3-0E37480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DFB-415A-44FF-9EFE-25162FD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A661A-41E8-4AB5-A6EF-32FC9C7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6317C-BA30-470D-9886-3736D6C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8753D-0F0F-428C-8C5C-992BC27C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93626-4888-4472-8178-37DCCD8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29BB4-F775-44CB-A6EA-53F9BDC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3D60E-0BDF-4C8F-9FF9-1A67732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D0C4E-1F37-49A0-8EC2-E3D9A28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4A2E3-9692-42BB-9369-CC1C5C4F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0A574-0CBA-465D-B919-B97E1AEC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3758A-6DFF-4DC0-AC8F-7B239A9E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D454-4C77-4158-B377-53AA48C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F5F06-DC5E-4F0C-BCDE-4749FFBF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CC51D-338D-48A5-A3E1-226428F3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4C115-2D22-4102-AB75-AF1394F4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0B9BE-29EB-45B0-A560-3A27D805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21EFB-0A20-45D6-9F9B-BCCD9133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D4215-6437-4CFF-8056-8D546A5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D1D2E-60EB-4870-9D46-F81F37F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F5D22-CE18-45A4-A382-1AE4B211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EFE9A-D9DC-432F-87D2-84A01A5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747EB-A5B9-4BD2-BC2A-87F8736B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984-D8D5-4EF1-A1FE-A5571C6E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7B5B7-C07A-448C-B2DB-17A3FD5B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84CC9-58BC-47C8-ABAC-FB9052DA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96F92-D02E-46B2-85E6-3E896F81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FCABB-9317-4744-AF16-D360806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1867E-C57E-464B-9F87-2BA7428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28854-4E59-45E0-98F5-1C670C0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0F0E8-C8C1-4EC3-868F-F8B137B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C6021-4551-4B5F-B34D-447403D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3A34E-10DC-4523-85A5-39563AE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C302E-2A2D-48F4-8005-D8006FC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1383-FC7E-48A6-893D-4D5E536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50537-ED38-4F5D-82D8-BF5E045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765E0-08A1-4798-B007-46C57717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2CC70-B9BE-4D9E-8370-159628D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6B59E-0629-4114-BD17-FEBAE25C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B5BD4-60FF-4E87-A2EB-D0243DB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CC761-291C-4C89-B401-22944064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DBCEC-618A-4961-8B1B-772D8219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13F68-A0B6-4CE1-BCDD-128E2C5D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131BB-7773-4B46-8719-5A78BE35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654A1-71D0-4A54-BF91-16B9396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0D5-B559-4FB2-9D45-870A0D3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42F-3E08-4D50-97C6-5DC6C69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97BF0-A673-4A91-BD13-5EBBDD3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F81DC-A65D-4D46-A7B8-C82BD1F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C1F44-6645-4C24-8122-50F8F45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FAEA7-72ED-4961-AEB5-E5F5E1EC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382A4-96DE-4A79-A167-12400F35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3356-7A83-4913-A117-59959EC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DFE-06CB-4808-832E-B5FACB4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A946-979D-4194-9D08-96FB5591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94B-E28E-498B-A946-730DD95F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3086-D951-413B-8A7A-7A245D34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D85E-2247-498A-91F7-24E3245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2BB4-20B6-4ADE-BBA1-7360C66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F9F1-5710-45A4-85D4-9CF6F30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B762-71AC-4EC8-9864-47866B0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4CC-C7B1-4930-88F8-FDD01F74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FC57-F27F-423D-868D-D2BC878F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D4CB-0BA8-42A8-BAA1-BEE81B3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5DE4-035D-4EF9-A4F2-0608F4E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34C0-0FE4-4BD4-A69C-04F72A1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6CB9-96F0-4868-A24A-8B72486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4BC5-1709-48B5-A440-6B1A7689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98CB-4250-41FC-9288-F25557BF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541B-FFA8-4671-8CC9-E34D6849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B1EF-D246-4CB6-839D-A146759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DF58-5F3E-4C3D-9CC9-D146ABE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2CC-FAF6-46AF-821C-C1D5BF25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9498-4765-429D-B3E8-572216B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309A-E876-4824-AA62-AC8C141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D0F6-631C-4FE2-A605-4F5C51F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3DF8-AEDE-4A2C-97C5-5AFE92F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5745-B819-4C32-B735-9F769DA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2E94-ABC0-4698-AF56-744A3DA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A309-B532-4798-BCCB-7B7F9B4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9765-FE36-4F72-9113-27005D4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D9CE-0A62-406A-811D-E8BA17D2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4960-8CDF-4447-B918-CBD1982F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42B-E233-4B1A-B4C8-9B25B07D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92C1-EFA1-4630-B6C7-52CDFEE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8823-05EC-42F3-A0D0-AF65922D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02459-72D6-4ED1-AB89-8E7CB071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34FE-EF56-408B-8111-9A5BA339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01A1-54C4-4835-B784-F099E55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3B32-36A0-4A5A-B4E7-32799E7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170F-3DDF-42AA-A1FA-64F4D4F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FF6C-2BEA-4EA7-8F94-2735072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FD48-FA3D-4E32-BD84-B142EE58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AEFEB-0121-46DE-B7D9-9BA27F6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305-4BDB-47FE-8051-4257C7DA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9DA7-E55F-4012-A7FE-2D9A949A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212F-385E-455C-849A-2A373581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F255-B93E-4AF1-A5F9-C336D09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7D27-289F-41F6-AC39-E2FAD61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7438-7501-43B9-A5DE-E84B5097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16060-F841-4D37-94FF-863217FC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DB138-02A7-4A13-B33D-F8BECE2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B06B-3783-436B-97AE-5399587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CC780-EB5D-4274-81A0-6611C82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A332-E3F2-421C-95E8-FD3D59F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B1D-C5D3-468C-A5CA-0A06E15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4019D-C66A-4C2E-9B45-FFDB7C4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306C7-5EFD-466A-B82C-21BF5A2B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E86A-EF72-47D0-B058-2E85983F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0A3B-EF3E-40CA-8E77-6C5313D3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BD42-2FC8-4724-A765-57CAF05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771B-4BEA-4FB4-AEBD-E1466A5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1DEB-E263-4A3F-AEBD-330BE90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5C73E-559C-442F-8660-E699E2A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D241-1A5C-4B45-A4A4-29FF94F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63441-5F88-4571-8F67-D1CBC89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B71-8B17-4057-8B44-7672DDE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7485-DC1D-44E3-99CB-8186125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B7159-7BAD-4D2D-A848-E7551D5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9132-8F01-46CD-8D16-08AC0A82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C4D3-77F7-4091-B13D-6A3A13EA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E83E-4D88-4515-A929-45D7024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25CD3-9F40-4E4D-A210-0EA06453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05E8-E0C7-4E60-A1B4-E5B36D5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6311-652C-4035-995F-E140406E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1BF9-A230-4B7B-BF47-07F5BE3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252C9-D428-490F-9F01-9BF7DB7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AF1-1072-4613-A853-6744C2B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1E4C-8E72-41F9-8034-399FA089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F4C9-F506-40CC-BE2A-B2A519E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76AE-D5FB-4321-B04F-3E024C8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799D-DC20-4709-B728-F222C6E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85E0-A5B2-4401-B120-8F7FD98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05A8-9DD6-46AB-BE32-7A30DB00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8952-29EE-4901-92F2-C4F8AD3D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3D17A-BE2C-4289-9230-FA6D07D3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2E3B9-C0BF-4D92-829E-A1F5EE0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D5C89-5AF8-4E97-9080-BE9C2A9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9919-F349-4297-A90A-67236924F9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56E-0152-4888-89AE-118FE3162BB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3A02-1AF2-4DB4-BD48-06D23E18A1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DA04-432D-4D40-BBF8-B8A61B4451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15A-19A1-475E-94B1-1A85B09AED7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F1C-0B73-4917-8D08-B7FBC304E71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B058-7798-4E61-BDB5-E596B5BB80F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803-162A-4AE7-94F8-E2455EBF36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380F-6DA3-4F93-9DD0-68059650AE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2F8-6FDF-4C37-B373-887F7493E1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DD2-A097-4F72-B601-6112D63FD5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512-F3D4-4706-AFD7-6B8286F527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66E-2B4C-4F07-B847-A22E0F0DE2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DF7-48F3-4612-82CB-5B468B9076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573-A997-455A-ABEA-7FF1CCD2D8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553-CB6F-47DF-A676-D69D2B02B7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482-D389-4697-9331-C48906962B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79"/>
          <p:cNvSpPr/>
          <p:nvPr/>
        </p:nvSpPr>
        <p:spPr>
          <a:xfrm>
            <a:off x="309600" y="187488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Прямоугольник 3"/>
          <p:cNvSpPr/>
          <p:nvPr/>
        </p:nvSpPr>
        <p:spPr>
          <a:xfrm>
            <a:off x="174600" y="542880"/>
            <a:ext cx="8969400" cy="14997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июля 2018 г. N 16-5/10/2-470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аккредитации специалистов регламентируется приказом Минздрава России от 02.06.2016 N 334н "Об утверждении положения об аккредитации специалиста" (далее - Положение)…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201600" y="2376360"/>
            <a:ext cx="894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оматолог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Стоматология общей практики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терапевт участковы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Лечебное дело»)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педиатр участковый</a:t>
            </a: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Педиатрия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клинической лабораторной диагностик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Медицинская биохим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функциональной диагностик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Медицинская биофиз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атистик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кибернет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эпидемиолог» и «Врач по общей гигиен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ко-профилактическое дело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изор» и «Провизор-технолог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Фармац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242800" y="225360"/>
            <a:ext cx="6900840" cy="4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в 2018 году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34800" y="1157040"/>
            <a:ext cx="880920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льдше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ечебн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», «Медицинская сестра участковая», «Медицинская сестра патронажная», «Медицинская сестра приемного отделения», «Медицинская сестра палатная (постовая)», «Медицинская сестра перевязочной», «Медицинская сестра процедурной», «Медицинская сестра стерилизацион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естринское дело»)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армацевт»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Фармаци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ушерка»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Акушерское дело»)</a:t>
            </a:r>
            <a:r>
              <a:rPr b="1" lang="ru-RU" sz="1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ая сестра по массажу/медицинский брат по массажу»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ий массаж»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убной техник»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ортопедическа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технолог», «Медицинский лабораторный техник (фельдшер-лаборант)» и «Лаборант»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абораторная    диагнос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гиенист стоматологический»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 профилактическая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оптик-оптометрист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ая оп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 врача по эпидемиологии» и «Помощник врача по гигиене»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                                                                               (специальность «Медико-профилактическ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4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5" name="Rectangle 108"/>
          <p:cNvSpPr/>
          <p:nvPr/>
        </p:nvSpPr>
        <p:spPr>
          <a:xfrm>
            <a:off x="434880" y="4911840"/>
            <a:ext cx="84870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о. должность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сохраняется для специалистов с высшим профессиональным (немедицинским) образованием, принятых на работу д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01.10.1999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и работники могут продолжать профессиональную деятельность в занимаемых должностях без сертификата специалис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7" name=""/>
          <p:cNvGraphicFramePr/>
          <p:nvPr/>
        </p:nvGraphicFramePr>
        <p:xfrm>
          <a:off x="200160" y="1143000"/>
          <a:ext cx="8721720" cy="54165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2"/>
          <p:cNvSpPr/>
          <p:nvPr/>
        </p:nvSpPr>
        <p:spPr>
          <a:xfrm>
            <a:off x="2795760" y="5170320"/>
            <a:ext cx="391788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Увеличение штатной численности и физлиц не должно быть. Вновь принятые специалисты  -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4" name=""/>
          <p:cNvGraphicFramePr/>
          <p:nvPr/>
        </p:nvGraphicFramePr>
        <p:xfrm>
          <a:off x="355680" y="207504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920"/>
                <a:gridCol w="583920"/>
                <a:gridCol w="1024200"/>
                <a:gridCol w="87768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5" name="Rectangle 2"/>
          <p:cNvSpPr/>
          <p:nvPr/>
        </p:nvSpPr>
        <p:spPr>
          <a:xfrm>
            <a:off x="1719360" y="947880"/>
            <a:ext cx="657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67"/>
          <p:cNvSpPr/>
          <p:nvPr/>
        </p:nvSpPr>
        <p:spPr>
          <a:xfrm flipH="1">
            <a:off x="6984720" y="529272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47"/>
          <p:cNvSpPr/>
          <p:nvPr/>
        </p:nvSpPr>
        <p:spPr>
          <a:xfrm rot="18274800">
            <a:off x="7524720" y="4836600"/>
            <a:ext cx="731880" cy="817560"/>
          </a:xfrm>
          <a:custGeom>
            <a:avLst/>
            <a:gdLst>
              <a:gd name="textAreaLeft" fmla="*/ 106920 w 731880"/>
              <a:gd name="textAreaRight" fmla="*/ 624960 w 731880"/>
              <a:gd name="textAreaTop" fmla="*/ 119520 h 817560"/>
              <a:gd name="textAreaBottom" fmla="*/ 698040 h 8175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8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260280" y="1424160"/>
          <a:ext cx="8532720" cy="3200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1" name="AutoShape 627"/>
          <p:cNvSpPr/>
          <p:nvPr/>
        </p:nvSpPr>
        <p:spPr>
          <a:xfrm>
            <a:off x="2257560" y="4906800"/>
            <a:ext cx="6553080" cy="642960"/>
          </a:xfrm>
          <a:prstGeom prst="wedgeRoundRectCallout">
            <a:avLst>
              <a:gd name="adj1" fmla="val 7148"/>
              <a:gd name="adj2" fmla="val 116912"/>
              <a:gd name="adj3" fmla="val 16667"/>
            </a:avLst>
          </a:prstGeom>
          <a:solidFill>
            <a:srgbClr val="4329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28"/>
          <p:cNvSpPr/>
          <p:nvPr/>
        </p:nvSpPr>
        <p:spPr>
          <a:xfrm>
            <a:off x="2259000" y="3924360"/>
            <a:ext cx="6591240" cy="873000"/>
          </a:xfrm>
          <a:prstGeom prst="rect">
            <a:avLst/>
          </a:prstGeom>
          <a:solidFill>
            <a:srgbClr val="ebab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 (федеральные учреждения, подчинение субъекта РФ) медицинские организации распределяются по состоянию на конец отчетного год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29"/>
          <p:cNvSpPr/>
          <p:nvPr/>
        </p:nvSpPr>
        <p:spPr>
          <a:xfrm>
            <a:off x="2279520" y="2921040"/>
            <a:ext cx="6607440" cy="76212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47252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токсикологи (добавлены</a:t>
            </a:r>
            <a:r>
              <a:rPr b="1" lang="ru-RU" sz="2000" spc="-1" strike="noStrike">
                <a:solidFill>
                  <a:srgbClr val="64725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AutoShape 17"/>
          <p:cNvSpPr/>
          <p:nvPr/>
        </p:nvSpPr>
        <p:spPr>
          <a:xfrm>
            <a:off x="576360" y="6010200"/>
            <a:ext cx="4627440" cy="3970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3"/>
          <p:cNvSpPr/>
          <p:nvPr/>
        </p:nvSpPr>
        <p:spPr>
          <a:xfrm>
            <a:off x="471600" y="2274840"/>
            <a:ext cx="84247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6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7" name="Rectangle 915"/>
          <p:cNvSpPr/>
          <p:nvPr/>
        </p:nvSpPr>
        <p:spPr>
          <a:xfrm>
            <a:off x="3040200" y="2860560"/>
            <a:ext cx="5744880" cy="806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917"/>
          <p:cNvSpPr/>
          <p:nvPr/>
        </p:nvSpPr>
        <p:spPr>
          <a:xfrm>
            <a:off x="3125880" y="3902040"/>
            <a:ext cx="5586480" cy="552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Выноска со стрелкой вправо 2"/>
          <p:cNvSpPr/>
          <p:nvPr/>
        </p:nvSpPr>
        <p:spPr>
          <a:xfrm>
            <a:off x="2978280" y="5500800"/>
            <a:ext cx="685800" cy="1082520"/>
          </a:xfrm>
          <a:prstGeom prst="rightArrowCallout">
            <a:avLst>
              <a:gd name="adj1" fmla="val 24995"/>
              <a:gd name="adj2" fmla="val 25000"/>
              <a:gd name="adj3" fmla="val 25000"/>
              <a:gd name="adj4" fmla="val 64977"/>
            </a:avLst>
          </a:prstGeom>
          <a:solidFill>
            <a:srgbClr val="e78712"/>
          </a:solidFill>
          <a:ln cap="rnd" w="15840">
            <a:solidFill>
              <a:srgbClr val="aa6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17"/>
          <p:cNvSpPr/>
          <p:nvPr/>
        </p:nvSpPr>
        <p:spPr>
          <a:xfrm>
            <a:off x="3706920" y="5796000"/>
            <a:ext cx="5087880" cy="3967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обавлены строки 135,136,137,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1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b73c26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2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зависимо от должности, которую они занимают в среднем мед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6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7" name="Rectangle 719"/>
          <p:cNvSpPr/>
          <p:nvPr/>
        </p:nvSpPr>
        <p:spPr>
          <a:xfrm>
            <a:off x="2527200" y="3490920"/>
            <a:ext cx="6189840" cy="1371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5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804"/>
          <p:cNvSpPr/>
          <p:nvPr/>
        </p:nvSpPr>
        <p:spPr>
          <a:xfrm>
            <a:off x="2494080" y="5275440"/>
            <a:ext cx="6273720" cy="1301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 эпидемиолога, врача-паразитолога, врача по гигиене детей и подростков, врача по гигиене питания, врача по гигиене труда, врача по гигиеническому воспитанию, врача по коммунальной 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edd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252"/>
          <p:cNvSpPr/>
          <p:nvPr/>
        </p:nvSpPr>
        <p:spPr>
          <a:xfrm>
            <a:off x="446040" y="5267160"/>
            <a:ext cx="8361360" cy="7700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 строка «Инструкторы по лечебной физкультуре (без среднего медицинского образования)» (ранее строка 213, ф.№30 за 2017 год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4" name=""/>
          <p:cNvGraphicFramePr/>
          <p:nvPr/>
        </p:nvGraphicFramePr>
        <p:xfrm>
          <a:off x="344520" y="979560"/>
          <a:ext cx="8570880" cy="4714920"/>
        </p:xfrm>
        <a:graphic>
          <a:graphicData uri="http://schemas.openxmlformats.org/drawingml/2006/table">
            <a:tbl>
              <a:tblPr/>
              <a:tblGrid>
                <a:gridCol w="2333520"/>
                <a:gridCol w="500040"/>
                <a:gridCol w="527040"/>
                <a:gridCol w="587520"/>
                <a:gridCol w="615960"/>
                <a:gridCol w="581040"/>
                <a:gridCol w="681120"/>
                <a:gridCol w="652320"/>
                <a:gridCol w="676440"/>
                <a:gridCol w="733320"/>
                <a:gridCol w="68256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лаборантов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Rectangle 694"/>
          <p:cNvSpPr/>
          <p:nvPr/>
        </p:nvSpPr>
        <p:spPr>
          <a:xfrm>
            <a:off x="374760" y="5673600"/>
            <a:ext cx="8523000" cy="9651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заполняются по графам 9, 10, 11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по графам с 3 по 8, с 12 по 15 не заполн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6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едицинского образования занимающих должности </a:t>
                      </a: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7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медицинских регистраторов, медицинских дезинфекторов, инструкторов по лечебной физкультуре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студентов медицинских Вузов, имеющих 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0" name=""/>
          <p:cNvGraphicFramePr/>
          <p:nvPr/>
        </p:nvGraphicFramePr>
        <p:xfrm>
          <a:off x="233280" y="250920"/>
          <a:ext cx="8720280" cy="62452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1" name="Rectangle 1108"/>
          <p:cNvSpPr/>
          <p:nvPr/>
        </p:nvSpPr>
        <p:spPr>
          <a:xfrm>
            <a:off x="3703680" y="2583000"/>
            <a:ext cx="5276880" cy="13539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физических лиц в медицинских организациях равно сумме стр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24+225+2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Прямоугольник 1"/>
          <p:cNvSpPr/>
          <p:nvPr/>
        </p:nvSpPr>
        <p:spPr>
          <a:xfrm>
            <a:off x="3794040" y="4803840"/>
            <a:ext cx="5211720" cy="1471680"/>
          </a:xfrm>
          <a:prstGeom prst="rect">
            <a:avLst/>
          </a:prstGeom>
          <a:solidFill>
            <a:srgbClr val="c8c3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 Строки 225 и 229 включают в себ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ФИЗИЧЕСКИЕ 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 с ВНО и лиц без медицинского образования,  занимающие должности врачей и среднего медицин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3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ца отделений (кабинетов) </a:t>
                      </a:r>
                      <a:r>
                        <a:rPr b="1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филактики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8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4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1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Выноска 1 (с границей) 1"/>
          <p:cNvSpPr/>
          <p:nvPr/>
        </p:nvSpPr>
        <p:spPr>
          <a:xfrm>
            <a:off x="7542360" y="677880"/>
            <a:ext cx="1601640" cy="10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97" y="35221"/>
                </a:moveTo>
                <a:lnTo>
                  <a:pt x="-1028" y="2404"/>
                </a:lnTo>
              </a:path>
              <a:path w="21600" h="21600">
                <a:moveTo>
                  <a:pt x="-1028" y="0"/>
                </a:moveTo>
                <a:lnTo>
                  <a:pt x="-1028" y="21600"/>
                </a:lnTo>
              </a:path>
            </a:pathLst>
          </a:custGeom>
          <a:solidFill>
            <a:srgbClr val="c8c38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 графы «штатные должности», «физические лица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Прямая соединительная линия 3"/>
          <p:cNvSpPr/>
          <p:nvPr/>
        </p:nvSpPr>
        <p:spPr>
          <a:xfrm>
            <a:off x="9777240" y="2013120"/>
            <a:ext cx="254160" cy="1307880"/>
          </a:xfrm>
          <a:prstGeom prst="line">
            <a:avLst/>
          </a:prstGeom>
          <a:ln cap="rnd" w="1908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51 (заведующие ФАП) таблицы 1100 меньше или равны строке 2+3+4 таблицы 11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3 (средний медперсонал всего) по графам 5, 6 и 10 (в поликлинике)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2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208 (фельдшеры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3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8 (акушерки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4 (медицинские сестры)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67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Выноска 2 (с границей) 1"/>
          <p:cNvSpPr/>
          <p:nvPr/>
        </p:nvSpPr>
        <p:spPr>
          <a:xfrm>
            <a:off x="6005520" y="3168720"/>
            <a:ext cx="2389320" cy="601560"/>
          </a:xfrm>
          <a:solidFill>
            <a:srgbClr val="e7871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4 «Медицинские сестры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2"/>
          <p:cNvSpPr/>
          <p:nvPr/>
        </p:nvSpPr>
        <p:spPr>
          <a:xfrm>
            <a:off x="5519880" y="2336760"/>
            <a:ext cx="3220920" cy="460440"/>
          </a:xfrm>
          <a:prstGeom prst="rect">
            <a:avLst/>
          </a:prstGeom>
          <a:solidFill>
            <a:srgbClr val="f4b76e"/>
          </a:solidFill>
          <a:ln cap="rnd" w="15840">
            <a:solidFill>
              <a:srgbClr val="b38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равна сумме строк с 2 по 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Согласно приказу Минздравсоцразвития РФ от 15 мая 2012 №543н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лжность заведующего фельдшерско-акушерским пунктом - фельдшера назначается медицинский работник, соответствующий Квалификационным требованиям к медицинским и фармацевтическим работникам со средним медицинским и фармацевтическим образованием, утвержденным приказом Министерства здравоохранения Российской Федерации от 10 февраля 2016 г. N 83н, по специальности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"лечебное дело" или "акушерское дело" или "сестринское дело"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ключая заведующ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6" name="Прямоугольник 1"/>
          <p:cNvSpPr/>
          <p:nvPr/>
        </p:nvSpPr>
        <p:spPr>
          <a:xfrm>
            <a:off x="736560" y="5797440"/>
            <a:ext cx="8016840" cy="7016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на соответствие табл.1102 ф. 30 с ф. 30-село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                            Должность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465120" y="3151080"/>
          <a:ext cx="8305920" cy="280368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0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Text Box 2"/>
          <p:cNvSpPr/>
          <p:nvPr/>
        </p:nvSpPr>
        <p:spPr>
          <a:xfrm>
            <a:off x="1486080" y="3808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1257480" y="3809880"/>
            <a:ext cx="6514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1257480" y="762120"/>
          <a:ext cx="6572160" cy="2984400"/>
        </p:xfrm>
        <a:graphic>
          <a:graphicData uri="http://schemas.openxmlformats.org/drawingml/2006/table">
            <a:tbl>
              <a:tblPr/>
              <a:tblGrid>
                <a:gridCol w="4286160"/>
                <a:gridCol w="743040"/>
                <a:gridCol w="1542960"/>
              </a:tblGrid>
              <a:tr h="3088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омплекс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0" name="Rectangle 228"/>
          <p:cNvSpPr/>
          <p:nvPr/>
        </p:nvSpPr>
        <p:spPr>
          <a:xfrm>
            <a:off x="396720" y="3833640"/>
            <a:ext cx="8274240" cy="136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о провести сверку с мониторингом по участковой службе с количеством терапевтических участков и участков общей врачебной практики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2"/>
          <p:cNvSpPr/>
          <p:nvPr/>
        </p:nvSpPr>
        <p:spPr>
          <a:xfrm>
            <a:off x="1486080" y="2970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84"/>
          <p:cNvSpPr/>
          <p:nvPr/>
        </p:nvSpPr>
        <p:spPr>
          <a:xfrm>
            <a:off x="280980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86"/>
          <p:cNvSpPr/>
          <p:nvPr/>
        </p:nvSpPr>
        <p:spPr>
          <a:xfrm>
            <a:off x="334332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792000" y="838080"/>
          <a:ext cx="7412040" cy="3932280"/>
        </p:xfrm>
        <a:graphic>
          <a:graphicData uri="http://schemas.openxmlformats.org/drawingml/2006/table">
            <a:tbl>
              <a:tblPr/>
              <a:tblGrid>
                <a:gridCol w="882720"/>
                <a:gridCol w="587520"/>
                <a:gridCol w="631800"/>
                <a:gridCol w="644400"/>
                <a:gridCol w="447840"/>
                <a:gridCol w="639720"/>
                <a:gridCol w="779400"/>
                <a:gridCol w="771480"/>
                <a:gridCol w="447840"/>
                <a:gridCol w="685800"/>
                <a:gridCol w="893520"/>
              </a:tblGrid>
              <a:tr h="3049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5" name="Rectangle 497"/>
          <p:cNvSpPr/>
          <p:nvPr/>
        </p:nvSpPr>
        <p:spPr>
          <a:xfrm>
            <a:off x="415800" y="5132520"/>
            <a:ext cx="8410680" cy="1425600"/>
          </a:xfrm>
          <a:prstGeom prst="rect">
            <a:avLst/>
          </a:prstGeom>
          <a:solidFill>
            <a:srgbClr val="d2b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10 «Число физических лиц основных работников, находящихся в декретном и долгосрочном отпуск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, в связи с внесением изменений в таблицу 1100, где добавлена графа 17 «Находятся в декретном и долгосрочном отпуске (из гр.9), чел.)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02"/>
          <p:cNvSpPr/>
          <p:nvPr/>
        </p:nvSpPr>
        <p:spPr>
          <a:xfrm>
            <a:off x="3867120" y="1279440"/>
            <a:ext cx="508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ТАБЛИЦА УДАЛ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2"/>
          <p:cNvSpPr/>
          <p:nvPr/>
        </p:nvSpPr>
        <p:spPr>
          <a:xfrm>
            <a:off x="415800" y="1932120"/>
            <a:ext cx="8496360" cy="418464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5"/>
          <p:cNvSpPr/>
          <p:nvPr/>
        </p:nvSpPr>
        <p:spPr>
          <a:xfrm flipH="1">
            <a:off x="1676520" y="838080"/>
            <a:ext cx="6943680" cy="417528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694"/>
          <p:cNvSpPr/>
          <p:nvPr/>
        </p:nvSpPr>
        <p:spPr>
          <a:xfrm>
            <a:off x="1924200" y="3056040"/>
            <a:ext cx="7010280" cy="52380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60 «по паллиативной медицинской помощи» - посещения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698"/>
          <p:cNvSpPr/>
          <p:nvPr/>
        </p:nvSpPr>
        <p:spPr>
          <a:xfrm>
            <a:off x="1914480" y="3792600"/>
            <a:ext cx="7010280" cy="1407960"/>
          </a:xfrm>
          <a:prstGeom prst="rect">
            <a:avLst/>
          </a:prstGeom>
          <a:solidFill>
            <a:srgbClr val="eae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(посещения, которые ранее вносились в таб. 2102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.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76320" y="1066680"/>
          <a:ext cx="8839080" cy="491040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698"/>
          <p:cNvSpPr/>
          <p:nvPr/>
        </p:nvSpPr>
        <p:spPr>
          <a:xfrm>
            <a:off x="2028960" y="3456000"/>
            <a:ext cx="6892920" cy="193032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целях повышения эффективности оказания первичной медико-санитарной помощи при внезапных острых заболеваниях, состояниях, обострении хронических заболеваний, не опасных для жизни пациента и не требующих экстренной медицинской помощи, в структуре медицинских организаций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может организовываться отделение (кабинет) неотложной медицинской помощ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ая выноска 10"/>
          <p:cNvSpPr/>
          <p:nvPr/>
        </p:nvSpPr>
        <p:spPr>
          <a:xfrm>
            <a:off x="4137120" y="5754600"/>
            <a:ext cx="2943000" cy="790560"/>
          </a:xfrm>
          <a:prstGeom prst="wedgeRectCallout">
            <a:avLst>
              <a:gd name="adj1" fmla="val -19768"/>
              <a:gd name="adj2" fmla="val -83750"/>
            </a:avLst>
          </a:prstGeom>
          <a:solidFill>
            <a:srgbClr val="f7cf9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ьше данных таблицы 210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9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4"/>
          <p:cNvSpPr/>
          <p:nvPr/>
        </p:nvSpPr>
        <p:spPr>
          <a:xfrm rot="18941400">
            <a:off x="1488600" y="3830400"/>
            <a:ext cx="4146840" cy="528480"/>
          </a:xfrm>
          <a:custGeom>
            <a:avLst/>
            <a:gdLst>
              <a:gd name="textAreaLeft" fmla="*/ 648000 w 4146840"/>
              <a:gd name="textAreaRight" fmla="*/ 3628800 w 414684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3"/>
          <p:cNvGrpSpPr/>
          <p:nvPr/>
        </p:nvGrpSpPr>
        <p:grpSpPr>
          <a:xfrm>
            <a:off x="4567320" y="3056040"/>
            <a:ext cx="4343400" cy="2397600"/>
            <a:chOff x="4567320" y="3056040"/>
            <a:chExt cx="4343400" cy="2397600"/>
          </a:xfrm>
        </p:grpSpPr>
        <p:sp>
          <p:nvSpPr>
            <p:cNvPr id="1332" name="AutoShape 8"/>
            <p:cNvSpPr/>
            <p:nvPr/>
          </p:nvSpPr>
          <p:spPr>
            <a:xfrm>
              <a:off x="4567320" y="3056040"/>
              <a:ext cx="4343400" cy="191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4851000" y="3110400"/>
              <a:ext cx="3791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5 может быть больше т2100 (за счет посещений в неотложной форме вне кабинетов неотложной медицинской помощи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8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4"/>
          <p:cNvSpPr/>
          <p:nvPr/>
        </p:nvSpPr>
        <p:spPr>
          <a:xfrm rot="19686600">
            <a:off x="1738080" y="5483160"/>
            <a:ext cx="3063600" cy="528840"/>
          </a:xfrm>
          <a:custGeom>
            <a:avLst/>
            <a:gdLst>
              <a:gd name="textAreaLeft" fmla="*/ 478440 w 3063600"/>
              <a:gd name="textAreaRight" fmla="*/ 2680920 w 3063600"/>
              <a:gd name="textAreaTop" fmla="*/ 132120 h 528840"/>
              <a:gd name="textAreaBottom" fmla="*/ 396720 h 528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3"/>
          <p:cNvGrpSpPr/>
          <p:nvPr/>
        </p:nvGrpSpPr>
        <p:grpSpPr>
          <a:xfrm>
            <a:off x="3697200" y="1565280"/>
            <a:ext cx="4372200" cy="2721960"/>
            <a:chOff x="3697200" y="1565280"/>
            <a:chExt cx="4372200" cy="2721960"/>
          </a:xfrm>
        </p:grpSpPr>
        <p:sp>
          <p:nvSpPr>
            <p:cNvPr id="1341" name="AutoShape 8"/>
            <p:cNvSpPr/>
            <p:nvPr/>
          </p:nvSpPr>
          <p:spPr>
            <a:xfrm>
              <a:off x="3697200" y="1565280"/>
              <a:ext cx="4372200" cy="2500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1"/>
            <p:cNvSpPr/>
            <p:nvPr/>
          </p:nvSpPr>
          <p:spPr>
            <a:xfrm>
              <a:off x="4086000" y="1669680"/>
              <a:ext cx="381780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0 (стр 124) +т.2102 (выездная патронажная служба) равна или меньше т2105 (за счет посещений по паллиативной помощи вне кабинетов и отделений по паллиативной помощи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аблица 2101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152280" y="914400"/>
          <a:ext cx="8763120" cy="356544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628"/>
          <p:cNvSpPr/>
          <p:nvPr/>
        </p:nvSpPr>
        <p:spPr>
          <a:xfrm>
            <a:off x="6238800" y="635040"/>
            <a:ext cx="2724120" cy="2598840"/>
          </a:xfrm>
          <a:prstGeom prst="rect">
            <a:avLst/>
          </a:prstGeom>
          <a:solidFill>
            <a:srgbClr val="ddd9b0"/>
          </a:solidFill>
          <a:ln cap="rnd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отделений (кабинетов) неотложной медицинской помощи и пунктов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2"/>
          <p:cNvSpPr/>
          <p:nvPr/>
        </p:nvSpPr>
        <p:spPr>
          <a:xfrm>
            <a:off x="152280" y="4632480"/>
            <a:ext cx="8744040" cy="198108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не включаю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блица 2102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466560" y="1467000"/>
          <a:ext cx="8239320" cy="91440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ыездной патронажной службы паллиативной помощи для оказания паллиативной медицинской помощи на дому: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1___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детям 2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1" name="Прямоугольник 1"/>
          <p:cNvSpPr/>
          <p:nvPr/>
        </p:nvSpPr>
        <p:spPr>
          <a:xfrm>
            <a:off x="457200" y="2511360"/>
            <a:ext cx="8229600" cy="119124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полностью изменена (таб.2102 «Посещения врачами пунктов (кабинетов) неотложной медицинской помощи на дому», ф.№30 за 2017 год), вышеуказанные посещения теперь указываются в таб.2100, стр. 12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626"/>
          <p:cNvSpPr/>
          <p:nvPr/>
        </p:nvSpPr>
        <p:spPr>
          <a:xfrm>
            <a:off x="6798600" y="42372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Прямоугольник 1"/>
          <p:cNvSpPr/>
          <p:nvPr/>
        </p:nvSpPr>
        <p:spPr>
          <a:xfrm>
            <a:off x="407880" y="3914640"/>
            <a:ext cx="8229600" cy="916920"/>
          </a:xfrm>
          <a:prstGeom prst="rect">
            <a:avLst/>
          </a:prstGeom>
          <a:solidFill>
            <a:srgbClr val="f7c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блицу вносятся посещения патронажной службой паллиативной помощи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рачей-специалистов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казывающих паллиативную медицинскую помощь на дому: всего, из них детя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"/>
          <p:cNvSpPr/>
          <p:nvPr/>
        </p:nvSpPr>
        <p:spPr>
          <a:xfrm>
            <a:off x="485640" y="5029200"/>
            <a:ext cx="820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блица 2103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Посещения к врачам центров здоровья и комплексные обследования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далена!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обого типа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9" name="Прямоугольник 3"/>
          <p:cNvSpPr/>
          <p:nvPr/>
        </p:nvSpPr>
        <p:spPr>
          <a:xfrm>
            <a:off x="2197080" y="3621240"/>
            <a:ext cx="6634080" cy="119016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324000" y="1327320"/>
          <a:ext cx="8450280" cy="49496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 аттестационных комиссий, о присвоении специалистам, прошедшим аттестацию, квалификационных катего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3" name="Text Box 541"/>
          <p:cNvSpPr/>
          <p:nvPr/>
        </p:nvSpPr>
        <p:spPr>
          <a:xfrm>
            <a:off x="7067520" y="4149720"/>
            <a:ext cx="1471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Добавлены граф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647252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7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1"/>
          <p:cNvSpPr/>
          <p:nvPr/>
        </p:nvSpPr>
        <p:spPr>
          <a:xfrm>
            <a:off x="1278000" y="4186080"/>
            <a:ext cx="6670440" cy="152028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нтроль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а 15 + Графа 16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ожет быть больше Графы 9 по всем строка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Group 3" descr=""/>
          <p:cNvPicPr/>
          <p:nvPr/>
        </p:nvPicPr>
        <p:blipFill>
          <a:blip r:embed="rId1"/>
          <a:stretch/>
        </p:blipFill>
        <p:spPr>
          <a:xfrm>
            <a:off x="792000" y="5327640"/>
            <a:ext cx="76028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374760" y="801720"/>
          <a:ext cx="8450280" cy="218916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4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"/>
          <p:cNvSpPr/>
          <p:nvPr/>
        </p:nvSpPr>
        <p:spPr>
          <a:xfrm>
            <a:off x="1257480" y="162000"/>
            <a:ext cx="659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1"/>
          <p:cNvSpPr/>
          <p:nvPr/>
        </p:nvSpPr>
        <p:spPr>
          <a:xfrm>
            <a:off x="374760" y="3652920"/>
            <a:ext cx="8383320" cy="184500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рафа 17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ключаютс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лица, не работающие в связи с временной или частичной утратой трудоспособ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гр. 17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 лиц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числа основных работников, находящихся в декретном отпуске (отпуск по беременности и родам ), отпуск по уходу за ребенком  до достижения им возраста 3-х лет, отпуске без сохранения заработной платы (по семейным и другим уважительным причинам) в течении отчетного год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3T07:02:38Z</dcterms:modified>
  <cp:revision>114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