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  <p:sldId id="274" r:id="rId38"/>
    <p:sldId id="275" r:id="rId3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slide" Target="slides/slide19.xml"/><Relationship Id="rId39" Type="http://schemas.openxmlformats.org/officeDocument/2006/relationships/slide" Target="slides/slide20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9501-33D9-4D27-8D08-CFD49D9C6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87C5-5B72-4C35-B84C-10B399886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9ADCD4-9C4F-4A09-82D6-710E7B87C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5B33C5-79D3-4981-AB5E-6CB3949DB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562E0A-A884-428A-B04F-01D81E6DB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34E63A-B997-49B9-B0C9-AD2FB82F0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670F24-5881-4D95-A856-A3F701767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86E3B4-AD44-4626-9242-B27911B9D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35F036-4ECD-4DBF-A177-AF0698599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73FBFE-131E-404D-81E8-B9142BE50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3FF718-7446-4BA9-9F42-A4740CDCB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EBAA5E-462D-4381-852A-B50D0A246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5D9C-45F9-467E-A41B-4DE7455FC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037949-E3E0-4300-93E2-44A62072A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AC7EB5-3776-4C76-9131-BFEA7425C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E013CC-A912-4D9C-A9E7-ED7ED88DE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7D7DC5-C8D6-4139-A3E6-180E752B9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FF1AF0-ABAC-4083-89E7-2EA7ACF9E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14C6AF-F17C-4BB9-8619-9A0BA6C65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AD0E70-5A39-4049-B8C6-729D80AF2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D71024-D379-4C6F-8202-148A922FD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FFAC5B-CB8E-45B6-8438-DD52223E8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CB5CDF-7AFB-4C33-991D-E20C8571B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2950-50A1-400D-8C59-02EB2A494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8A1EFA-E97E-46D9-97CF-AED3F41A7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E0AF82-8E49-499F-9393-1914D318B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FF07FA-4053-4651-9F5B-45E17DA50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FA997E-0E9F-4BCC-8A69-5D4203D39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58DFEE-9EC7-4BCA-8338-38915778B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852B0A-0C5E-4A5C-A98D-6E612D637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43ADBB-30D6-4538-9D91-F152CBCDA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9C0372-F3EA-4F7D-B0A8-C706C206A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FB3C66-197E-4D16-857F-437A2EC99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F14DA1-69D2-4883-B521-EC5FD9329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A1F9D-5A5C-47A2-A2DB-A93DD06D5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7B0B1B-79A1-47BB-A98B-426F2D311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D80C42-ED4E-436E-A6D8-0C19D524D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21C911-1B5C-4808-8A66-D79EC659E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438E01-4570-48B3-A0DC-AAB25DB5E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9A78F0-3DD8-4230-A84D-88FB23636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9A7BA5-02F0-4F14-BEA5-9711F788D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071734-03EE-4AF2-B847-69BC4409A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73A2AC-EFA5-4905-A5E0-7520877C0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6B8340-92D4-4A40-9D5C-499F40CBB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5B2AD3-1EB9-4A0C-A787-7987E05FD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73943-3D4F-4753-853F-B35501B0A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18F64D-7C9E-4165-B38D-32A0FB983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652026-F43F-443F-8DE0-B400891AB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81DCD0-11B1-4001-9B39-C7610E8FA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C48618-ED3D-4329-B1B1-A8FFFCC0A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D2F243-B98C-4F44-8F61-5C617EF24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7266AC-4643-4AA6-8DDD-51CF6C3CF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B0AAF5-06F0-467F-BF28-8E22DAA1C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6DD744-7B14-4D7D-BC82-5D067C6E4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C960D5-3082-47FB-AA97-12DF3619F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521C16-7D83-415A-884D-3332E8A50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65C81-E4AD-4C47-A593-770592E87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4962EA-B744-400A-A29E-9CF425948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ED2D27-EF07-4977-8048-A83BAB34B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709450-B785-4E3D-A35F-F1FD35E6A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EEDA9A-93A0-4112-86F0-60F01B4A1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CAFA01-379D-4B39-B1C4-BF47E5DDF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D1997A-1332-4770-A4AC-BCA8D3B3B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ABEB56-FEB2-4C19-9984-B34DB3874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EF002FE-0726-43F7-85BB-D40CD9ECA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597F34-663D-435E-8CD6-97198D35F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B291AE-D3F7-45C2-906A-B374450F3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D1FF7-4F21-4578-A34B-25B703EF6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C5A953-16B8-49CB-A47B-EFC69439D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9B17C1-ED53-408D-96F5-CCBAF14D2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C726750-B307-4C88-9D3D-9B2E26A60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730D03-A97C-42A6-974A-187780D1A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E65CD43-23CC-4BB6-B315-466073D5E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6409C4-F04C-4012-8B91-F035D0C9F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296630-71DA-4132-A86F-3E49D4D56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E3E725-EFE3-4DA5-8527-284A7BD8B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1D2AF9-F124-426D-B4A3-C59C3C18F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0A1FF6C-62D1-47C6-9AF4-8A60EF023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8698B-ABEF-4B93-94DA-4113E6756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7506C37-503A-4661-97FE-AB01E0238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FB1068A-110A-40D5-91D8-A41094F3E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1D27438-025A-4073-9D6B-61DA9BE7E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D029432-7814-4A49-B1FE-8287821B3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03BFCF3-E934-4002-A2DB-8E97D507A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FCF8DC8-093B-45D4-9034-DACF834E0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247D58A-8B1B-447F-9F6F-1FA9B1EA4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614CACF-CBCA-46F9-899F-F9DB2207E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0C45171-271A-4A9E-BF5F-07BB4D4B8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80B0922-4A72-427E-9058-FF4D385BA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E6851-2A18-4B6E-9D03-B746819AE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FC24FED-C195-41DA-B2C9-F97E4060B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ED3C1E9-8936-4C47-8F38-E9030E212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C63B9C5-CBF2-422E-BEAF-22C830900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C27C7BF-F034-42EF-A4E3-1E78023F8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43F277D-3767-46DB-8B2A-E56D0D183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0663D17-B4DA-4298-AC0B-A8888A97B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EF76656-505C-4AE0-A5DC-791A35FBB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F92EE1D-5AB4-4226-B9B0-14D90F090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8ED5FFF-BFB9-433E-86EE-149B13D6F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4D82DE9-C557-4C0F-A9C0-9CC951467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EC132-E444-407C-8B39-3CA501A90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048203C-DB81-49F7-BEFA-BED9B0EDE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B11F51F-6197-439B-9ACB-00089B564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E2FF41F-2159-4180-8531-82531E5BF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1FFD356-EEBA-4EA7-9073-05550A674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AD3FF4C-DA81-4D9B-A8CB-BA5790EEE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B0AD076-AE1B-4DC4-B85B-6EF6DEFD8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8867D31-8CED-4987-B2D6-637D57AFE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42621A5-B12D-4164-8C97-EFA0082C8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1844DDA-D87B-41B0-8837-C7F09E0AF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DEA327C-5A6D-44C2-8568-63E4DE904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84A1-6C07-4E1D-85FA-E755BBCA7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507AE-F548-440D-87FD-A3B22C5F9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314B1D5-F4D5-4A74-8C45-EA602BF7F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4FE2142-7153-47BB-90CD-3B02A7C1C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13C7988-7CC4-483F-973D-967C72B44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663F4C7-2AA7-42C6-99E2-D7A51B0AA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557E7E9-68D5-4E9A-B924-112E66563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7F3F0D38-FF9C-44F5-8FD3-0C3BC285D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09504CC8-B7C0-4F5E-A993-57CD53905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E13782F9-581D-4D4C-B951-ED16A8357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AE61199E-4117-415D-BF76-6F930AD56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CF0F218E-67CD-4CAF-9806-8B0E7543D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87A80-2CE4-430B-9890-83CD51F00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AEF03D95-2F01-4F97-97BF-F2977B369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F2381721-F341-4192-A203-835A07A21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4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8433CF68-3267-47F4-AA55-999E727B0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C1D65E15-CC27-4C4F-86BF-8521D033D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B102D7EE-ECA9-44E4-80A3-F50D7D64B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6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963310E4-8E23-41BD-8A83-3355E9165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9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0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1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2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3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A66EF5BB-1F45-4A10-A3F7-5A3F096A9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23109-4A5E-476F-BEFF-3DAC7686C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FF0CA-1F84-4424-83CE-C550CCA27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10AAA-AFFF-4AB9-800F-5FD76CE27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3AFF66-4CC3-42D5-BE2F-147D556BD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25ED9B-7924-43FD-B583-00BE981E3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97CA2E-68A5-4074-8545-300538609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59768A-B471-43D5-99E1-0EF2F4DD6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396393-DE2D-4F85-9ABE-175D011C0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F3EC-CC3C-4115-BDB1-E48F4B93C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0934E0-13EC-43F7-9B68-630CBB48D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8D79B7-F701-45F5-8D22-7D5F5C39F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25B3CB-3650-44EF-B2F2-688F707C3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2B332C-2C3A-47EB-81AB-930C3D748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15A1F6-98F6-472F-BC25-16B01171B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49E811-26A4-4DF3-8629-EEFFF26E0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FE0A9C-1EEF-4705-A02A-D01D9A9A9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12DA9E-FFA8-4753-9836-D4CA5AE57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B5FFBA-F0DA-4224-B755-12CA57FE5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0F3ACE-A31D-4AAC-A7D5-E08E6A5EA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8D42-0105-4A0E-AF8A-27131F1DA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52CADE-9022-423F-ADBF-3AC6D6645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937508-46EA-4C2F-9798-763327B36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0C0BC0-15E6-4B13-A4D3-74DD517D4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DE2159-E80C-4BCF-8313-A54DFAE9E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A34705-4705-4D94-8E42-5641EE021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0DED7D-DF5B-4E83-BCBD-6D204C961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559096-7997-443B-83B0-83488E2A7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2516B0-6F26-4CEF-9C35-2A42A2748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67D9F9-7D7C-4C07-ADCB-3E639C4D0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E87369-437B-439D-A3F7-82AD0FAE0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B2ED-3417-41E3-AC2A-B4AAE953F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C9187B-799D-4CB8-A933-50C11EB3F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192B81-0922-4DF5-9BDC-86F3A8919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B70450-586E-439A-8997-E47FECC57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98B4D8-B134-4A32-B823-259814E65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C2EFFF-1C86-4279-83D1-26B78AF50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3AFC1B-7CAB-4A26-B5BE-C5606C43E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4C9D30-4C9B-45F5-8E07-EBE643935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ED9545-92EA-4A16-B185-E847FBD68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3D109A-374E-40C7-A1B9-0B7C666EE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C150DE-E03C-402C-B8BD-E0F5FCB1B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E762-EE58-4280-9AA3-F1DE0DBAA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6103C5-E7F6-4A54-8153-424F0F71C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21C692-B02C-4F79-9652-442AB539E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DE4E04-74A8-46E7-AF16-020BD8FF6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B5847D-5159-4D01-A519-49F316F12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9CD2A5-A891-4249-BFB7-A7A66EC45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2EB22C-E2B7-4976-8567-7C4707E82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3D1221-D738-4A32-972E-11532D233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180DB8-49F6-4147-844E-D53196FB1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030EC4-8FA6-4379-A110-960D35683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DE19E6-C8D3-4446-8349-108D3A39A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C314-25A3-41AD-A797-9B8E31415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FD75DC-82AB-493A-8283-50351999C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B92763-FCA7-451C-9785-4F8DA90B5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80E982-D400-449A-AA07-C1E8872F8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C6E9D8-DE08-4875-9392-55DCD6FC5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DD88DB-F4DA-4D11-B714-EC99047AC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CBB21D-EFB6-420F-A692-01B961513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E5CD00-93D0-4FBA-8202-0CC3D12B9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F27AB3-7B04-4071-995C-66F469F73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E2C964-ED50-4BA2-AE04-E78B48D8F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DAB4B9-3C8F-4B70-9B95-4385DBC0C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573E-A9F2-4DD4-ACDD-377A5C1C2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0F1671-4F3D-4E31-B163-41B1EB86E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7008EA-F437-4A77-9394-D0F346BEB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748B7A-AD0A-4B77-A475-99FF0F974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DF2011-39BA-4A38-AF22-86D855DB0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89D6EC-EFCF-494C-8FAD-4DF1DE956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D92E1C-B2C8-4141-B7F0-FC53BCF67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3C4447-8DCC-42EA-8862-6BD49278E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B1847F-FDE6-473B-820B-14B854FD8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841783-7C0D-48AF-8F1E-5C927B479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4F6899-8E8B-4668-814D-03D713C05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99AC-7473-4388-8708-7B1AB0B19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B72A2F-8EFB-40F9-9219-ABE71D764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5190AE-B9F5-46E2-8B03-54F1C46F8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343643-14CE-4DF6-B4B8-C51D0927C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3E1F7B-DA0F-4FBC-883E-D58117766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D3F820-DA98-406D-898C-392DE9986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FEE624-B62D-45E1-923D-288D3D581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C60992-4166-4778-815B-C1A94E7DD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B4328F-87EA-4762-8927-C45AC312B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7A9409-2210-414F-A3CE-5D4064C7B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4B3A5D-A50C-4E94-B598-C4CEE2F90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9A73D-4C9F-4CF8-B5F2-03ADCDB59012}" type="slidenum">
              <a:rPr b="0" lang="ru-RU" sz="24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2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63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28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29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30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2F8FD-544F-414B-A037-148987A9679C}" type="slidenum">
              <a:rPr b="0" lang="ru-RU" sz="24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0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dt" idx="3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ftr" idx="3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sldNum" idx="33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E69DD-8AD1-4EC9-9296-4700CEA24DA3}" type="slidenum">
              <a:rPr b="0" lang="ru-RU" sz="24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75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7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dt" idx="3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 type="ftr" idx="3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 type="sldNum" idx="36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3BA4E-E396-48AC-BCCF-C48E8669904B}" type="slidenum">
              <a:rPr b="0" lang="ru-RU" sz="24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3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4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dt" idx="3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ftr" idx="3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sldNum" idx="39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7F89A-B79D-4C5E-BF87-F03480D0BD51}" type="slidenum">
              <a:rPr b="0" lang="ru-RU" sz="24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9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1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 type="dt" idx="4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 type="ftr" idx="4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 type="sldNum" idx="42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462F7-79A3-47D3-A8DD-AC2F3BB53F9C}" type="slidenum">
              <a:rPr b="0" lang="ru-RU" sz="24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97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8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dt" idx="4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 type="ftr" idx="4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 type="sldNum" idx="45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8898E-1171-43F6-A457-898A6C4E7FF5}" type="slidenum">
              <a:rPr b="0" lang="ru-RU" sz="24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03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05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4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4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4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225C1-C9FC-4976-AC3C-CFD169A5DCF7}" type="slidenum">
              <a:rPr b="0" lang="ru-RU" sz="24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0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2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 type="dt" idx="4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 type="ftr" idx="5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 type="sldNum" idx="5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28CFA-3416-4F9C-8F4E-FDB45DFC32A4}" type="slidenum">
              <a:rPr b="0" lang="ru-RU" sz="24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77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90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 type="ftr" idx="5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 type="sldNum" idx="53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BCC7A-2680-4351-B39B-DE4AA1E02F8E}" type="slidenum">
              <a:rPr b="0" lang="ru-RU" sz="24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PlaceHolder 5"/>
          <p:cNvSpPr>
            <a:spLocks noGrp="1"/>
          </p:cNvSpPr>
          <p:nvPr>
            <p:ph type="dt" idx="5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Freeform 8"/>
          <p:cNvSpPr/>
          <p:nvPr/>
        </p:nvSpPr>
        <p:spPr>
          <a:xfrm>
            <a:off x="-31680" y="4321080"/>
            <a:ext cx="1395360" cy="781200"/>
          </a:xfrm>
          <a:custGeom>
            <a:avLst/>
            <a:gdLst/>
            <a:ahLst/>
            <a:rect l="l" t="t" r="r" b="b"/>
            <a:pathLst>
              <a:path w="8042" h="10000">
                <a:moveTo>
                  <a:pt x="5799" y="10000"/>
                </a:moveTo>
                <a:cubicBezTo>
                  <a:pt x="5880" y="10000"/>
                  <a:pt x="5934" y="9940"/>
                  <a:pt x="5961" y="9880"/>
                </a:cubicBezTo>
                <a:cubicBezTo>
                  <a:pt x="5961" y="9820"/>
                  <a:pt x="5988" y="9820"/>
                  <a:pt x="5988" y="9820"/>
                </a:cubicBezTo>
                <a:lnTo>
                  <a:pt x="8042" y="5260"/>
                </a:lnTo>
                <a:cubicBezTo>
                  <a:pt x="8096" y="5140"/>
                  <a:pt x="8096" y="4901"/>
                  <a:pt x="8042" y="4721"/>
                </a:cubicBezTo>
                <a:lnTo>
                  <a:pt x="5988" y="221"/>
                </a:lnTo>
                <a:cubicBezTo>
                  <a:pt x="5988" y="160"/>
                  <a:pt x="5961" y="160"/>
                  <a:pt x="5961" y="160"/>
                </a:cubicBezTo>
                <a:cubicBezTo>
                  <a:pt x="5934" y="101"/>
                  <a:pt x="5880" y="41"/>
                  <a:pt x="5799" y="41"/>
                </a:cubicBezTo>
                <a:lnTo>
                  <a:pt x="18" y="0"/>
                </a:lnTo>
                <a:cubicBezTo>
                  <a:pt x="12" y="3330"/>
                  <a:pt x="6" y="6661"/>
                  <a:pt x="0" y="9991"/>
                </a:cubicBezTo>
                <a:lnTo>
                  <a:pt x="5799" y="10000"/>
                </a:ln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423360" y="4529160"/>
            <a:ext cx="58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3EE8A-BBE5-45BF-B393-89A211CCB97D}" type="slidenum">
              <a:rPr b="0" lang="ru-RU" sz="24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3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5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9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08479-C0C4-4DF5-AE66-307F8764E468}" type="slidenum">
              <a:rPr b="0" lang="ru-RU" sz="24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07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20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2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91123-51C3-49B8-AE48-B23F1512CF48}" type="slidenum">
              <a:rPr b="0" lang="ru-RU" sz="24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76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89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5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C2E6D-E463-4E27-B57F-1D30335E766E}" type="slidenum">
              <a:rPr b="0" lang="ru-RU" sz="24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345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7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358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0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1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1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C4405-4F24-4BE7-8940-2276E30312E3}" type="slidenum">
              <a:rPr b="0" lang="ru-RU" sz="24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1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27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1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3FEF4-AD68-43B4-B1A1-EC392DB8F00E}" type="slidenum">
              <a:rPr b="0" lang="ru-RU" sz="24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83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5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96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8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22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23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24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2AAD7-FEA8-445F-AA9B-170CA6BAA38F}" type="slidenum">
              <a:rPr b="0" lang="ru-RU" sz="24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552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4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565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7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25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26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27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217AF-C80C-43DB-8E16-73783B8B993F}" type="slidenum">
              <a:rPr b="0" lang="ru-RU" sz="24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2895120" y="1676160"/>
            <a:ext cx="624852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Форма №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30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«Сведения о медицинской организации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»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45" name="Rectangle 5"/>
          <p:cNvSpPr/>
          <p:nvPr/>
        </p:nvSpPr>
        <p:spPr>
          <a:xfrm>
            <a:off x="609480" y="4419720"/>
            <a:ext cx="853452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РАЗДЕЛ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III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. ДЕЯТЕЛЬНОСТЬ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МЕДИЦИНСКО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ОРГАНИЗАЦИИ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ПО ОКАЗАНИ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МЕДИЦИНСКОЙ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ПОМОЩИ В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АМБУЛАТОРНЫХ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УСЛОВИЯ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1676520" y="456840"/>
            <a:ext cx="579096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200" spc="-1" strike="noStrike">
                <a:solidFill>
                  <a:srgbClr val="262626"/>
                </a:solidFill>
                <a:latin typeface="Times New Roman"/>
              </a:rPr>
              <a:t>Таблица 2105</a:t>
            </a:r>
            <a:r>
              <a:rPr b="0" lang="ru-RU" sz="2200" spc="-1" strike="noStrike">
                <a:solidFill>
                  <a:srgbClr val="262626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262626"/>
              </a:solidFill>
              <a:latin typeface="Century Gothic"/>
            </a:endParaRPr>
          </a:p>
        </p:txBody>
      </p:sp>
      <p:graphicFrame>
        <p:nvGraphicFramePr>
          <p:cNvPr id="1295" name=""/>
          <p:cNvGraphicFramePr/>
          <p:nvPr/>
        </p:nvGraphicFramePr>
        <p:xfrm>
          <a:off x="152280" y="838080"/>
          <a:ext cx="8763120" cy="5615280"/>
        </p:xfrm>
        <a:graphic>
          <a:graphicData uri="http://schemas.openxmlformats.org/drawingml/2006/table">
            <a:tbl>
              <a:tblPr/>
              <a:tblGrid>
                <a:gridCol w="3733920"/>
                <a:gridCol w="533520"/>
                <a:gridCol w="1201680"/>
                <a:gridCol w="1008000"/>
                <a:gridCol w="762120"/>
                <a:gridCol w="1523880"/>
              </a:tblGrid>
              <a:tr h="274320"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общего числа посещений (табл. 2100, стр. 1)  сделано посещений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-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c882"/>
                    </a:solidFill>
                  </a:tcPr>
                </a:tc>
                <a:tc gridSpan="3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ими жителя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c882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 0-17 л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сельскими жителями (из гр. 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заболеваниям: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в неотложной фор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тив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диспансерному наблюдени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профилактической и иными целями: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 медицинский осмот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спансеризац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плексный медицинский осмот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центрах здоровь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ллиативная помощ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тронаж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движными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амбулатория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ебными бригад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бильными медицинскими бригад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бильными медицинскими комплекс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6" name="Line 3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697"/>
          <p:cNvSpPr/>
          <p:nvPr/>
        </p:nvSpPr>
        <p:spPr>
          <a:xfrm>
            <a:off x="4419720" y="2057400"/>
            <a:ext cx="4495680" cy="1689120"/>
          </a:xfrm>
          <a:prstGeom prst="rect">
            <a:avLst/>
          </a:prstGeom>
          <a:solidFill>
            <a:srgbClr val="b6c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Графа 3 – графа 4 = городские жители всего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Графа 5 – графа 6 = городские жители дет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Arial"/>
              </a:rPr>
              <a:t>!!!Всего не должно быть больше чем дети по всем строкам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Text Box 626"/>
          <p:cNvSpPr/>
          <p:nvPr/>
        </p:nvSpPr>
        <p:spPr>
          <a:xfrm>
            <a:off x="7139520" y="403200"/>
            <a:ext cx="14990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Внимание!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1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"/>
          <p:cNvSpPr txBox="1"/>
          <p:nvPr/>
        </p:nvSpPr>
        <p:spPr>
          <a:xfrm>
            <a:off x="152280" y="533160"/>
            <a:ext cx="883944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</a:rPr>
              <a:t>При заполнении таблицы 2105 следует иметь в виду, что источником информации для таблицы 2105 служит Талон (форма №025-1/у)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 u="sng">
                <a:solidFill>
                  <a:srgbClr val="404040"/>
                </a:solidFill>
                <a:uFillTx/>
                <a:latin typeface="Times New Roman"/>
              </a:rPr>
              <a:t>строка 2 «в неотложной форме»: 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</a:rPr>
              <a:t>посещение по неотложной помощи – оказание неотложной медицинской помощи лицам, обратившимся с признаками неотложных состояний (при внезапных острых заболеваниях, состояниях, обострении хронических заболеваний, не опасных для жизни и не требующих экстренной медицинской помощи) в отделение (кабинет) неотложной медицинской помощи, являющегося структурным подразделением поликлиники (врачебной амбулатории, центра общей врачебной практики (семейной медицины), а также на дому при вызове врача 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 u="sng">
                <a:solidFill>
                  <a:srgbClr val="404040"/>
                </a:solidFill>
                <a:uFillTx/>
                <a:latin typeface="Times New Roman"/>
              </a:rPr>
              <a:t>строка 3 «активных»: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</a:rPr>
              <a:t>Посещение на дому считается активным, если оно проводится по инициативе врача. Как правило, активно наблюдаются пациенты больные со злокачественными новообразованиями, инфекционными заболеваниями, лица пожилого и старческого возраста, инвалиды с тяжелыми заболеваниями. Данный показатель должен составлять 30–60% от общего числа посещений на дому, что зависит от таких факторов, как соотношение первичных и повторных посещений пациента; динамика и сезонность заболеваний; возможность госпитализации и др.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"/>
          <p:cNvSpPr txBox="1"/>
          <p:nvPr/>
        </p:nvSpPr>
        <p:spPr>
          <a:xfrm>
            <a:off x="152280" y="533160"/>
            <a:ext cx="883944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</a:rPr>
              <a:t>При заполнении таблицы 2105 следует иметь в виду, что источником информации для таблицы 2105 служит Талон (форма №025-1/у)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 u="sng">
                <a:solidFill>
                  <a:srgbClr val="404040"/>
                </a:solidFill>
                <a:uFillTx/>
                <a:latin typeface="Times New Roman"/>
              </a:rPr>
              <a:t>строка 4 «по диспансерному наблюдению»: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</a:rPr>
              <a:t>диспансерное наблюдение представляет собой динамическое наблюдение, в том числе необходимое обследование, за состоянием здоровья лиц, страдающих хроническими заболеваниями, функциональными расстройствами, иными состояниями, в целях своевременного выявления, предупреждения осложнений, обострений заболеваний, иных патологических состояний, их профилактики и осуществления медицинской реабилитации указанных лиц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01" name="Rectangle 703"/>
          <p:cNvSpPr/>
          <p:nvPr/>
        </p:nvSpPr>
        <p:spPr>
          <a:xfrm>
            <a:off x="1676520" y="3276720"/>
            <a:ext cx="6324480" cy="2514600"/>
          </a:xfrm>
          <a:prstGeom prst="rect">
            <a:avLst/>
          </a:prstGeom>
          <a:solidFill>
            <a:srgbClr val="b6c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гласно Программе государственных гарантий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ое посещение в отчетном году по поводу диспансерного наблюдения считается с профилактической целью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отчетной форме №30 учитываем по установленному порядку: Все посещения по поводу диспансерного наблюдения указываются по поводу заболева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1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"/>
          <p:cNvSpPr txBox="1"/>
          <p:nvPr/>
        </p:nvSpPr>
        <p:spPr>
          <a:xfrm>
            <a:off x="304560" y="762120"/>
            <a:ext cx="883908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 u="sng">
                <a:solidFill>
                  <a:srgbClr val="404040"/>
                </a:solidFill>
                <a:uFillTx/>
                <a:latin typeface="Times New Roman"/>
              </a:rPr>
              <a:t>строка 6 «медицинский осмотр»: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</a:rPr>
              <a:t>указываются посещения, выполненные в порядке целевого профилактического осмотра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</a:rPr>
              <a:t>Целевые профилактические медицинские осмотры — медицинские осмотры (обследования), предпринятые с целью выявления определенных заболеваний на ранней стадии (новообразования, туберкулез, глаукома, сахарный диабет, сердечно-сосудистые заболевания и др.), охватывают различные группы организованного и неорганизованного населения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404040"/>
                </a:solidFill>
                <a:latin typeface="Times New Roman"/>
              </a:rPr>
              <a:t>Включаются предварительные, периодические, медицинские осмотры спортсменов, профилактические осмотры и т.д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 u="sng">
                <a:solidFill>
                  <a:srgbClr val="404040"/>
                </a:solidFill>
                <a:uFillTx/>
                <a:latin typeface="Times New Roman"/>
              </a:rPr>
              <a:t>строка 7 «диспансеризация»: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</a:rPr>
              <a:t>указать количество посещений, выполненных в ходе диспансеризации определенных групп взрослого населения и диспансеризация детей-сирот (форма №131 и №030/Д/с/о- 13)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</a:rPr>
              <a:t>сведения строки 6 в строку 7 не включаются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 u="sng">
                <a:solidFill>
                  <a:srgbClr val="404040"/>
                </a:solidFill>
                <a:uFillTx/>
                <a:latin typeface="Times New Roman"/>
              </a:rPr>
              <a:t>строка </a:t>
            </a:r>
            <a:r>
              <a:rPr b="1" lang="ru-RU" sz="1800" spc="-1" strike="noStrike" u="sng">
                <a:solidFill>
                  <a:srgbClr val="404040"/>
                </a:solidFill>
                <a:uFillTx/>
                <a:latin typeface="Times New Roman"/>
              </a:rPr>
              <a:t>8 «комплексный медицинский осмотр»: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</a:rPr>
              <a:t>указываются посещения, выполненные в центрах здоровья и внеплановые медицинские осмотры (осмотры </a:t>
            </a:r>
            <a:r>
              <a:rPr b="0" i="1" lang="ru-RU" sz="1800" spc="-1" strike="noStrike">
                <a:solidFill>
                  <a:srgbClr val="404040"/>
                </a:solidFill>
                <a:latin typeface="Times New Roman"/>
              </a:rPr>
              <a:t>участников ВОВ 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</a:rPr>
              <a:t>вне плановой диспансеризации)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 u="sng">
                <a:solidFill>
                  <a:srgbClr val="404040"/>
                </a:solidFill>
                <a:uFillTx/>
                <a:latin typeface="Times New Roman"/>
              </a:rPr>
              <a:t>строка 9 «</a:t>
            </a:r>
            <a:r>
              <a:rPr b="1" lang="ru-RU" sz="1800" spc="-1" strike="noStrike" u="sng">
                <a:solidFill>
                  <a:srgbClr val="404040"/>
                </a:solidFill>
                <a:uFillTx/>
                <a:latin typeface="Times New Roman"/>
              </a:rPr>
              <a:t>из них в центрах здоровья»: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</a:rPr>
              <a:t>указываются посещения, выполненные в центрах здоровья (в соответствии с формой №68)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"/>
          <p:cNvSpPr txBox="1"/>
          <p:nvPr/>
        </p:nvSpPr>
        <p:spPr>
          <a:xfrm>
            <a:off x="304920" y="761760"/>
            <a:ext cx="86868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 u="sng">
                <a:solidFill>
                  <a:srgbClr val="404040"/>
                </a:solidFill>
                <a:uFillTx/>
                <a:latin typeface="Times New Roman"/>
              </a:rPr>
              <a:t>строка 10 «паллиативная помощь»: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</a:rPr>
              <a:t>указываются посещения, выполненные в рамках оказания паллиативной помощи в амбулаторных условиях. К ним относятся посещения с кодом по МКБ-10 </a:t>
            </a:r>
            <a:r>
              <a:rPr b="0" lang="en-US" sz="1800" spc="-1" strike="noStrike">
                <a:solidFill>
                  <a:srgbClr val="404040"/>
                </a:solidFill>
                <a:latin typeface="Times New Roman"/>
              </a:rPr>
              <a:t>Z51.5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</a:rPr>
              <a:t> «Паллиативная помощь»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</a:rPr>
              <a:t>строка </a:t>
            </a:r>
            <a:r>
              <a:rPr b="0" lang="ru-RU" sz="1800" spc="-1" strike="noStrike" u="sng">
                <a:solidFill>
                  <a:srgbClr val="404040"/>
                </a:solidFill>
                <a:uFillTx/>
                <a:latin typeface="Times New Roman"/>
              </a:rPr>
              <a:t>«паллиативная помощь»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</a:rPr>
              <a:t> заполняется, если в организации организован кабинет (отделение) по оказанию паллиативной помощи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</a:rPr>
              <a:t>в данную строку включаются посещения врача кабинета противоболевой терапии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 u="sng">
                <a:solidFill>
                  <a:srgbClr val="404040"/>
                </a:solidFill>
                <a:uFillTx/>
                <a:latin typeface="Times New Roman"/>
              </a:rPr>
              <a:t>строка 11 «патронаж»: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</a:rPr>
              <a:t>указываются посещения, выполненные врачом на дому для проведения профилактических, оздоровительных и санитарно-просветительных мероприятий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</a:rPr>
              <a:t>Патронаж — форма работы медицинской организации, основными целями которой являются проведение на дому оздоровительных и профилактических мероприятий, внедрение правил личной гигиены и улучшение санитарно-гигиенических условий в быту. Особенно широко используется в учреждениях охраны материнства и детства, некоторых диспансерах. Осуществляется врачами: участковыми (патронажными), диспансеров. Особой формой патронажа является уход за одинокими и престарелыми больными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 u="sng">
                <a:solidFill>
                  <a:srgbClr val="404040"/>
                </a:solidFill>
                <a:uFillTx/>
                <a:latin typeface="Times New Roman"/>
              </a:rPr>
              <a:t>строка 12 «прочие»: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</a:rPr>
              <a:t>указываются посещения, выполненные врачом с профилактическими целями, не указанными выше. Например, посещения контактных пациентов, обследования социальных условий проживания семьи, «подворовые» обходы в сельской местности и т.д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"/>
          <p:cNvSpPr txBox="1"/>
          <p:nvPr/>
        </p:nvSpPr>
        <p:spPr>
          <a:xfrm>
            <a:off x="304920" y="761760"/>
            <a:ext cx="86868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строка 15 «врачебные бригад»: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766f54"/>
                </a:solidFill>
                <a:latin typeface="Times New Roman"/>
                <a:ea typeface="Times New Roman"/>
              </a:rPr>
              <a:t>Организовывается в зависимости от конкретных условий оказания первичной медико-санитарной помощи населению в целях обеспечения ее доступности могут формироваться </a:t>
            </a:r>
            <a:r>
              <a:rPr b="1" lang="ru-RU" sz="1800" spc="-1" strike="noStrike">
                <a:solidFill>
                  <a:srgbClr val="766f54"/>
                </a:solidFill>
                <a:latin typeface="Times New Roman"/>
                <a:ea typeface="Times New Roman"/>
              </a:rPr>
              <a:t>постоянно действующие медицинские бригады, </a:t>
            </a:r>
            <a:r>
              <a:rPr b="0" lang="ru-RU" sz="1800" spc="-1" strike="noStrike">
                <a:solidFill>
                  <a:srgbClr val="766f54"/>
                </a:solidFill>
                <a:latin typeface="Times New Roman"/>
                <a:ea typeface="Times New Roman"/>
              </a:rPr>
              <a:t>состоящие </a:t>
            </a:r>
            <a:r>
              <a:rPr b="1" lang="ru-RU" sz="1800" spc="-1" strike="noStrike">
                <a:solidFill>
                  <a:srgbClr val="766f54"/>
                </a:solidFill>
                <a:latin typeface="Times New Roman"/>
                <a:ea typeface="Times New Roman"/>
              </a:rPr>
              <a:t>из врача-терапевта участкового</a:t>
            </a:r>
            <a:r>
              <a:rPr b="0" lang="ru-RU" sz="1800" spc="-1" strike="noStrike">
                <a:solidFill>
                  <a:srgbClr val="766f54"/>
                </a:solidFill>
                <a:latin typeface="Times New Roman"/>
                <a:ea typeface="Times New Roman"/>
              </a:rPr>
              <a:t>, фельдшеров, акушеров и медицинских сестер, с распределением между ними функциональных обязанностей по компетенции, исходя из установленных штатных нормативов, предназначенных для расчета количества должностей, предусмотренных для выполнения медицинской организацией возложенных на нее функций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строка 16 «мобильные медицинские бригады»: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766f54"/>
                </a:solidFill>
                <a:latin typeface="Times New Roman"/>
                <a:ea typeface="Times New Roman"/>
              </a:rPr>
              <a:t>Мобильная медицинская бригада организуется в структуре медицинской организации (ее структурного подразделения), оказывающей первичную медико-санитарную помощь</a:t>
            </a:r>
            <a:r>
              <a:rPr b="0" lang="ru-RU" sz="1800" spc="-1" strike="noStrike">
                <a:solidFill>
                  <a:srgbClr val="766f54"/>
                </a:solidFill>
                <a:latin typeface="Times New Roman"/>
                <a:ea typeface="Times New Roman"/>
              </a:rPr>
              <a:t>, для оказания первичной медико-санитарной помощью населения, в том числе жителей населенных пунктов с преимущественным проживанием лиц старше трудоспособного возраста либо расположенных на значительном удалении от медицинской организации и (или) имеющих плохую транспортную доступность с учетом климато-географических условий. </a:t>
            </a:r>
            <a:r>
              <a:rPr b="1" lang="ru-RU" sz="1800" spc="-1" strike="noStrike">
                <a:solidFill>
                  <a:srgbClr val="766f54"/>
                </a:solidFill>
                <a:latin typeface="Times New Roman"/>
                <a:ea typeface="Times New Roman"/>
              </a:rPr>
              <a:t>Состав мобильной медицинской бригады формируется руководителем медицинской</a:t>
            </a:r>
            <a:r>
              <a:rPr b="0" lang="ru-RU" sz="1800" spc="-1" strike="noStrike">
                <a:solidFill>
                  <a:srgbClr val="766f54"/>
                </a:solidFill>
                <a:latin typeface="Times New Roman"/>
                <a:ea typeface="Times New Roman"/>
              </a:rPr>
              <a:t> организации (ее структурного подразделения) из числа врачей и медицинских работников со средним медицинским образованием</a:t>
            </a:r>
            <a:r>
              <a:rPr b="1" lang="ru-RU" sz="1800" spc="-1" strike="noStrike">
                <a:solidFill>
                  <a:srgbClr val="766f54"/>
                </a:solidFill>
                <a:latin typeface="Times New Roman"/>
                <a:ea typeface="Times New Roman"/>
              </a:rPr>
              <a:t>, исходя из цели ее формирования и возложенных задач</a:t>
            </a:r>
            <a:r>
              <a:rPr b="0" lang="ru-RU" sz="1800" spc="-1" strike="noStrike">
                <a:solidFill>
                  <a:srgbClr val="766f54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1295280" y="376200"/>
            <a:ext cx="65534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400" spc="-1" strike="noStrike">
                <a:solidFill>
                  <a:srgbClr val="262626"/>
                </a:solidFill>
                <a:latin typeface="Times New Roman"/>
              </a:rPr>
              <a:t>Таблица 2106</a:t>
            </a:r>
            <a:r>
              <a:rPr b="0" lang="ru-RU" sz="2400" spc="-1" strike="noStrike">
                <a:solidFill>
                  <a:srgbClr val="26262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262626"/>
              </a:solidFill>
              <a:latin typeface="Century Gothic"/>
            </a:endParaRPr>
          </a:p>
        </p:txBody>
      </p:sp>
      <p:graphicFrame>
        <p:nvGraphicFramePr>
          <p:cNvPr id="1306" name=""/>
          <p:cNvGraphicFramePr/>
          <p:nvPr/>
        </p:nvGraphicFramePr>
        <p:xfrm>
          <a:off x="380880" y="800280"/>
          <a:ext cx="8382240" cy="1401480"/>
        </p:xfrm>
        <a:graphic>
          <a:graphicData uri="http://schemas.openxmlformats.org/drawingml/2006/table">
            <a:tbl>
              <a:tblPr/>
              <a:tblGrid>
                <a:gridCol w="4191120"/>
                <a:gridCol w="4191120"/>
              </a:tblGrid>
              <a:tr h="640440">
                <a:tc gridSpan="2"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щения по поводу заболеваний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1 __, из них: сельских жителей  2 __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21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0-17 лет (из стр. 1) 3 _____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сельских жителей (из стр.3) 4__,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7" name="Line 3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174"/>
          <p:cNvSpPr/>
          <p:nvPr/>
        </p:nvSpPr>
        <p:spPr>
          <a:xfrm>
            <a:off x="235080" y="2190600"/>
            <a:ext cx="8686800" cy="2799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Обращение включает в себя одно или несколько посещений пациента, в результате которых цель обращения достигнута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В зависимости от цели обращения подразделяются на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- обращения по поводу заболеваний, травм, отравлений и некоторых други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последствий воздействия внешних причин (коды A00 - T98 МКБ-10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- обращения с профилактической целью (коды Z00 - Z99 МКБ-1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Сведения, указанные в таблице 2106, должны быть меньше, чем данные указанные в таблице 2100 по строке 1 в соответствующих графа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Кратность посещений в среднем по медицинским организациям составляет – на одно обращение 3-3,5 посещения (кроме специализированных ЛПУ, например: психиатрическая, фтизиопульмонологическая больницы и т.п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Овал 5"/>
          <p:cNvSpPr/>
          <p:nvPr/>
        </p:nvSpPr>
        <p:spPr>
          <a:xfrm>
            <a:off x="235080" y="5156280"/>
            <a:ext cx="8391240" cy="1092240"/>
          </a:xfrm>
          <a:prstGeom prst="ellipse">
            <a:avLst/>
          </a:prstGeom>
          <a:noFill/>
          <a:ln cap="rnd" w="31680">
            <a:solidFill>
              <a:srgbClr val="c00000"/>
            </a:solidFill>
            <a:custDash>
              <a:ds d="4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object 36"/>
          <p:cNvSpPr/>
          <p:nvPr/>
        </p:nvSpPr>
        <p:spPr>
          <a:xfrm>
            <a:off x="685800" y="5410080"/>
            <a:ext cx="2257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tabLst>
                <a:tab algn="l" pos="0"/>
                <a:tab algn="l" pos="123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ичное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повторно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2600">
              <a:tabLst>
                <a:tab algn="l" pos="0"/>
                <a:tab algn="l" pos="123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ещение  </a:t>
            </a:r>
            <a:r>
              <a:rPr b="1" lang="ru-RU" sz="2100" spc="-1" strike="noStrike" baseline="32000">
                <a:solidFill>
                  <a:srgbClr val="000000"/>
                </a:solidFill>
                <a:latin typeface="Times New Roman"/>
                <a:ea typeface="Times New Roman"/>
              </a:rPr>
              <a:t>+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ещен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object 39"/>
          <p:cNvSpPr/>
          <p:nvPr/>
        </p:nvSpPr>
        <p:spPr>
          <a:xfrm>
            <a:off x="3124080" y="5486400"/>
            <a:ext cx="130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object 37"/>
          <p:cNvSpPr/>
          <p:nvPr/>
        </p:nvSpPr>
        <p:spPr>
          <a:xfrm>
            <a:off x="3352680" y="5410080"/>
            <a:ext cx="10828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58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повторно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8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ещен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object 32"/>
          <p:cNvSpPr/>
          <p:nvPr/>
        </p:nvSpPr>
        <p:spPr>
          <a:xfrm>
            <a:off x="4495680" y="5562720"/>
            <a:ext cx="1065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object 41"/>
          <p:cNvSpPr/>
          <p:nvPr/>
        </p:nvSpPr>
        <p:spPr>
          <a:xfrm>
            <a:off x="5181480" y="5410080"/>
            <a:ext cx="576360" cy="432000"/>
          </a:xfrm>
          <a:custGeom>
            <a:avLst/>
            <a:gdLst>
              <a:gd name="textAreaLeft" fmla="*/ 0 w 576360"/>
              <a:gd name="textAreaRight" fmla="*/ 576720 w 576360"/>
              <a:gd name="textAreaTop" fmla="*/ 0 h 432000"/>
              <a:gd name="textAreaBottom" fmla="*/ 432360 h 432000"/>
            </a:gdLst>
            <a:ahLst/>
            <a:rect l="textAreaLeft" t="textAreaTop" r="textAreaRight" b="textAreaBottom"/>
            <a:pathLst>
              <a:path w="576579" h="431800">
                <a:moveTo>
                  <a:pt x="360172" y="0"/>
                </a:moveTo>
                <a:lnTo>
                  <a:pt x="360172" y="107950"/>
                </a:lnTo>
                <a:lnTo>
                  <a:pt x="0" y="107950"/>
                </a:lnTo>
                <a:lnTo>
                  <a:pt x="108076" y="215900"/>
                </a:lnTo>
                <a:lnTo>
                  <a:pt x="0" y="323850"/>
                </a:lnTo>
                <a:lnTo>
                  <a:pt x="360172" y="323850"/>
                </a:lnTo>
                <a:lnTo>
                  <a:pt x="360172" y="431800"/>
                </a:lnTo>
                <a:lnTo>
                  <a:pt x="576326" y="215900"/>
                </a:lnTo>
                <a:lnTo>
                  <a:pt x="360172" y="0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object 38"/>
          <p:cNvSpPr/>
          <p:nvPr/>
        </p:nvSpPr>
        <p:spPr>
          <a:xfrm>
            <a:off x="6095880" y="5410080"/>
            <a:ext cx="20354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30120" indent="-317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ОБРАЩЕНИЯ ДОСТИГНУТ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0" fill="hold"/>
                                        <p:tgtEl>
                                          <p:spTgt spid="1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0" fill="hold"/>
                                        <p:tgtEl>
                                          <p:spTgt spid="1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200" spc="-1" strike="noStrike">
                <a:solidFill>
                  <a:srgbClr val="262626"/>
                </a:solidFill>
                <a:latin typeface="Times New Roman"/>
              </a:rPr>
              <a:t>Таблица 2700.</a:t>
            </a:r>
            <a:r>
              <a:rPr b="0" lang="ru-RU" sz="2200" spc="-1" strike="noStrike">
                <a:solidFill>
                  <a:srgbClr val="262626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262626"/>
                </a:solidFill>
                <a:latin typeface="Times New Roman"/>
              </a:rPr>
              <a:t>Работа стоматологического кабинета</a:t>
            </a:r>
            <a:endParaRPr b="0" lang="en-US" sz="2200" spc="-1" strike="noStrike">
              <a:solidFill>
                <a:srgbClr val="262626"/>
              </a:solidFill>
              <a:latin typeface="Century Gothic"/>
            </a:endParaRPr>
          </a:p>
        </p:txBody>
      </p:sp>
      <p:graphicFrame>
        <p:nvGraphicFramePr>
          <p:cNvPr id="1317" name=""/>
          <p:cNvGraphicFramePr/>
          <p:nvPr/>
        </p:nvGraphicFramePr>
        <p:xfrm>
          <a:off x="152280" y="1143000"/>
          <a:ext cx="8763120" cy="4092480"/>
        </p:xfrm>
        <a:graphic>
          <a:graphicData uri="http://schemas.openxmlformats.org/drawingml/2006/table">
            <a:tbl>
              <a:tblPr/>
              <a:tblGrid>
                <a:gridCol w="3810240"/>
                <a:gridCol w="609480"/>
                <a:gridCol w="1008000"/>
                <a:gridCol w="1241640"/>
                <a:gridCol w="2093760"/>
              </a:tblGrid>
              <a:tr h="58068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инген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осещений зубных врачей и  гигиенистов стоматологически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c88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ичных </a:t>
                      </a:r>
                      <a:r>
                        <a:rPr b="1" lang="ru-RU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с профилактической и иными  целя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 зубными врач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гиенистами стоматологически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стр. 1:  дети до 14 лет включительно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и 15-17 лет включитель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ие жители (из стр.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передвижных стоматологических кабинета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18" name="Line 3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353"/>
          <p:cNvSpPr/>
          <p:nvPr/>
        </p:nvSpPr>
        <p:spPr>
          <a:xfrm>
            <a:off x="190440" y="6167520"/>
            <a:ext cx="86868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*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Первичным считается первое посещение за стоматологической помощью в отчетном году по любому поводу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355"/>
          <p:cNvSpPr/>
          <p:nvPr/>
        </p:nvSpPr>
        <p:spPr>
          <a:xfrm>
            <a:off x="4572000" y="2708280"/>
            <a:ext cx="4419720" cy="1752480"/>
          </a:xfrm>
          <a:prstGeom prst="rect">
            <a:avLst/>
          </a:prstGeom>
          <a:solidFill>
            <a:srgbClr val="d1dd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в таблицу включаются и сведения о деятельности гигиенистов стоматологических и зубных врачей, в том числе зубных врачей здравпунктов, стоматологических кабинетов учебных заведений и предприятий,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если они состоят в штате медицинской организации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360"/>
          <p:cNvSpPr/>
          <p:nvPr/>
        </p:nvSpPr>
        <p:spPr>
          <a:xfrm>
            <a:off x="4600440" y="5486400"/>
            <a:ext cx="4391280" cy="533520"/>
          </a:xfrm>
          <a:prstGeom prst="rect">
            <a:avLst/>
          </a:prstGeom>
          <a:solidFill>
            <a:srgbClr val="fb93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строка 1 должна быть равна сумме строк 2+3 по всем графа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360"/>
          <p:cNvSpPr/>
          <p:nvPr/>
        </p:nvSpPr>
        <p:spPr>
          <a:xfrm>
            <a:off x="4600440" y="4548240"/>
            <a:ext cx="4419720" cy="809640"/>
          </a:xfrm>
          <a:prstGeom prst="rect">
            <a:avLst/>
          </a:prstGeom>
          <a:solidFill>
            <a:srgbClr val="b6c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Деятельность гигиенистов стоматологических указывается только с профилактической целью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1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1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1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400" spc="-1" strike="noStrike">
                <a:solidFill>
                  <a:srgbClr val="262626"/>
                </a:solidFill>
                <a:latin typeface="Times New Roman"/>
              </a:rPr>
              <a:t>Таблица 2700 (продолжение)</a:t>
            </a:r>
            <a:r>
              <a:rPr b="0" lang="ru-RU" sz="2400" spc="-1" strike="noStrike">
                <a:solidFill>
                  <a:srgbClr val="26262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262626"/>
              </a:solidFill>
              <a:latin typeface="Century Gothic"/>
            </a:endParaRPr>
          </a:p>
        </p:txBody>
      </p:sp>
      <p:graphicFrame>
        <p:nvGraphicFramePr>
          <p:cNvPr id="1324" name=""/>
          <p:cNvGraphicFramePr/>
          <p:nvPr/>
        </p:nvGraphicFramePr>
        <p:xfrm>
          <a:off x="152280" y="838080"/>
          <a:ext cx="8763120" cy="4000680"/>
        </p:xfrm>
        <a:graphic>
          <a:graphicData uri="http://schemas.openxmlformats.org/drawingml/2006/table">
            <a:tbl>
              <a:tblPr/>
              <a:tblGrid>
                <a:gridCol w="1133640"/>
                <a:gridCol w="460440"/>
                <a:gridCol w="608040"/>
                <a:gridCol w="560160"/>
                <a:gridCol w="789120"/>
                <a:gridCol w="623880"/>
                <a:gridCol w="625320"/>
                <a:gridCol w="608040"/>
                <a:gridCol w="790560"/>
                <a:gridCol w="608040"/>
                <a:gridCol w="574920"/>
                <a:gridCol w="591840"/>
                <a:gridCol w="789120"/>
              </a:tblGrid>
              <a:tr h="376200"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инген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лечено зуб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гр.6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далено зуб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постоян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санирова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c882"/>
                    </a:solidFill>
                  </a:tcPr>
                </a:tc>
                <a:tc gridSpan="3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актическая рабо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 курс профилакти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олнен объем работы в УЕТ (из гр.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оян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поводу осложненного кариес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мотрено в порядке плановой сан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гр. 12 нуждались в сан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гр. 13 санирова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c882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c88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c88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 зубными врач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гиенистами стоматологически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5" name="Line 3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1520"/>
          <p:cNvSpPr/>
          <p:nvPr/>
        </p:nvSpPr>
        <p:spPr>
          <a:xfrm>
            <a:off x="152280" y="5181480"/>
            <a:ext cx="8763120" cy="1314720"/>
          </a:xfrm>
          <a:prstGeom prst="rect">
            <a:avLst/>
          </a:prstGeom>
          <a:solidFill>
            <a:srgbClr val="b6c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В графе 11 показывается общее число санированных, как по обращаемости, так и во время профилактической работы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В графе 16 указывается общий объем выполненной работы, выраженный в условных единицах трудоемкости (УЕТ). Выполненный объем работы в УЕТах указывается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в тысячах единиц с одним знаком после запято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1521"/>
          <p:cNvSpPr/>
          <p:nvPr/>
        </p:nvSpPr>
        <p:spPr>
          <a:xfrm>
            <a:off x="1828800" y="3124080"/>
            <a:ext cx="7086600" cy="533520"/>
          </a:xfrm>
          <a:prstGeom prst="rect">
            <a:avLst/>
          </a:prstGeom>
          <a:solidFill>
            <a:srgbClr val="b6c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Разница между графами 11 и 14 по всем строкам должна быть на санированных при обращении пациента за медицинской помощью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1524"/>
          <p:cNvSpPr/>
          <p:nvPr/>
        </p:nvSpPr>
        <p:spPr>
          <a:xfrm>
            <a:off x="1752480" y="4302000"/>
            <a:ext cx="7010640" cy="533520"/>
          </a:xfrm>
          <a:prstGeom prst="rect">
            <a:avLst/>
          </a:prstGeom>
          <a:solidFill>
            <a:srgbClr val="b6c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Объем выполненных работ гигиенистами стоматологическим в УЕТах (графа 16) указыват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1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1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1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200" spc="-1" strike="noStrike">
                <a:solidFill>
                  <a:srgbClr val="262626"/>
                </a:solidFill>
                <a:latin typeface="Times New Roman"/>
              </a:rPr>
              <a:t>Таблица 2710.</a:t>
            </a:r>
            <a:r>
              <a:rPr b="0" lang="ru-RU" sz="2200" spc="-1" strike="noStrike">
                <a:solidFill>
                  <a:srgbClr val="262626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262626"/>
                </a:solidFill>
                <a:latin typeface="Times New Roman"/>
              </a:rPr>
              <a:t>Работа врачей-стоматологов</a:t>
            </a:r>
            <a:endParaRPr b="0" lang="en-US" sz="2200" spc="-1" strike="noStrike">
              <a:solidFill>
                <a:srgbClr val="262626"/>
              </a:solidFill>
              <a:latin typeface="Century Gothic"/>
            </a:endParaRPr>
          </a:p>
        </p:txBody>
      </p:sp>
      <p:graphicFrame>
        <p:nvGraphicFramePr>
          <p:cNvPr id="1330" name=""/>
          <p:cNvGraphicFramePr/>
          <p:nvPr/>
        </p:nvGraphicFramePr>
        <p:xfrm>
          <a:off x="152280" y="1143000"/>
          <a:ext cx="8534520" cy="3833640"/>
        </p:xfrm>
        <a:graphic>
          <a:graphicData uri="http://schemas.openxmlformats.org/drawingml/2006/table">
            <a:tbl>
              <a:tblPr/>
              <a:tblGrid>
                <a:gridCol w="3408480"/>
                <a:gridCol w="655560"/>
                <a:gridCol w="930240"/>
                <a:gridCol w="1101960"/>
                <a:gridCol w="672840"/>
                <a:gridCol w="874800"/>
                <a:gridCol w="890640"/>
              </a:tblGrid>
              <a:tr h="731520"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инген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Число посещений врачей-стоматологов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(из т. 210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лечено зуб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гр.6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71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первичных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оян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поводу осложненного кариес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стр. 1: дети до 14 л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лючительно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360"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и 15-17 лет включитель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ие жители (из стр.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передвижных стоматологических кабинета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31" name="Line 3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70"/>
          <p:cNvSpPr/>
          <p:nvPr/>
        </p:nvSpPr>
        <p:spPr>
          <a:xfrm>
            <a:off x="228600" y="6095880"/>
            <a:ext cx="8686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*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Первичным считается первое посещение за стоматологической помощью в отчетном году по любому поводу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3"/>
          <p:cNvSpPr/>
          <p:nvPr/>
        </p:nvSpPr>
        <p:spPr>
          <a:xfrm>
            <a:off x="4114800" y="3048120"/>
            <a:ext cx="4648320" cy="838080"/>
          </a:xfrm>
          <a:prstGeom prst="rect">
            <a:avLst/>
          </a:prstGeom>
          <a:solidFill>
            <a:srgbClr val="b6c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Строка 1 по графе 3 должна быть равна сумме посещений, указанных в таблице 2100 по сумме строк 86+87+89+90 и сумме граф 3+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85"/>
          <p:cNvSpPr/>
          <p:nvPr/>
        </p:nvSpPr>
        <p:spPr>
          <a:xfrm>
            <a:off x="4114800" y="5105520"/>
            <a:ext cx="4648320" cy="838080"/>
          </a:xfrm>
          <a:prstGeom prst="rect">
            <a:avLst/>
          </a:prstGeom>
          <a:solidFill>
            <a:srgbClr val="b6c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Строка 6 по графе 3 должна быть равна сумме посещений, указанных в таблице 2100 по сумме строк 86+87+89+90 и сумме граф 4+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586"/>
          <p:cNvSpPr/>
          <p:nvPr/>
        </p:nvSpPr>
        <p:spPr>
          <a:xfrm>
            <a:off x="4114800" y="3962520"/>
            <a:ext cx="4648320" cy="1066680"/>
          </a:xfrm>
          <a:prstGeom prst="rect">
            <a:avLst/>
          </a:prstGeom>
          <a:solidFill>
            <a:srgbClr val="b6c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Сумма строк 4+5 по графе 3 должна быть равна сумме посещений, указанных в таблице 2100 по сумме строк 86+87+89+90 и сумме граф 5+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1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1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1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"/>
          <p:cNvSpPr txBox="1"/>
          <p:nvPr/>
        </p:nvSpPr>
        <p:spPr>
          <a:xfrm>
            <a:off x="457200" y="9907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</a:rPr>
              <a:t>Посещение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</a:rPr>
              <a:t> – это контакт пациента с врачом медицинской организации или подразделения, оказывающего медицинскую помощь в амбулаторных условиях по любому поводу с последующей записью в «Медицинской карте пациента, получающего медицинскую помощь в амбулаторных условиях» (форма № 025/у), 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включающей жалобы, анамнез, объективные данные, 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Times New Roman"/>
              </a:rPr>
              <a:t>постановку диагноза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: основного, фонового, конкурирующего 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</a:rPr>
              <a:t>и сопутствующих заболеваний, травм, отравлений с кодами их по МКБ-10, группу здоровья, 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Times New Roman"/>
              </a:rPr>
              <a:t>назначенное  лечение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, обследование, а также результаты 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</a:rPr>
              <a:t>обследования и  динамического наблюдения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</a:rPr>
              <a:t>Обращение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</a:rPr>
              <a:t> – это повод визита пациента в поликлинику.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</a:rPr>
              <a:t>Цель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</a:rPr>
              <a:t> – по поводу заболевания (диспансерное наблюдение, неотложное состояние и т.д.), с профилактической целью (медицинский осмотр, диспансеризация и т.д.)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</a:rPr>
              <a:t>      </a:t>
            </a:r>
            <a:r>
              <a:rPr b="1" lang="ru-RU" sz="1800" spc="-1" strike="noStrike">
                <a:solidFill>
                  <a:srgbClr val="404040"/>
                </a:solidFill>
                <a:latin typeface="Times New Roman"/>
              </a:rPr>
              <a:t>Обращение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</a:rPr>
              <a:t> может состоять из одного или нескольких посещений пациента, в результате которых цель обращения достигнута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2895480" y="1676160"/>
            <a:ext cx="594360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Уважаемые коллеги, необходимо внимательно проработать контроли,  в программе «Медстат»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380520" y="457200"/>
            <a:ext cx="670572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1800" spc="-1" strike="noStrike">
                <a:solidFill>
                  <a:srgbClr val="262626"/>
                </a:solidFill>
                <a:latin typeface="Times New Roman"/>
              </a:rPr>
              <a:t>Таблица 2100. Работа врачей медицинской организации </a:t>
            </a:r>
            <a:br>
              <a:rPr sz="1800"/>
            </a:br>
            <a:r>
              <a:rPr b="1" lang="ru-RU" sz="1800" spc="-1" strike="noStrike">
                <a:solidFill>
                  <a:srgbClr val="262626"/>
                </a:solidFill>
                <a:latin typeface="Times New Roman"/>
              </a:rPr>
              <a:t>в амбулаторных условиях</a:t>
            </a:r>
            <a:endParaRPr b="0" lang="en-US" sz="1800" spc="-1" strike="noStrike">
              <a:solidFill>
                <a:srgbClr val="262626"/>
              </a:solidFill>
              <a:latin typeface="Century Gothic"/>
            </a:endParaRPr>
          </a:p>
        </p:txBody>
      </p:sp>
      <p:graphicFrame>
        <p:nvGraphicFramePr>
          <p:cNvPr id="1248" name=""/>
          <p:cNvGraphicFramePr/>
          <p:nvPr/>
        </p:nvGraphicFramePr>
        <p:xfrm>
          <a:off x="76320" y="1066680"/>
          <a:ext cx="8839080" cy="5732640"/>
        </p:xfrm>
        <a:graphic>
          <a:graphicData uri="http://schemas.openxmlformats.org/drawingml/2006/table">
            <a:tbl>
              <a:tblPr/>
              <a:tblGrid>
                <a:gridCol w="1447560"/>
                <a:gridCol w="457200"/>
                <a:gridCol w="838440"/>
                <a:gridCol w="609480"/>
                <a:gridCol w="609480"/>
                <a:gridCol w="533520"/>
                <a:gridCol w="609480"/>
                <a:gridCol w="609840"/>
                <a:gridCol w="533160"/>
                <a:gridCol w="685800"/>
                <a:gridCol w="685800"/>
                <a:gridCol w="533520"/>
                <a:gridCol w="685800"/>
              </a:tblGrid>
              <a:tr h="822600"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осещ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общего числа посещений (из гр.3) сделано по поводу заболева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осещений врачами на дом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ей, включая профилактические - всего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ими жителя-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лыми 18 лет и боле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 0-17 л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сельских жител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гр.9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гр. 12: по поводу заболева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ими жителя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 0-17 л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поводу заболева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 0-17 л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68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паллиативной медицинской помощ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емного отдел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c882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c882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…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общего числа посещений (стр.1): в отделениях, кабинетах, пунктах неотложной медпомощ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39943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39943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3994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 отделениях, кабинетах паллиативной медпомощ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9" name="Line 3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1694"/>
          <p:cNvSpPr/>
          <p:nvPr/>
        </p:nvSpPr>
        <p:spPr>
          <a:xfrm>
            <a:off x="1924200" y="3343320"/>
            <a:ext cx="7010280" cy="482400"/>
          </a:xfrm>
          <a:prstGeom prst="rect">
            <a:avLst/>
          </a:prstGeom>
          <a:solidFill>
            <a:srgbClr val="b6c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В строку 65 «приемного отделения» включены посещения приемного отделения к врачам различных специальносте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Text Box 1697"/>
          <p:cNvSpPr/>
          <p:nvPr/>
        </p:nvSpPr>
        <p:spPr>
          <a:xfrm>
            <a:off x="7363440" y="457200"/>
            <a:ext cx="14990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Внимание!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1694"/>
          <p:cNvSpPr/>
          <p:nvPr/>
        </p:nvSpPr>
        <p:spPr>
          <a:xfrm>
            <a:off x="1924200" y="2765520"/>
            <a:ext cx="7010280" cy="501480"/>
          </a:xfrm>
          <a:prstGeom prst="rect">
            <a:avLst/>
          </a:prstGeom>
          <a:solidFill>
            <a:srgbClr val="e3ea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В строку 60 «по паллиативной медицинской помощи» включаются посещения только с профилактической целью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1698"/>
          <p:cNvSpPr/>
          <p:nvPr/>
        </p:nvSpPr>
        <p:spPr>
          <a:xfrm>
            <a:off x="1914480" y="3902040"/>
            <a:ext cx="7010280" cy="1298520"/>
          </a:xfrm>
          <a:prstGeom prst="rect">
            <a:avLst/>
          </a:prstGeom>
          <a:solidFill>
            <a:srgbClr val="8399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року 123 вносятся посещения врачей-специалистов, оказывающих помощь в отделении (кабинете) неотложной медицинской помощи (при наличии его в структуре поликлиники медицинской организации), а также при оказании неотложной медицинской помощи на дому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1698"/>
          <p:cNvSpPr/>
          <p:nvPr/>
        </p:nvSpPr>
        <p:spPr>
          <a:xfrm>
            <a:off x="1924200" y="5251320"/>
            <a:ext cx="7010280" cy="1492560"/>
          </a:xfrm>
          <a:prstGeom prst="rect">
            <a:avLst/>
          </a:prstGeom>
          <a:solidFill>
            <a:srgbClr val="e3ea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року 124 вносятся посещения врачей-специалистов, оказывающих паллиативную медицинскую помощь в отделении (кабинете) паллиативной медицинской помощи (при наличии его в структуре поликлиники медицинской организации), а также при оказании паллиативной медицинской помощи патронажными службами на дому. Посещения указываются только с профилактической целью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456840" y="218880"/>
            <a:ext cx="670572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1800" spc="-1" strike="noStrike">
                <a:solidFill>
                  <a:srgbClr val="262626"/>
                </a:solidFill>
                <a:latin typeface="Times New Roman"/>
              </a:rPr>
              <a:t>Таблица 2100. Работа врачей медицинской организации </a:t>
            </a:r>
            <a:br>
              <a:rPr sz="1800"/>
            </a:br>
            <a:r>
              <a:rPr b="1" lang="ru-RU" sz="1800" spc="-1" strike="noStrike">
                <a:solidFill>
                  <a:srgbClr val="262626"/>
                </a:solidFill>
                <a:latin typeface="Times New Roman"/>
              </a:rPr>
              <a:t>в амбулаторных условиях</a:t>
            </a:r>
            <a:endParaRPr b="0" lang="en-US" sz="1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56" name="Line 3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1698"/>
          <p:cNvSpPr/>
          <p:nvPr/>
        </p:nvSpPr>
        <p:spPr>
          <a:xfrm>
            <a:off x="504720" y="752400"/>
            <a:ext cx="8382240" cy="1762200"/>
          </a:xfrm>
          <a:prstGeom prst="rect">
            <a:avLst/>
          </a:prstGeom>
          <a:solidFill>
            <a:srgbClr val="d1dd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К строке 123 - В соответствии с приказом МЗ РФ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т 15 мая 2012 г. № 543н «Положение об организации оказания первичной медико-санитарной помощи взрослому населению» и приложением №5 «Правила организации деятельности отделения (кабинета) неотложной медицинской помощи» - оказание неотложной медицинской помощи лицам, обратившимся с признаками неотложных состояний, может осуществляться в амбулаторных условиях или на дому при вызове медицинского работника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1698"/>
          <p:cNvSpPr/>
          <p:nvPr/>
        </p:nvSpPr>
        <p:spPr>
          <a:xfrm>
            <a:off x="533520" y="2619360"/>
            <a:ext cx="8381880" cy="4095720"/>
          </a:xfrm>
          <a:prstGeom prst="rect">
            <a:avLst/>
          </a:prstGeom>
          <a:solidFill>
            <a:srgbClr val="b6c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К строке 124 - В соответствии с приказом МЗ РФ от 14.04.2015 №187н «Об утверждении Порядка оказания паллиативной медицинской помощи взрослому населению» и в соответствии с приложениями 1-6, 10-12 к настоящему Порядку - паллиативная медицинская помощь в амбулаторных условиях оказывается в кабинетах паллиативной медицинской помощи и выездными патронажными службами паллиативной медицинской помощи, созданными в медицинских организациях (в том числе в хосписах) на основе взаимодействия врачей-терапевтов, врачей-терапевтов участковых, врачей общей практики (семейных врачей), врачей по паллиативной медицинской помощи, иных врачей-специалистов и медицинских работников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оответствии с приказом МЗ РФ от 14.04.2015 №193н «Об утверждении Порядка оказания паллиативной медицинской помощи детям» оказание паллиативной медицинской помощи детям осуществляется: врачами-педиатрами участковыми, врачами общей практики (семейными врачами), врачами-педиатрами, врачами по паллиативной медицинской помощи, прошедшими обучение по дополнительным профессиональным программам повышения квалификации) по вопросам оказания паллиативной медицинской помощи детям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Text Box 1697"/>
          <p:cNvSpPr/>
          <p:nvPr/>
        </p:nvSpPr>
        <p:spPr>
          <a:xfrm>
            <a:off x="7236000" y="285840"/>
            <a:ext cx="16772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Продолж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1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1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670572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1800" spc="-1" strike="noStrike">
                <a:solidFill>
                  <a:srgbClr val="262626"/>
                </a:solidFill>
                <a:latin typeface="Times New Roman"/>
              </a:rPr>
              <a:t>Таблица 2100. Работа врачей медицинской организации </a:t>
            </a:r>
            <a:br>
              <a:rPr sz="1800"/>
            </a:br>
            <a:r>
              <a:rPr b="1" lang="ru-RU" sz="1800" spc="-1" strike="noStrike">
                <a:solidFill>
                  <a:srgbClr val="262626"/>
                </a:solidFill>
                <a:latin typeface="Times New Roman"/>
              </a:rPr>
              <a:t>в амбулаторных условиях</a:t>
            </a:r>
            <a:endParaRPr b="0" lang="en-US" sz="1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1" name="Line 3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2" name=""/>
          <p:cNvGraphicFramePr/>
          <p:nvPr/>
        </p:nvGraphicFramePr>
        <p:xfrm>
          <a:off x="304920" y="1066680"/>
          <a:ext cx="8610480" cy="5456520"/>
        </p:xfrm>
        <a:graphic>
          <a:graphicData uri="http://schemas.openxmlformats.org/drawingml/2006/table">
            <a:tbl>
              <a:tblPr/>
              <a:tblGrid>
                <a:gridCol w="2819160"/>
                <a:gridCol w="762120"/>
                <a:gridCol w="990720"/>
                <a:gridCol w="838080"/>
                <a:gridCol w="762120"/>
                <a:gridCol w="761760"/>
                <a:gridCol w="757440"/>
                <a:gridCol w="919080"/>
              </a:tblGrid>
              <a:tr h="639360">
                <a:tc rowSpan="3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осещ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общего числа посещений (из гр.3) сделано по поводу заболева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ей, включая профилактические - всего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ими жителя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лыми 18 лет и боле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7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ими жителя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 0-17 л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нуальной терап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из них посещений инвалид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29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лечебной физкультур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из них посещений инвалид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55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медицинской реабилит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из них посещений инвалид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58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отерапев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из них посещений инвалид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75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флексотерапев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из них посещений инвалид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8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отерапев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из них посещений инвалид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108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Кроме того, психоло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з них посещений инвалид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25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63" name="Text Box 1697"/>
          <p:cNvSpPr/>
          <p:nvPr/>
        </p:nvSpPr>
        <p:spPr>
          <a:xfrm>
            <a:off x="7368120" y="457200"/>
            <a:ext cx="14990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Внимание!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 Box 310"/>
          <p:cNvSpPr/>
          <p:nvPr/>
        </p:nvSpPr>
        <p:spPr>
          <a:xfrm>
            <a:off x="4211640" y="2590920"/>
            <a:ext cx="4343400" cy="459720"/>
          </a:xfrm>
          <a:prstGeom prst="rect">
            <a:avLst/>
          </a:prstGeom>
          <a:solidFill>
            <a:srgbClr val="e3ea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Times New Roman"/>
                <a:ea typeface="Arial"/>
              </a:rPr>
              <a:t>Добавлены стро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Text Box 310"/>
          <p:cNvSpPr/>
          <p:nvPr/>
        </p:nvSpPr>
        <p:spPr>
          <a:xfrm>
            <a:off x="4211640" y="3267000"/>
            <a:ext cx="4343400" cy="1191240"/>
          </a:xfrm>
          <a:prstGeom prst="rect">
            <a:avLst/>
          </a:prstGeom>
          <a:solidFill>
            <a:srgbClr val="b6c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орядок остается прежним: </a:t>
            </a:r>
            <a:r>
              <a:rPr b="1" lang="ru-RU" sz="1800" spc="-1" strike="noStrike">
                <a:solidFill>
                  <a:srgbClr val="990033"/>
                </a:solidFill>
                <a:latin typeface="Times New Roman"/>
                <a:ea typeface="Arial"/>
              </a:rPr>
              <a:t>Указываются посещения по вспомогательных подразделений только в случае «ведения» пациент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Rectangle 915"/>
          <p:cNvSpPr/>
          <p:nvPr/>
        </p:nvSpPr>
        <p:spPr>
          <a:xfrm>
            <a:off x="3895560" y="4876920"/>
            <a:ext cx="5029200" cy="1646280"/>
          </a:xfrm>
          <a:prstGeom prst="rect">
            <a:avLst/>
          </a:prstGeom>
          <a:solidFill>
            <a:srgbClr val="b6c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Century Gothic"/>
                <a:ea typeface="Arial"/>
              </a:rPr>
              <a:t>По стр.125 графы «По поводу заболевания» не заполняютс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Century Gothic"/>
                <a:ea typeface="Arial"/>
              </a:rPr>
              <a:t>Основные функции: Разработка развивающих и психокоррекционных программ по восстановлению здоровья больных и  проведение психодиагностических исследований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670572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1800" spc="-1" strike="noStrike">
                <a:solidFill>
                  <a:srgbClr val="262626"/>
                </a:solidFill>
                <a:latin typeface="Times New Roman"/>
              </a:rPr>
              <a:t>Таблица 2100. Работа врачей медицинской организации </a:t>
            </a:r>
            <a:br>
              <a:rPr sz="1800"/>
            </a:br>
            <a:r>
              <a:rPr b="1" lang="ru-RU" sz="1800" spc="-1" strike="noStrike">
                <a:solidFill>
                  <a:srgbClr val="262626"/>
                </a:solidFill>
                <a:latin typeface="Times New Roman"/>
              </a:rPr>
              <a:t>в амбулаторных условиях</a:t>
            </a:r>
            <a:endParaRPr b="0" lang="en-US" sz="1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8" name="Line 3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9" name=""/>
          <p:cNvGraphicFramePr/>
          <p:nvPr/>
        </p:nvGraphicFramePr>
        <p:xfrm>
          <a:off x="304920" y="1066680"/>
          <a:ext cx="8610480" cy="5456520"/>
        </p:xfrm>
        <a:graphic>
          <a:graphicData uri="http://schemas.openxmlformats.org/drawingml/2006/table">
            <a:tbl>
              <a:tblPr/>
              <a:tblGrid>
                <a:gridCol w="2819160"/>
                <a:gridCol w="762120"/>
                <a:gridCol w="990720"/>
                <a:gridCol w="838080"/>
                <a:gridCol w="762120"/>
                <a:gridCol w="761760"/>
                <a:gridCol w="757440"/>
                <a:gridCol w="919080"/>
              </a:tblGrid>
              <a:tr h="639360">
                <a:tc rowSpan="3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осещ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общего числа посещений (из гр.3) сделано по поводу заболева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ей, включая профилактические - всего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ими жителя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лыми 18 лет и боле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7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ими жителя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 0-17 л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нуальной терап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из них посещений инвалид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29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лечебной физкультур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из них посещений инвалид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55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медицинской реабилит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из них посещений инвалид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58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отерапев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из них посещений инвалид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75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флексотерапев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из них посещений инвалид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8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отерапев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из них посещений инвалид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108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Кроме того, психоло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з них посещений инвалид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25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70" name="Text Box 1697"/>
          <p:cNvSpPr/>
          <p:nvPr/>
        </p:nvSpPr>
        <p:spPr>
          <a:xfrm>
            <a:off x="7368120" y="457200"/>
            <a:ext cx="14990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Внимание!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Rectangle 915"/>
          <p:cNvSpPr/>
          <p:nvPr/>
        </p:nvSpPr>
        <p:spPr>
          <a:xfrm>
            <a:off x="1676520" y="2209680"/>
            <a:ext cx="6933960" cy="4267440"/>
          </a:xfrm>
          <a:prstGeom prst="rect">
            <a:avLst/>
          </a:prstGeom>
          <a:solidFill>
            <a:srgbClr val="b6c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Century Gothic"/>
                <a:ea typeface="Arial"/>
              </a:rPr>
              <a:t>стр.125 «Психологи»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Century Gothic"/>
                <a:ea typeface="Arial"/>
              </a:rPr>
              <a:t>заполняется на основании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  <a:ea typeface="Arial"/>
              </a:rPr>
              <a:t>журнала ежедневного учета психологических консультаций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который включает в себя следующие пункты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число первичных пациентов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число повторных пациентов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количество консультаций по видам психологической помощи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при этом отдельно выделяются графы по учету консультаций, проводимых в стационаре или на дому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(в амбулаторно-поликлиническом учреждении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журнал ведется ежедневно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670572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1800" spc="-1" strike="noStrike">
                <a:solidFill>
                  <a:srgbClr val="262626"/>
                </a:solidFill>
                <a:latin typeface="Times New Roman"/>
              </a:rPr>
              <a:t>Таблица 2100. Работа врачей медицинской организации </a:t>
            </a:r>
            <a:br>
              <a:rPr sz="1800"/>
            </a:br>
            <a:r>
              <a:rPr b="1" lang="ru-RU" sz="1800" spc="-1" strike="noStrike">
                <a:solidFill>
                  <a:srgbClr val="262626"/>
                </a:solidFill>
                <a:latin typeface="Times New Roman"/>
              </a:rPr>
              <a:t>в амбулаторных условиях</a:t>
            </a:r>
            <a:endParaRPr b="0" lang="en-US" sz="1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73" name="Line 3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4" name=""/>
          <p:cNvGraphicFramePr/>
          <p:nvPr/>
        </p:nvGraphicFramePr>
        <p:xfrm>
          <a:off x="76320" y="1066680"/>
          <a:ext cx="8839080" cy="4600800"/>
        </p:xfrm>
        <a:graphic>
          <a:graphicData uri="http://schemas.openxmlformats.org/drawingml/2006/table">
            <a:tbl>
              <a:tblPr/>
              <a:tblGrid>
                <a:gridCol w="1295280"/>
                <a:gridCol w="457200"/>
                <a:gridCol w="685800"/>
                <a:gridCol w="762120"/>
                <a:gridCol w="990360"/>
                <a:gridCol w="533520"/>
                <a:gridCol w="533520"/>
                <a:gridCol w="457200"/>
                <a:gridCol w="533160"/>
                <a:gridCol w="685800"/>
                <a:gridCol w="685800"/>
                <a:gridCol w="533520"/>
                <a:gridCol w="685800"/>
              </a:tblGrid>
              <a:tr h="822600">
                <a:tc rowSpan="3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осещ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общего числа посещений (из гр.3) сделано по поводу заболева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осещений врачами на дом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6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ей, включая профилактические - всего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c882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ими жителя-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лыми 18 лет и боле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 0-17 л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сельских жител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гр.9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гр. 12: по поводу заболева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ими жителя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dd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 0-17 л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поводу заболева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 0-17 л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376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иатры -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5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c882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4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ddb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участковые педиатр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4200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c882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39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ddb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3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едиатры городские, районн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c882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3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ddb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75" name="Text Box 1697"/>
          <p:cNvSpPr/>
          <p:nvPr/>
        </p:nvSpPr>
        <p:spPr>
          <a:xfrm>
            <a:off x="7363440" y="457200"/>
            <a:ext cx="14990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Внимание!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 Box 190"/>
          <p:cNvSpPr/>
          <p:nvPr/>
        </p:nvSpPr>
        <p:spPr>
          <a:xfrm>
            <a:off x="5334120" y="3200400"/>
            <a:ext cx="1752480" cy="1310760"/>
          </a:xfrm>
          <a:prstGeom prst="rect">
            <a:avLst/>
          </a:prstGeom>
          <a:solidFill>
            <a:srgbClr val="d1dd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Разница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стр. 45 – 46 – 47 по гр. 3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должна быть больше гр.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Text Box 191"/>
          <p:cNvSpPr/>
          <p:nvPr/>
        </p:nvSpPr>
        <p:spPr>
          <a:xfrm>
            <a:off x="7162920" y="3200400"/>
            <a:ext cx="1676160" cy="1310760"/>
          </a:xfrm>
          <a:prstGeom prst="rect">
            <a:avLst/>
          </a:prstGeom>
          <a:solidFill>
            <a:srgbClr val="d1dd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Разница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стр. 45 – 46 – 47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по гр. 3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должна быть больше гр. 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Text Box 192"/>
          <p:cNvSpPr/>
          <p:nvPr/>
        </p:nvSpPr>
        <p:spPr>
          <a:xfrm>
            <a:off x="5334120" y="4572000"/>
            <a:ext cx="3581280" cy="580680"/>
          </a:xfrm>
          <a:prstGeom prst="rect">
            <a:avLst/>
          </a:prstGeom>
          <a:solidFill>
            <a:srgbClr val="d1dd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Разница стр. 45 – 46 – 47 по гр. 4 должна быть больше гр. 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Text Box 193"/>
          <p:cNvSpPr/>
          <p:nvPr/>
        </p:nvSpPr>
        <p:spPr>
          <a:xfrm>
            <a:off x="5334120" y="5257800"/>
            <a:ext cx="3504960" cy="337320"/>
          </a:xfrm>
          <a:prstGeom prst="rect">
            <a:avLst/>
          </a:prstGeom>
          <a:solidFill>
            <a:srgbClr val="d1dd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И т.д. по всем графа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Text Box 194"/>
          <p:cNvSpPr/>
          <p:nvPr/>
        </p:nvSpPr>
        <p:spPr>
          <a:xfrm>
            <a:off x="152280" y="5715000"/>
            <a:ext cx="8763120" cy="580680"/>
          </a:xfrm>
          <a:prstGeom prst="rect">
            <a:avLst/>
          </a:prstGeom>
          <a:solidFill>
            <a:srgbClr val="fb93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Проверить аналогичные контроли по всем специальностям врачей, имеющих «входящие» строки. То есть, стр. 5 – акушеры гинекологи, стр. 67 – психиатры, стр. 69 – психиатры детские и т.д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Text Box 196"/>
          <p:cNvSpPr/>
          <p:nvPr/>
        </p:nvSpPr>
        <p:spPr>
          <a:xfrm>
            <a:off x="3276720" y="3657600"/>
            <a:ext cx="1981080" cy="179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Times New Roman"/>
                <a:ea typeface="Arial"/>
              </a:rPr>
              <a:t>Например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990033"/>
                </a:solidFill>
                <a:uFillTx/>
                <a:latin typeface="Times New Roman"/>
                <a:ea typeface="Arial"/>
              </a:rPr>
              <a:t>по гр. 3:</a:t>
            </a:r>
            <a:r>
              <a:rPr b="1" lang="ru-RU" sz="1600" spc="-1" strike="noStrike">
                <a:solidFill>
                  <a:srgbClr val="990033"/>
                </a:solidFill>
                <a:latin typeface="Times New Roman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Times New Roman"/>
                <a:ea typeface="Arial"/>
              </a:rPr>
              <a:t>5000-4200-400=400 </a:t>
            </a:r>
            <a:r>
              <a:rPr b="1" lang="ru-RU" sz="1600" spc="-1" strike="noStrike" u="sng">
                <a:solidFill>
                  <a:srgbClr val="990033"/>
                </a:solidFill>
                <a:uFillTx/>
                <a:latin typeface="Times New Roman"/>
                <a:ea typeface="Arial"/>
              </a:rPr>
              <a:t>по гр. 4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Times New Roman"/>
                <a:ea typeface="Arial"/>
              </a:rPr>
              <a:t>4800-3900-370=530   т.е. гр. 3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  <a:ea typeface="Arial"/>
              </a:rPr>
              <a:t>&lt; </a:t>
            </a:r>
            <a:r>
              <a:rPr b="1" lang="ru-RU" sz="1600" spc="-1" strike="noStrike">
                <a:solidFill>
                  <a:srgbClr val="990033"/>
                </a:solidFill>
                <a:latin typeface="Times New Roman"/>
                <a:ea typeface="Arial"/>
              </a:rPr>
              <a:t>гр. 4       ОШИБКА!!!!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Text Box 194"/>
          <p:cNvSpPr/>
          <p:nvPr/>
        </p:nvSpPr>
        <p:spPr>
          <a:xfrm>
            <a:off x="152280" y="5667480"/>
            <a:ext cx="8763120" cy="580680"/>
          </a:xfrm>
          <a:prstGeom prst="rect">
            <a:avLst/>
          </a:prstGeom>
          <a:solidFill>
            <a:srgbClr val="d1dd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Проверить аналогичные контроли по всем специальностям врачей, имеющих «входящие» строки. То есть, стр. 5 – акушеры гинекологи, стр. 67 – психиатры, стр. 69 – психиатры детские и т.д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200" spc="-1" strike="noStrike">
                <a:solidFill>
                  <a:srgbClr val="262626"/>
                </a:solidFill>
                <a:latin typeface="Times New Roman"/>
              </a:rPr>
              <a:t>Таблица 2101</a:t>
            </a:r>
            <a:r>
              <a:rPr b="0" lang="ru-RU" sz="2200" spc="-1" strike="noStrike">
                <a:solidFill>
                  <a:srgbClr val="262626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262626"/>
              </a:solidFill>
              <a:latin typeface="Century Gothic"/>
            </a:endParaRPr>
          </a:p>
        </p:txBody>
      </p:sp>
      <p:graphicFrame>
        <p:nvGraphicFramePr>
          <p:cNvPr id="1284" name=""/>
          <p:cNvGraphicFramePr/>
          <p:nvPr/>
        </p:nvGraphicFramePr>
        <p:xfrm>
          <a:off x="152280" y="914400"/>
          <a:ext cx="8763120" cy="4038480"/>
        </p:xfrm>
        <a:graphic>
          <a:graphicData uri="http://schemas.openxmlformats.org/drawingml/2006/table">
            <a:tbl>
              <a:tblPr/>
              <a:tblGrid>
                <a:gridCol w="5257800"/>
                <a:gridCol w="762120"/>
                <a:gridCol w="2743200"/>
              </a:tblGrid>
              <a:tr h="554040">
                <a:tc>
                  <a:txBody>
                    <a:bodyPr lIns="90000" rIns="90000" tIns="48600" bIns="486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8600" bIns="486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8600" bIns="486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800">
                <a:tc>
                  <a:txBody>
                    <a:bodyPr lIns="90000" rIns="90000" tIns="48600" bIns="486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8600" bIns="486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8600" bIns="486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800">
                <a:tc>
                  <a:txBody>
                    <a:bodyPr lIns="90000" rIns="90000" tIns="48600" bIns="48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ещения к среднему медицинскому персоналу всего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8600" bIns="486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8600" bIns="486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800">
                <a:tc>
                  <a:txBody>
                    <a:bodyPr lIns="90000" rIns="90000" tIns="48600" bIns="48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 на ФАПах (включая посещения на дому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8600" bIns="486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8600" bIns="486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800">
                <a:tc>
                  <a:txBody>
                    <a:bodyPr lIns="90000" rIns="90000" tIns="48600" bIns="48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на передвижны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8600" bIns="486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8600" bIns="486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800">
                <a:tc>
                  <a:txBody>
                    <a:bodyPr lIns="90000" rIns="90000" tIns="48600" bIns="48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фельдшерских пункта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8600" bIns="486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8600" bIns="486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800">
                <a:tc>
                  <a:txBody>
                    <a:bodyPr lIns="90000" rIns="90000" tIns="48600" bIns="48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на передвижны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8600" bIns="486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8600" bIns="486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90000" rIns="90000" tIns="48600" bIns="48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пунктах (кабинетах) неотложной медицинской помощи </a:t>
                      </a:r>
                      <a:r>
                        <a:rPr b="0" lang="ru-RU" sz="15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на дом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931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8600" bIns="486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8600" bIns="486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800">
                <a:tc>
                  <a:txBody>
                    <a:bodyPr lIns="90000" rIns="90000" tIns="48600" bIns="48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сельскому населению всего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931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8600" bIns="486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8600" bIns="486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800">
                <a:tc>
                  <a:txBody>
                    <a:bodyPr lIns="90000" rIns="90000" tIns="48600" bIns="48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лому населению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931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8600" bIns="486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8600" bIns="486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800">
                <a:tc>
                  <a:txBody>
                    <a:bodyPr lIns="90000" rIns="90000" tIns="48600" bIns="48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скому населению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931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8600" bIns="486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8600" bIns="486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85" name="Line 3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628"/>
          <p:cNvSpPr/>
          <p:nvPr/>
        </p:nvSpPr>
        <p:spPr>
          <a:xfrm>
            <a:off x="6172200" y="3309840"/>
            <a:ext cx="2743200" cy="1033560"/>
          </a:xfrm>
          <a:prstGeom prst="rect">
            <a:avLst/>
          </a:prstGeom>
          <a:solidFill>
            <a:srgbClr val="fb93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Внутриформенный контроль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строка 4 = сумме строк 4.2+4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628"/>
          <p:cNvSpPr/>
          <p:nvPr/>
        </p:nvSpPr>
        <p:spPr>
          <a:xfrm>
            <a:off x="6172200" y="1219320"/>
            <a:ext cx="2724120" cy="2054160"/>
          </a:xfrm>
          <a:prstGeom prst="rect">
            <a:avLst/>
          </a:prstGeom>
          <a:solidFill>
            <a:srgbClr val="e3ea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Из общего числа посещений к среднему медицинскому персоналу (стр. 1), в строке 4 указываются посещения среднего медицинского персонала пунктов (кабинетов) неотложной медицинской помощи, включая пункты на дому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2"/>
          <p:cNvSpPr/>
          <p:nvPr/>
        </p:nvSpPr>
        <p:spPr>
          <a:xfrm>
            <a:off x="152280" y="4724280"/>
            <a:ext cx="8744040" cy="19353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В строке 1 таблицы 2101 указываются посещения среднего медицинского персонала на самостоятельном приеме во врачебных амбулаторно-поликлинических учреждениях, на врачебных и фельдшерских здравпунктах, ФАПах и фельдшерских пунктах, включая передвижны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438840" algn="just">
              <a:lnSpc>
                <a:spcPct val="100000"/>
              </a:lnSpc>
              <a:buClr>
                <a:srgbClr val="e3eac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осещения к зубным врачам и гигиенистам стоматологическими в таблицу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не включаются,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учет деятельности ведется в таблице 2700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1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1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1676520" y="456840"/>
            <a:ext cx="579096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200" spc="-1" strike="noStrike">
                <a:solidFill>
                  <a:srgbClr val="262626"/>
                </a:solidFill>
                <a:latin typeface="Times New Roman"/>
              </a:rPr>
              <a:t>Таблица 2105</a:t>
            </a:r>
            <a:r>
              <a:rPr b="0" lang="ru-RU" sz="2200" spc="-1" strike="noStrike">
                <a:solidFill>
                  <a:srgbClr val="262626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262626"/>
              </a:solidFill>
              <a:latin typeface="Century Gothic"/>
            </a:endParaRPr>
          </a:p>
        </p:txBody>
      </p:sp>
      <p:graphicFrame>
        <p:nvGraphicFramePr>
          <p:cNvPr id="1290" name=""/>
          <p:cNvGraphicFramePr/>
          <p:nvPr/>
        </p:nvGraphicFramePr>
        <p:xfrm>
          <a:off x="152280" y="838080"/>
          <a:ext cx="8763120" cy="5681880"/>
        </p:xfrm>
        <a:graphic>
          <a:graphicData uri="http://schemas.openxmlformats.org/drawingml/2006/table">
            <a:tbl>
              <a:tblPr/>
              <a:tblGrid>
                <a:gridCol w="3733920"/>
                <a:gridCol w="533520"/>
                <a:gridCol w="1201680"/>
                <a:gridCol w="1008000"/>
                <a:gridCol w="762120"/>
                <a:gridCol w="1523880"/>
              </a:tblGrid>
              <a:tr h="274320"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общего числа посещений (табл. 2100, стр. 1)  сделано посещений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-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ими жителя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 0-17 л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сельскими жителями (из гр. 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заболеваниям: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в неотложной фор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тив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диспансерному наблюдени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профилактической и иными целями: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 медицинский осмот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спансеризац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плексный медицинский осмот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центрах здоровь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ллиативная помощ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тронаж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движными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амбулатория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ебными бригад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бильными медицинскими бригад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бильными медицинскими комплекс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1" name="Line 3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703"/>
          <p:cNvSpPr/>
          <p:nvPr/>
        </p:nvSpPr>
        <p:spPr>
          <a:xfrm>
            <a:off x="4495680" y="2666880"/>
            <a:ext cx="4419720" cy="2286000"/>
          </a:xfrm>
          <a:prstGeom prst="rect">
            <a:avLst/>
          </a:prstGeom>
          <a:solidFill>
            <a:srgbClr val="b6c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ещения, выполненные передвижными подразделениями, указываются из общего числа посещений (по заболеваниям и с профилактическими и иными целями). Также наличие передвижных подразделений и количество выездов  должно быть отображено в таблице 1003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Text Box 626"/>
          <p:cNvSpPr/>
          <p:nvPr/>
        </p:nvSpPr>
        <p:spPr>
          <a:xfrm>
            <a:off x="7139520" y="403200"/>
            <a:ext cx="14990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Внимание!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1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8T03:44:48Z</dcterms:created>
  <dc:creator>Шиблаков Иван Петрович</dc:creator>
  <dc:description/>
  <dc:language>en-US</dc:language>
  <cp:lastModifiedBy>classuser</cp:lastModifiedBy>
  <cp:lastPrinted>2018-11-07T07:41:24Z</cp:lastPrinted>
  <dcterms:modified xsi:type="dcterms:W3CDTF">2019-12-08T11:35:56Z</dcterms:modified>
  <cp:revision>68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