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679-BC99-4D6D-867B-D435E93A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4C4-4461-495B-84E2-62249BB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4A6-C758-4FC7-BAB8-AD104E2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3B2-7093-4FA3-915F-B21190D5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655-E51F-41D8-ACD9-3A5652A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DDA-C61A-41F3-A06A-091900A0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204-42EF-4705-AD9A-B9178A6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F93-78BA-4153-9318-B6254960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16A-4934-4264-8F84-BC4D7652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5DB-E472-4F8F-95AD-844FF1F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E0E-B8D8-4432-81B2-C81CC72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C9C-933A-43D3-88E9-EE0D495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7632-AA90-4E1A-882C-D69D9CD248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горова</cp:lastModifiedBy>
  <dcterms:modified xsi:type="dcterms:W3CDTF">2019-12-24T08:15:37Z</dcterms:modified>
  <cp:revision>301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