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B31-7D04-4F49-887B-424992713E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D0A-BE15-4A46-8445-7C776536BB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F4BA-C92D-45A5-8C9D-1867E9B46E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693-1BB1-43B5-A98E-776FCC2FB9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792-3E6E-4057-9FAB-221026A5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A15-DBA9-4401-96CE-301C0EA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3B3-B9AD-4C22-A89F-5B45E954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664-861C-4312-8A7F-375C0919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50EF-8146-4854-A27C-DFD33D89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81E9-BA47-43DF-B594-1888154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504-C1AA-4701-B94F-2B144D37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EB61-79E5-4675-8B7B-DD320C89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CA12-3BF4-442A-8249-6A339FA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D29B-7500-4C18-A64E-BD3C7A8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FDD-BF25-4E3B-84E9-D5D440E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046-FA48-4D3B-8CFA-112647BE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5F88-3E45-4745-8FEF-6896585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A9C8-69D0-4230-8F73-B7780BB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F83-E34C-4F14-AB02-99089C21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8C28-47AA-4C19-A5D2-050A4E8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9076-A6C3-4436-AB0D-C5FF9DEB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E3A-B368-46CE-AC0F-54BA7CD5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C6A-F200-434F-B004-4D202F73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E85-C47D-47FA-9CEB-9BD14714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A15-DB45-45DD-84FB-0862FFE9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237-36F1-4EF3-B662-A465964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062-5EF2-4455-9179-EF89CE0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B1B-2CC5-459D-9F0B-9C1715C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1014-795A-4DE1-B3F1-DF153FF8F2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590-5BAA-494A-9A4B-359652C20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AE6D-233F-484A-93F0-CB43B0246C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C6FA-1B00-4EC8-8ED6-2F324ADB8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6112-CC47-458D-B6C4-A7222E8B6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468360" y="4924440"/>
            <a:ext cx="79912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B402-5BAD-4F4A-B466-0DA4FE09A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46A5-57EC-49F2-ADAB-55C674B65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E1E0-5455-4DDB-9956-DF19E2097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C1A-1266-47EB-80EE-115568172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2400"/>
                <a:gridCol w="992160"/>
                <a:gridCol w="1068480"/>
                <a:gridCol w="1035000"/>
                <a:gridCol w="1152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6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4124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85F-B1F4-4608-A0D5-250C25914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543-E766-4E1B-A0D3-313073B95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B435-51B1-488E-8456-79E05021D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942D-67A9-41BE-B484-0E6B4CBF0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6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93FD-3715-4A32-B4C4-BB395A656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91F3-25D1-450F-9A55-77C774E47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02C-A2E2-45CB-8AE9-A8006A6D3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2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66C-1498-4D55-B2F5-50534677D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7453-9E03-485E-ACE2-3E2F8A3E8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266-85E4-4787-B11A-1A982ACD7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7ED-5301-4333-AFFB-CEAD82888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451-3D6B-4E29-A9D2-0B14AC970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BE22-57A1-4DCD-BC9D-04404AC6F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D7F-B592-487D-800D-1CA463FF5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708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B7D6-1D93-4348-9C56-8E585EF4E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7152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AD8-5EF2-4D20-92B6-0CF34DCEE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FBC-387D-4354-91CE-60AB7D53A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6CD-F0A5-4E6F-8333-2704DAD0E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42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D4F-B142-4C91-BAB6-1362663E1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FCA-081A-4E31-A09A-947BA89D3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1A26-D503-4134-AC0F-E4738BFBF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7D8-0863-498A-B8AC-F5C05C41D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1FFD-C05E-45F8-B5EF-8C28163E0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0A5C-21D5-4B9E-B08E-457075395E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EFE-C463-4017-82C3-BD5CBBD30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0A78-DD00-443B-8C39-6AA0A4238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92000" y="396720"/>
            <a:ext cx="7560000" cy="565020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797-4CCF-4933-890D-D8051D401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5861-56C0-4D80-A021-E60DC4B61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A78F-1316-4B03-BBD4-B96C255EC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3BF-26BB-4DE9-BC52-2858EAEF1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512F-11D2-41B6-AE11-2D83AD750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3A48-FCF1-44CE-954D-C6EA95DBE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A84-C6A7-421C-9D31-E1CDD80E3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965E-6FE3-4128-90E8-B91B8AB74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AD8B-F81E-41EA-AAC4-26D291527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B66E-7B38-4763-8D4C-21F339980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F603-E50B-49F3-AFDA-64A088C6D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33ED-6D7F-4444-90D6-759C7C262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CDB-214C-4A4D-B733-9FB3D8153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399-B501-4355-9A3D-E379E4767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FADE-46D4-4021-8132-A31E04F22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F5E5-5103-4AE3-8225-915720EC5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979-F626-4882-9680-1919EF313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63720" y="189000"/>
            <a:ext cx="7576920" cy="561492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799-B024-42B7-A05B-F71392E1D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1A6B-3B5D-4B3D-9BFD-B84424B65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83B-D5EC-4E5F-A005-EBC2B9E65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0BF-143C-48C2-A94A-CE1E10403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D886-1F16-4962-B5E3-818075EA3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563400" y="5013360"/>
            <a:ext cx="7991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C137-8940-4F3E-9070-B1EB9FFB4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468360" y="5164200"/>
            <a:ext cx="799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E5F1-0598-4B98-B706-B95531A6B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Мария МИ. Баринова</cp:lastModifiedBy>
  <cp:lastPrinted>2018-11-24T15:54:01Z</cp:lastPrinted>
  <dcterms:modified xsi:type="dcterms:W3CDTF">2019-12-24T08:09:11Z</dcterms:modified>
  <cp:revision>661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