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13F9-67BE-48A9-80E2-078014C176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8BC5-899F-4B72-BAE0-899948DF54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B2312B-0721-4CA5-9383-4B3808D374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E1B4-A88A-4C2E-AD41-DC5D4EA0A7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3158-2275-4E81-A03E-75F181C640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B88E-6447-41DD-BEF0-86D4686D6C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9C8C-C1B7-4944-9530-30580CE3A8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F500-71A8-4831-8CA9-82FBCAE06A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C26-C663-4139-8DA1-5F214171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137-8F63-4E81-8862-A4E85F65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B52-B100-4BEF-ACE1-F22AC942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A8B-50C8-4D0E-86F4-B9966A34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7B5-B904-489A-A4D9-97E7D796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D1F-4692-4799-AA4C-2CFA2805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AEA-192E-45BA-8DFD-78B99EAB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6D5-EE2C-4773-8088-02951095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01B-A36F-4286-9795-902B23C2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44B-7D34-4AD4-AE5D-E3BA94B1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5D0-A93F-4EEA-BA36-871B0C39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9F8-E110-4D19-9B38-17155DDD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DE08-04A3-4C00-9A67-4F5230CAA0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19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5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5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5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6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6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6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7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7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7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7400"/>
                <a:gridCol w="9349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19 апреля 2019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&lt; = 30.2120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&lt; =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1268280"/>
          <a:ext cx="8715600" cy="5400720"/>
        </p:xfrm>
        <a:graphic>
          <a:graphicData uri="http://schemas.openxmlformats.org/drawingml/2006/table">
            <a:tbl>
              <a:tblPr/>
              <a:tblGrid>
                <a:gridCol w="4537080"/>
                <a:gridCol w="503280"/>
                <a:gridCol w="916200"/>
                <a:gridCol w="1306440"/>
                <a:gridCol w="1452600"/>
              </a:tblGrid>
              <a:tr h="14320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8280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5480" y="1857240"/>
            <a:ext cx="8372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344920"/>
            <a:ext cx="80154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полненных вызов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1413000"/>
          <a:ext cx="7561080" cy="39988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765000"/>
          <a:ext cx="8643960" cy="530100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863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вызовов (обращений) для оказания медицинской помощи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7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травмоцентры 1 и 2 уров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еста дорожно-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6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9 г. по сравнению с 2018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+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= &lt; 30.1060.1.03 + 30.1060.2.03 + 30.1060.3.03+ 30.1060.4.03 + 30.1060.5.03 + 30.1060.6.03 + 30.1060.7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941400"/>
                <a:gridCol w="1251000"/>
                <a:gridCol w="1249200"/>
                <a:gridCol w="1251000"/>
                <a:gridCol w="1251000"/>
              </a:tblGrid>
              <a:tr h="352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7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5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9-12-10T04:45:47Z</dcterms:modified>
  <cp:revision>457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