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964A-B904-48A9-A2A5-2FFF6E5F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DB62-E352-48F1-88A8-DB8B092B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D627-FAF3-4D85-BF78-8CF8A167A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006C-93A4-4B50-852A-37AAF15DA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C5CF-F5E8-48EB-85E8-974168EF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05B6-83A5-486A-BF31-39726C0F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8A1A-BB30-42C7-BA32-2269B11A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B65E-8437-4070-BFF3-881CEB57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8AE3-0419-401C-8A58-F7816F02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4224-4726-406F-B11E-BF907AC9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BFA6-D5E4-4795-8DD6-38ED711A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D605-E102-49BA-B15C-47552316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0BED-8589-4AEC-B1A6-6ECBF041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C242-6202-4E6F-814D-123DBDC0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7987-53CE-46E9-93A4-0AC49064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B593-040A-4151-B46B-8FD40219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2FC3-A645-4DF5-B38F-8F9ABC6A1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BCFE-EABD-48C3-9E13-3E478616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F003-6AD0-46DA-B036-AE352459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A46B-E284-4F73-8E3D-D13ACFB7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B71D-688D-4574-925C-DE92A7BB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2A8B-C506-4079-B4D4-F3CD0AE9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317C-B2C9-4BA2-8BFC-6B35F8A3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9985-E690-44AC-AB00-103FB37C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92A7-B692-4A93-932F-841A88B66FF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80BC-F9E4-4384-894F-733721E7BEA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682560" y="317520"/>
            <a:ext cx="7785000" cy="1584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55280" y="2276640"/>
            <a:ext cx="7777080" cy="4248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СВЕДЕНИЯ О ЧИСЛЕ ЗАБОЛЕВАНИЙ,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ЗАРЕГИСТРИРОВАННЫХ У ПАЦИЕНТОВ, ПРОЖИВАЮЩИХ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В РАЙОНЕ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  <a:ea typeface="Verdana"/>
              </a:rPr>
              <a:t>ОБСЛУЖИВАНИЯ</a:t>
            </a: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 МЕДИЦИНСКОЙ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ОРГАНИЗАЦИИ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за  20_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19</a:t>
            </a: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__  г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ГОБУЗ МИАЦ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Обжогина Е.Н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г.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285840" y="1143000"/>
            <a:ext cx="85723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1000, 2000, 3000, 400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4 - заболевания, зарегистрированные у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ациентов впервые в жизни и повторно один  раз в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году (+ и -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5 – в возрасте 0-4 года, из графы 4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6 – в возрасте 5-9 лет, из графы 4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 этом графа 4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графам 5+6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8 – взято под диспансерное наблюдение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 течение года, из графы 4 «всего» (+ и -)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9 - заболевания, зарегистрированные у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ациентов впервые в жизни (+),  из графы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66600" y="268200"/>
            <a:ext cx="1287468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3" descr=""/>
          <p:cNvPicPr/>
          <p:nvPr/>
        </p:nvPicPr>
        <p:blipFill>
          <a:blip r:embed="rId1"/>
          <a:stretch/>
        </p:blipFill>
        <p:spPr>
          <a:xfrm>
            <a:off x="480960" y="853920"/>
            <a:ext cx="8321760" cy="28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ГРАФА 8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В гр. 8 показываются все, кто оставался стоять  на Д-учете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в 2018 году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, +(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  <a:ea typeface="굴림"/>
              </a:rPr>
              <a:t>впервые взятые на Д-учет в текущем году) +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(вновь прибывшие) + (больные, которым диагноз выставлен в прошлые годы, а на Д-учет они не брались) –или+ (переходные по возрасту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остоящие на Д-учете на конец 2018г.не касаются острых сосотояний!По ним на начало года всегда н0ль!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856800"/>
            <a:ext cx="82296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болеваний осуществляется по году рождения. Если в отчетном году ребенку исполняется 15 лет (с 1 января – по 31 декабря), то он считается подростком; 18 лет – взрослым, т.е. переход из одной возрастной группы в другую производится на начало года в не зависимости от того, когда у ребёнка или подростка день рождения. При этом вся их ранее известная заболеваемость показывается в графе 4 – всего, и только вновь выявленная в текущем году в первичной  заболеваемости  (графы 9 и 13  у  подростков, графа 9 у взрослых) соответствующих  таблиц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85840" y="642960"/>
            <a:ext cx="84009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굴림"/>
              </a:rPr>
              <a:t>Таблица 100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(Графа 15 за 2018 г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(переходные дети в подростки) + (впервые взятые на Д-учет в текущем году) + (вновь прибывшие) + (ранее стоящие на Д-учет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оторвавшиес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и кому диагноз был ранее установлен, но на Д-учете не состоял) = графа 8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굴림"/>
              </a:rPr>
              <a:t>Таблица 200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(Графа 15 за 2018г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(переходные подростки во взрослые) + (впервые взятые на Д-учет в текущем году) + (вновь прибывшие) + (ранее стоящие на Д-учет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оторвавшиес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и кому диагноз был ранее установлен, но на Д-учете не состоял) + (переходные из детей, таблицы 1000) = графа 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굴림"/>
              </a:rPr>
              <a:t>Таблица 300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(Графа 15 за 2018 г) + (впервые взятые на Д-учет в текущем году) + (вновь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прибывшие) + (ранее стоящие на Д-учет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оторвавшиес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и кому диагноз был ранее установлен, но на Д-учете не состоял) + (переходные из подростков, таблицы 2000) = графа 8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ГРАФА 14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57120" y="1934640"/>
            <a:ext cx="83296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14 – снято с диспансерного наблюден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сем причинам: выздоровление, смерть, переезд 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е место жительства и др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ход в другую возрастную групп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входит в графу 1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.8-гр.14=гр.15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Дети первых трех лет жизни</a:t>
            </a:r>
            <a:br>
              <a:rPr sz="50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блица 1500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428760" y="3003480"/>
            <a:ext cx="850104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заполняется на детей в возрас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0 до 3 лет 11  месяцев 29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895320" y="268200"/>
            <a:ext cx="8163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3"/>
          <p:cNvSpPr/>
          <p:nvPr/>
        </p:nvSpPr>
        <p:spPr>
          <a:xfrm>
            <a:off x="0" y="71424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-윤고딕140"/>
              </a:rPr>
              <a:t>таблица 1600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Arial"/>
                <a:ea typeface="-윤고딕140"/>
              </a:rPr>
              <a:t>Дети первого года жизни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Arial"/>
                <a:ea typeface="-윤고딕140"/>
              </a:rPr>
              <a:t>Факторы, влияющие на состояние здоровья населения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Arial"/>
                <a:ea typeface="-윤고딕140"/>
              </a:rPr>
              <a:t>и обращения в медицинские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Arial"/>
                <a:ea typeface="-윤고딕140"/>
              </a:rPr>
              <a:t>(с профилактической и иной целью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-윤고딕140"/>
              </a:rPr>
              <a:t>Таблица заполняется по обращениям детей первого года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642960" y="5286240"/>
          <a:ext cx="8215200" cy="1285920"/>
        </p:xfrm>
        <a:graphic>
          <a:graphicData uri="http://schemas.openxmlformats.org/drawingml/2006/table">
            <a:tbl>
              <a:tblPr/>
              <a:tblGrid>
                <a:gridCol w="2738520"/>
                <a:gridCol w="1084320"/>
                <a:gridCol w="4392360"/>
              </a:tblGrid>
              <a:tr h="728640"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00-T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557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открытые укушенные раны                           (только с кодом внешней причины W5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01, S11, S21, S31, S41, S51, S61, S71, S81, S9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ИЗМЕНЕНИЯ В ФОРМЕ!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таблицы 1000,2000,3000,4000 добавлена новые строки строки</a:t>
            </a: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1.3.1, 14.1.1, 20.1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42960" y="1928880"/>
          <a:ext cx="8229600" cy="1285920"/>
        </p:xfrm>
        <a:graphic>
          <a:graphicData uri="http://schemas.openxmlformats.org/drawingml/2006/table">
            <a:tbl>
              <a:tblPr/>
              <a:tblGrid>
                <a:gridCol w="2743200"/>
                <a:gridCol w="1085760"/>
                <a:gridCol w="4400640"/>
              </a:tblGrid>
              <a:tr h="768240">
                <a:tc>
                  <a:txBody>
                    <a:bodyPr lIns="68760" rIns="6876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невмо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12-J16,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517680">
                <a:tc>
                  <a:txBody>
                    <a:bodyPr lIns="68760" rIns="6876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ронхопневмония, вызванная S.Pneumoni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642960" y="3571920"/>
          <a:ext cx="8229600" cy="1285920"/>
        </p:xfrm>
        <a:graphic>
          <a:graphicData uri="http://schemas.openxmlformats.org/drawingml/2006/table">
            <a:tbl>
              <a:tblPr/>
              <a:tblGrid>
                <a:gridCol w="2743200"/>
                <a:gridCol w="1085760"/>
                <a:gridCol w="4400640"/>
              </a:tblGrid>
              <a:tr h="768240">
                <a:tc>
                  <a:txBody>
                    <a:bodyPr lIns="68760" rIns="687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тропат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00-М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517680">
                <a:tc>
                  <a:txBody>
                    <a:bodyPr lIns="68760" rIns="687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невмококковый артрит и полиартр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722160" y="85680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«Болезни уха и сосцевидного отростка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 строке </a:t>
            </a: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Острый средний отит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рафа «Всего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nstantia"/>
              </a:rPr>
              <a:t>строго равна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рафе «Впервые  жизни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табл.2000,3000,4000 по этой строке графы касающиеся диспансерного наблюдения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nstantia"/>
              </a:rPr>
              <a:t>не заполнять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3" descr=""/>
          <p:cNvPicPr/>
          <p:nvPr/>
        </p:nvPicPr>
        <p:blipFill>
          <a:blip r:embed="rId1"/>
          <a:stretch/>
        </p:blipFill>
        <p:spPr>
          <a:xfrm>
            <a:off x="457200" y="689040"/>
            <a:ext cx="8278920" cy="49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1" descr=""/>
          <p:cNvPicPr/>
          <p:nvPr/>
        </p:nvPicPr>
        <p:blipFill>
          <a:blip r:embed="rId1"/>
          <a:stretch/>
        </p:blipFill>
        <p:spPr>
          <a:xfrm>
            <a:off x="274680" y="1249200"/>
            <a:ext cx="8246880" cy="44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2"/>
          <p:cNvSpPr/>
          <p:nvPr/>
        </p:nvSpPr>
        <p:spPr>
          <a:xfrm>
            <a:off x="500040" y="928800"/>
            <a:ext cx="80010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ка 10.4.1.1 –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20.0 –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СТАБИЛЬНАЯ СТЕНОКАРДИЯ</a:t>
            </a:r>
            <a:br>
              <a:rPr sz="28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гистрируется раз в год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ся графы 4 и 9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4 = графе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2" descr=""/>
          <p:cNvPicPr/>
          <p:nvPr/>
        </p:nvPicPr>
        <p:blipFill>
          <a:blip r:embed="rId1"/>
          <a:stretch/>
        </p:blipFill>
        <p:spPr>
          <a:xfrm>
            <a:off x="281160" y="268200"/>
            <a:ext cx="86547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722160" y="714240"/>
            <a:ext cx="7772400" cy="51436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571680" y="1357200"/>
            <a:ext cx="8215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с острыми, повторными инфарктами миокарда наблюдаются в течени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8-30 дне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затем снимаются с диспансерного учета, поэтому в графе 15 таблиц 2000, 3000 и 4000 отмечают только тех пациентов, которые заболели в декабре меся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Заголовок 2" descr=""/>
          <p:cNvPicPr/>
          <p:nvPr/>
        </p:nvPicPr>
        <p:blipFill>
          <a:blip r:embed="rId1"/>
          <a:stretch/>
        </p:blipFill>
        <p:spPr>
          <a:xfrm>
            <a:off x="281160" y="268200"/>
            <a:ext cx="821664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Заголовок 1" descr=""/>
          <p:cNvPicPr/>
          <p:nvPr/>
        </p:nvPicPr>
        <p:blipFill>
          <a:blip r:embed="rId1"/>
          <a:stretch/>
        </p:blipFill>
        <p:spPr>
          <a:xfrm>
            <a:off x="171360" y="268200"/>
            <a:ext cx="85518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2"/>
          <p:cNvSpPr/>
          <p:nvPr/>
        </p:nvSpPr>
        <p:spPr>
          <a:xfrm>
            <a:off x="857160" y="71424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олезни органов дых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285840" y="1357200"/>
            <a:ext cx="850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с острыми пневмониями наблюдаются в течение 6 месяцев, а затем снимаются с диспансерного учета, поэтому в графе 15 таблиц 1000, 2000, 3000 и 4000 показываются только те пациенты, которые заболели во втором полугод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срок диспансерного наблюдения решает врач, и он может быть больше 6 м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2"/>
          <p:cNvSpPr/>
          <p:nvPr/>
        </p:nvSpPr>
        <p:spPr>
          <a:xfrm>
            <a:off x="714240" y="1071720"/>
            <a:ext cx="778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ОРВИ верхних дыхательный путей и грипп под диспансерное наблюдение, как правило, не беру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ы 8, 10, 14, 15-не заполняют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таблицы 3000,4000 добавлена новая строка 7.4.1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57120" y="2414520"/>
          <a:ext cx="7858080" cy="1443240"/>
        </p:xfrm>
        <a:graphic>
          <a:graphicData uri="http://schemas.openxmlformats.org/drawingml/2006/table">
            <a:tbl>
              <a:tblPr/>
              <a:tblGrid>
                <a:gridCol w="4006800"/>
                <a:gridCol w="924120"/>
                <a:gridCol w="2927160"/>
              </a:tblGrid>
              <a:tr h="719280">
                <a:tc>
                  <a:txBody>
                    <a:bodyPr lIns="68760" rIns="687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дегенеративные болезни нервной сис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723960">
                <a:tc>
                  <a:txBody>
                    <a:bodyPr lIns="68760" rIns="687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езнь Альцгейм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2"/>
          <p:cNvSpPr/>
          <p:nvPr/>
        </p:nvSpPr>
        <p:spPr>
          <a:xfrm>
            <a:off x="142920" y="1214280"/>
            <a:ext cx="887868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Строка 11.4-ОРВИ нижних дыхательных пу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полняется если есть детализация острого бронх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Если диагноз «Бронхит»без детализации 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0-14 лет(табл.1000)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5-17 лет и взрослые(табл.2000, 3000, 4000)-стр.11.7 «бронхит хронический и неуточненны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исьмо МЗ от 03.12.2015 №13-2/15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142920" y="857160"/>
            <a:ext cx="878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Болезни системы пищевар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анный раздел также включаются заболевания стоматологического профиля, но только те, которые подлежа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испансерному наблюд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2"/>
          <p:cNvSpPr/>
          <p:nvPr/>
        </p:nvSpPr>
        <p:spPr>
          <a:xfrm>
            <a:off x="500040" y="857160"/>
            <a:ext cx="8286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дельные состояния, возникающие в перинатальном пери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357120" y="1857240"/>
            <a:ext cx="8429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, регистрируются как острые (таблица 1000, графа 4 должна быть равна графе 9), дети наблюдаются в течение 1 месяца, поэтому в графе 15 на конец отчетного периода показывают только тех детей, у которых эти состояния развились в декабре месяц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4"/>
          <p:cNvSpPr/>
          <p:nvPr/>
        </p:nvSpPr>
        <p:spPr>
          <a:xfrm>
            <a:off x="428760" y="3786120"/>
            <a:ext cx="8286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7.0 (таблиц 2000 и 3000) заполняется только в случаях перинатальной смертности и касается состояния здоровья матери. В этих случаях состояния матери кодируются кодами Р00-Р04, а не кодам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ласса, и показываются в строке 17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Заголовок 1" descr=""/>
          <p:cNvPicPr/>
          <p:nvPr/>
        </p:nvPicPr>
        <p:blipFill>
          <a:blip r:embed="rId1"/>
          <a:stretch/>
        </p:blipFill>
        <p:spPr>
          <a:xfrm>
            <a:off x="493560" y="665280"/>
            <a:ext cx="7974000" cy="548640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2"/>
          <p:cNvSpPr/>
          <p:nvPr/>
        </p:nvSpPr>
        <p:spPr>
          <a:xfrm>
            <a:off x="500040" y="571680"/>
            <a:ext cx="8001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мптомы, признаки и отклонения от нормы, выявленные при клинических и лабораторных исследованиях, не классифицированные в других рубриках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остояния из этого класса (стр. 19.0), как правило, не должны регистрироваться.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гут быть единичные случаи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торые требуют объяснения, что это за симптомы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ить перечень включенных состояний (диагнозов) в соответствии с МКБ-10 (представить список в виде приложения к таблице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чет данные состояния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е берут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Заголовок 1" descr=""/>
          <p:cNvPicPr/>
          <p:nvPr/>
        </p:nvPicPr>
        <p:blipFill>
          <a:blip r:embed="rId1"/>
          <a:stretch/>
        </p:blipFill>
        <p:spPr>
          <a:xfrm>
            <a:off x="457200" y="781200"/>
            <a:ext cx="8236080" cy="62960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357200" y="5715000"/>
            <a:ext cx="6415200" cy="460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18360" tIns="360" bIns="360" anchor="t">
            <a:noAutofit/>
          </a:bodyPr>
          <a:p>
            <a:pPr algn="r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Constantia"/>
              </a:rPr>
              <a:t>                        </a:t>
            </a:r>
            <a:endParaRPr b="0" lang="en-US" sz="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Заголовок 3" descr=""/>
          <p:cNvPicPr/>
          <p:nvPr/>
        </p:nvPicPr>
        <p:blipFill>
          <a:blip r:embed="rId1"/>
          <a:stretch/>
        </p:blipFill>
        <p:spPr>
          <a:xfrm>
            <a:off x="858960" y="804960"/>
            <a:ext cx="812628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Заголовок 3" descr=""/>
          <p:cNvPicPr/>
          <p:nvPr/>
        </p:nvPicPr>
        <p:blipFill>
          <a:blip r:embed="rId1"/>
          <a:stretch/>
        </p:blipFill>
        <p:spPr>
          <a:xfrm>
            <a:off x="817560" y="1011240"/>
            <a:ext cx="793584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22160" y="571680"/>
            <a:ext cx="7772400" cy="5643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Некоторые КОНТРОЛ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Графа 4  </a:t>
            </a:r>
            <a:r>
              <a:rPr b="1" lang="ru-RU" sz="2200" spc="-1" strike="noStrike" u="sng">
                <a:solidFill>
                  <a:srgbClr val="ff0000"/>
                </a:solidFill>
                <a:uFillTx/>
                <a:latin typeface="Constantia"/>
              </a:rPr>
              <a:t>строго равна 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графе 9 по строка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2.1-кишечные инфекци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7.1- воспалительные болезни центральной нервной  систем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7.1.1- бактериальный менинги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7.1.2- энцефалит, миелит и энцефаломиели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9.2.1-острый средний оти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0.1-О.ревматическая лихорадк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0.4.1.1-нестабильная стенокард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0.4.2-О.инфарк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0.4.3-Повторный инфарк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0.4.4-др.формы острых ИБС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0.5.1-О.перикарди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0.5.2-острый и подострый эндокарди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0.5.3-О.миокарди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 10.6.1 по 10.6.4-все инсульт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0.6.7-последствия цереброваскулярных болезне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1"/>
          <p:cNvSpPr/>
          <p:nvPr/>
        </p:nvSpPr>
        <p:spPr>
          <a:xfrm>
            <a:off x="357120" y="1143000"/>
            <a:ext cx="8429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1.1-ОРВИ верх.дыхательных пу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1.1.1-О.ларингит и трахе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1.1.2-О.обстр.ларингит и эпиглотт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1.2-грип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1.3-пневмо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1.4-ОРВИ нижних дыхательных пу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2.9.1-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стрый панкреат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7.0-Отдельные состояния,возникающие в перинатальном перио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"/>
          <p:cNvSpPr/>
          <p:nvPr/>
        </p:nvSpPr>
        <p:spPr>
          <a:xfrm>
            <a:off x="2286000" y="255096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о этим же состояниям графа 8=графе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21"/>
          <p:cNvSpPr/>
          <p:nvPr/>
        </p:nvSpPr>
        <p:spPr>
          <a:xfrm>
            <a:off x="755640" y="62064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-윤고딕140"/>
                <a:ea typeface="-윤고딕140"/>
              </a:rPr>
              <a:t>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-윤고딕140"/>
                <a:ea typeface="-윤고딕140"/>
              </a:rPr>
              <a:t>2. Дети первых трех лет жизни                     (1500)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Таблица 1" descr=""/>
          <p:cNvPicPr/>
          <p:nvPr/>
        </p:nvPicPr>
        <p:blipFill>
          <a:blip r:embed="rId1"/>
          <a:stretch/>
        </p:blipFill>
        <p:spPr>
          <a:xfrm>
            <a:off x="682560" y="957240"/>
            <a:ext cx="770580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722160" y="856800"/>
            <a:ext cx="7772400" cy="4357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Constantia"/>
              </a:rPr>
              <a:t>СТРОГОЕ РАВЕНСТВО ВНИЗ ПО СТРОКА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тр.10.3 = сумме 10.3.1+….+10.3.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тр.10.4 = сумме 10.4.1+….+10.4.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тр.10.6 = сумме 10.6.1+….+10.6.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onstantia"/>
              </a:rPr>
              <a:t>ПО ВСЕМ ГРАФАМ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"/>
          <p:cNvSpPr/>
          <p:nvPr/>
        </p:nvSpPr>
        <p:spPr>
          <a:xfrm>
            <a:off x="214200" y="100008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28760" y="1643040"/>
          <a:ext cx="6095880" cy="1262160"/>
        </p:xfrm>
        <a:graphic>
          <a:graphicData uri="http://schemas.openxmlformats.org/drawingml/2006/table">
            <a:tbl>
              <a:tblPr/>
              <a:tblGrid>
                <a:gridCol w="2103480"/>
                <a:gridCol w="1280880"/>
                <a:gridCol w="2711520"/>
              </a:tblGrid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.4&gt;=гр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4f7dc">
                        <a:alpha val="99000"/>
                      </a:srgbClr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4f7dc">
                        <a:alpha val="99000"/>
                      </a:srgbClr>
                    </a:solidFill>
                  </a:tcPr>
                </a:tc>
                <a:tc rowSpan="5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ля всех строк в табл.1000,2000,3000,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f7dc">
                        <a:alpha val="99000"/>
                      </a:srgbClr>
                    </a:solidFill>
                  </a:tcPr>
                </a:tc>
              </a:tr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.4&gt;=гр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7dc">
                        <a:alpha val="99000"/>
                      </a:srgbClr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7dc">
                        <a:alpha val="99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.8&gt;=гр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7dc">
                        <a:alpha val="99000"/>
                      </a:srgbClr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7dc">
                        <a:alpha val="99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.9&gt;=гр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7dc">
                        <a:alpha val="99000"/>
                      </a:srgbClr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7dc">
                        <a:alpha val="99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72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.7&gt;=гр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f7dc">
                        <a:alpha val="99000"/>
                      </a:srgbClr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f7dc">
                        <a:alpha val="99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428760" y="3214800"/>
          <a:ext cx="6095880" cy="2773080"/>
        </p:xfrm>
        <a:graphic>
          <a:graphicData uri="http://schemas.openxmlformats.org/drawingml/2006/table">
            <a:tbl>
              <a:tblPr/>
              <a:tblGrid>
                <a:gridCol w="2103480"/>
                <a:gridCol w="1280880"/>
                <a:gridCol w="1333440"/>
                <a:gridCol w="454320"/>
                <a:gridCol w="426960"/>
                <a:gridCol w="496800"/>
              </a:tblGrid>
              <a:tr h="2844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.4&gt;=гр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 gridSpan="4" rowSpan="5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 для всех строк в табл.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7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.9&gt;=гр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4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.15&gt;=гр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7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.7&gt;=гр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72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.7&gt;=гр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62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.9&gt;=гр.11+гр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</a:tr>
              <a:tr h="2847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</a:tr>
              <a:tr h="2844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.9&gt;=гр.11+гр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 gridSpan="4"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 для всех строк в табл.3000,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36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500040" y="928800"/>
            <a:ext cx="847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000 выводить данные по девуш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оводить свер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143000" y="1785960"/>
          <a:ext cx="7000920" cy="1571760"/>
        </p:xfrm>
        <a:graphic>
          <a:graphicData uri="http://schemas.openxmlformats.org/drawingml/2006/table">
            <a:tbl>
              <a:tblPr/>
              <a:tblGrid>
                <a:gridCol w="4351320"/>
                <a:gridCol w="2649600"/>
              </a:tblGrid>
              <a:tr h="785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.4-гр.7&gt;=гр.9-гр.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7d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 всем строк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7dc"/>
                    </a:solidFill>
                  </a:tcPr>
                </a:tc>
              </a:tr>
              <a:tr h="785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.4-гр.7&gt;=гр.15-гр.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f7d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 всем строк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f7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Заголовок 2" descr=""/>
          <p:cNvPicPr/>
          <p:nvPr/>
        </p:nvPicPr>
        <p:blipFill>
          <a:blip r:embed="rId1"/>
          <a:stretch/>
        </p:blipFill>
        <p:spPr>
          <a:xfrm>
            <a:off x="523800" y="1176480"/>
            <a:ext cx="815040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Заголовок 3" descr=""/>
          <p:cNvPicPr/>
          <p:nvPr/>
        </p:nvPicPr>
        <p:blipFill>
          <a:blip r:embed="rId1"/>
          <a:stretch/>
        </p:blipFill>
        <p:spPr>
          <a:xfrm>
            <a:off x="682560" y="1908000"/>
            <a:ext cx="813744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Заголовок 3" descr=""/>
          <p:cNvPicPr/>
          <p:nvPr/>
        </p:nvPicPr>
        <p:blipFill>
          <a:blip r:embed="rId1"/>
          <a:stretch/>
        </p:blipFill>
        <p:spPr>
          <a:xfrm>
            <a:off x="682560" y="781200"/>
            <a:ext cx="8352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3"/>
          <p:cNvSpPr/>
          <p:nvPr/>
        </p:nvSpPr>
        <p:spPr>
          <a:xfrm>
            <a:off x="214200" y="1071720"/>
            <a:ext cx="871560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Раздел 2 «Дети первых трех лет жизни»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сравнивается с другими таблицами формы 12 и другими формами годового отчет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таблице 1000 – заболевания детей, зарегистрированные в 2019 году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дицинская организация заполняет таблицу 1500 на детей, которые проживают на территории обслуживания и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им исполнилось 3 год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в т.ч. умершие) – графа 4.</a:t>
            </a:r>
            <a:br>
              <a:rPr sz="1400"/>
            </a:b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Графа 5 «до 1 года, из графы 4»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заболевания детей, проживающих на территории обслуживания медицинской организации, им исполнилось 11 месяцев 29 дней (родились с 01.01.2018 по 31.12.2018 года).</a:t>
            </a:r>
            <a:br>
              <a:rPr sz="1400"/>
            </a:b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Графа 6 «от 1 до 3 лет, из графы 4»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заболевания детей, от 1 года до 2 лет 11 месяцев 29 дней.</a:t>
            </a:r>
            <a:br>
              <a:rPr sz="1400"/>
            </a:b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Графа 7 «до 1 месяца»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заболевания детей, из детей первого года жизни.</a:t>
            </a:r>
            <a:br>
              <a:rPr sz="1400"/>
            </a:b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умма граф 5 и 6 равна графе 4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всем строкам граф 5 и 10 на начало года 0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афа 5 = графе 10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афа 8 = графе 12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графах 16 и 17 представляется информация о выздоровевших и умерших. Выехавшие дети в данной графе не учитываются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афа 18 =гр.8-гр.16, по всем строкам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афа 19 =гр.9-гр.17, по всем строкам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графах 18 и 19 представляется информация о детях, состоящих под наблюдением по заболеваниям.</a:t>
            </a:r>
            <a:br>
              <a:rPr sz="1400"/>
            </a:b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Таблица 1600 «Дети первого года жизни» и табл. 1650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– вносится информация о детях, которым в 2019 году исполнился один год.Соответственно родились они с 01.01.2018 по 31.12.2018 года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Прямоугольник 3" descr=""/>
          <p:cNvPicPr/>
          <p:nvPr/>
        </p:nvPicPr>
        <p:blipFill>
          <a:blip r:embed="rId1"/>
          <a:stretch/>
        </p:blipFill>
        <p:spPr>
          <a:xfrm>
            <a:off x="536400" y="2120760"/>
            <a:ext cx="8143920" cy="8971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обавлена НОВАЯ табл.1601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3" descr=""/>
          <p:cNvPicPr/>
          <p:nvPr/>
        </p:nvPicPr>
        <p:blipFill>
          <a:blip r:embed="rId1"/>
          <a:stretch/>
        </p:blipFill>
        <p:spPr>
          <a:xfrm>
            <a:off x="420840" y="493560"/>
            <a:ext cx="811980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3" descr=""/>
          <p:cNvPicPr/>
          <p:nvPr/>
        </p:nvPicPr>
        <p:blipFill>
          <a:blip r:embed="rId1"/>
          <a:stretch/>
        </p:blipFill>
        <p:spPr>
          <a:xfrm>
            <a:off x="208080" y="566640"/>
            <a:ext cx="8485200" cy="589464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2"/>
          <p:cNvSpPr/>
          <p:nvPr/>
        </p:nvSpPr>
        <p:spPr>
          <a:xfrm>
            <a:off x="285840" y="714240"/>
            <a:ext cx="8358120" cy="57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азделы формы №12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ети (0-14 лет включительно) – таблиц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ти первых трех лет жизни – таблиц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0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Дети  (15-17 лет включительно) – таблиц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зрослые 18 лет  и старше - таблиц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0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зрослые старше трудоспособного возраста (с 55 лет у женщин и с 60 лет у мужчин) – таблиц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Диспансеризация студентов высших учебных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учреждений </a:t>
            </a:r>
            <a:br>
              <a:rPr sz="2200"/>
            </a:br>
            <a:br>
              <a:rPr sz="2200"/>
            </a:b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се данные в табл.4000 должны быть меньше или равны данным в табл.3000</a:t>
            </a:r>
            <a:br>
              <a:rPr sz="31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2" descr=""/>
          <p:cNvPicPr/>
          <p:nvPr/>
        </p:nvPicPr>
        <p:blipFill>
          <a:blip r:embed="rId1"/>
          <a:stretch/>
        </p:blipFill>
        <p:spPr>
          <a:xfrm>
            <a:off x="19080" y="281160"/>
            <a:ext cx="914868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8T10:10:48Z</dcterms:created>
  <dc:creator>u.oskov</dc:creator>
  <dc:description/>
  <dc:language>en-US</dc:language>
  <cp:lastModifiedBy>Лена</cp:lastModifiedBy>
  <dcterms:modified xsi:type="dcterms:W3CDTF">2019-12-23T09:57:52Z</dcterms:modified>
  <cp:revision>214</cp:revision>
  <dc:subject/>
  <dc:title>Слайд 1</dc:title>
</cp:coreProperties>
</file>