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7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ftr" idx="7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 type="sldNum" idx="7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981F-B434-4950-8CC4-F57F188BB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F2FF-1288-407A-860F-9F70C0A3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1CB-32D9-495C-A0BA-8B2AAE8F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6A1-EA8A-4A27-BA19-6AFCE455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73DBD-438A-4B8D-97A0-742867FD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421A5-2CF2-4B2B-8920-79F0D996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7B250-B55F-4A96-B45E-66B1A0DF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B9BA0-0097-47D2-8C35-7BF00A0A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D1608-83C9-4875-B0B3-4A9A031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74A88-6DA8-4CF7-A800-CB288127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9B790-D27B-4C70-9602-43A76B9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A48C0-DC4A-40A6-B775-F8BA5BC8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17842-7185-4387-AA8F-A57210F6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7C358-DC94-4C1C-98FA-B2F68FF1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79E-A7E6-45AA-919F-FBE8B30D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87B77-23CA-4C28-B688-B6EC6018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C241B-5C17-49F7-AAAE-33FEF811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DBC28-2540-4138-A05F-A8D963F4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97CEC-E1EC-4D0A-938E-812D926D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CB083-509C-4A12-BF20-53E4C95C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EF8EC-BCD8-4A3E-A47C-767F08B8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5BC4F-97D5-4BC5-B850-6BCB7002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5ABF5-78A8-4F25-B7DB-D7A5333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A8025-ECCA-4C7B-931C-72EC73E8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4FC81-E28E-423E-8DFB-CE26BBF8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5CB-449E-4BA3-9601-C01C0BD6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ADEA3-5D88-40A0-A34E-F2DAB78F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C1E97-B512-4164-B0C7-F85930DE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8496E-9F9E-4AAF-8ED9-B3156804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655D4-8297-4B81-A545-02B065AB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CD05A-2AB2-48BE-9E82-932CD044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EB58D-6717-4C15-8187-9A2E1CCF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7C8DC-DCCF-4755-B7AC-59AD88AF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99A77-D810-4B12-85B3-8CDF2C31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883CF-3168-4D53-A234-811B44EB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24BA4-1172-4A7B-9E1E-12CBEAC0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ADE3-DB41-4BC5-A66F-902CBE5E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C8AEB-DBB7-4274-B114-E69A5787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B2ADF-18F1-4822-BDFD-6ECA94A0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6CFFF-AAC6-43FC-B9FD-BAD2D30E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0360A-3024-469D-863A-18AABD74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A5533-2D7A-4627-948F-45043CFE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1CE43-27A8-4EEF-B459-FC0690EE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EAAFB-E08A-4ACC-9D42-07680EF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4801B-9830-4FCC-BA00-04C5DC8B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05DB1-EA6D-4AE2-A5FC-52D579F5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260F9-9A2D-4CE8-B3A1-359FB41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DF96-A57F-40E6-9281-E6EFBE84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F211A-D54F-481E-A561-DFAE28E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87397-811C-4045-BCCB-DEEF4A5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5AC97-8A37-4CAF-9517-FA3B352D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80CC2-E22F-4CC0-B402-D9ED413C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86114-64FB-41C7-B913-D8191435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935A8-6F81-4644-8B87-F3412B08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E2C1C-263A-4860-8A1D-37C6CD8F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05BDC-2193-4B73-9ADE-BD4C593D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22961-5871-416F-971F-10F216D3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95B23-8FEF-4954-A6BA-FA051600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B8F2-DCE0-432B-95BF-75087D8A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9798A-832C-403F-94C1-EE0FD560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B71AB-24AE-4446-9A58-CAC60C7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D9202-F600-427C-88BD-A08D9ABC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784AC-02BC-4120-8B81-E486A789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11AC1-59AD-414D-B195-A17EF122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0A504-36BB-4731-977B-00607FD3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E88F1-19FB-467B-849E-EC1C3427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4357E-D678-4800-8C81-0186D17C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9EAF4-0417-42CC-BF12-668D5674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5AAEC-4206-4150-918B-23FD2213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8F7B-6D1F-436F-965F-2793AA4B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EC10F-B49A-4508-8DD1-940E02AF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B1BE0-2337-44A4-8D29-D0F0CA54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D4F17-6422-456C-A7BB-5F69FA7C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8A80A-BB71-4083-8AE6-4DE96D2E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9C072-3CE0-4E35-967F-49B42DE7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70371-2100-443D-8FC1-007DC1DE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39C65-7078-4839-A557-8C0DC33D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228EF-39C3-4B79-AE3D-28B786E7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39E58-E7ED-4DE3-B892-6FCBA05E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398D9-FD3B-4256-AA12-B55CC58D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0192-18E1-4C55-A2A1-93C9D50D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5E80C-7CEB-4333-931A-DA1425CD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B8394-FA49-492A-BBE6-8BCE6FDB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27BDB-2738-430A-940B-1DCA710C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BF31F-4873-45C4-9A36-18FDC6CA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5F24E-A3E5-4A1A-BE1B-85C478E0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C0230-5F0A-4C5F-8126-7A818AA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6A460-D912-4C09-A532-486EEB14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BDC20-7525-440B-A687-8BA80163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838B4-1974-4466-BD32-9C75CE5D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81ACB7-5441-408A-A84F-056030A9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4E9D-F936-4A4A-A83E-E6B26702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CE8CB-2089-4D0E-945C-49039648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A9914-899D-462B-AD4D-B2773534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EAB223-39A5-4997-84A9-7898F27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570F8-17D2-4E08-B640-746266F5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1A44B-9FC5-4B38-BD02-62FB833A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C4A68-B498-4609-8FD7-AC0F6F08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42E20-4213-40FD-BDAF-B330C4D6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50BDD-1C2D-4383-A27A-162FB2F4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06882-8F48-4A77-BC04-B4AB9834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46953-75E5-4909-99FA-B5A1F3DE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125F-811C-471B-B9C9-37282185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F6F08-7F58-4DE5-9EC3-609B30D4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2FA15-EAED-41B7-9CB6-23E57B71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24B8E-F55B-4502-A586-0E231B3B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48E5C-53CF-4269-94F6-41F6F7CE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35F95-DD4F-464A-B7D8-83453926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3C0B3-BF8E-4263-BD3E-5A5D63F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77FC4E-A664-43D6-8BD4-06239D6D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D4DBC-D888-479C-8C33-0AA50E4C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3AC37-6F9D-4BDE-AB08-D8CB41D4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EA52E-65A3-447F-9286-A080688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566-3099-4EA3-A4D8-C6867F95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247F-15A7-4616-B498-DE77E39B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D3056-3FEF-48F3-866E-07488E8E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8F1EF-125D-4EF2-A993-2732745A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BCD46-0A7E-4AC4-8C0E-1CBFB2F6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A4B95-B7EB-4C93-8E57-82E09393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09EE9E-4C32-4A37-AC9C-61DBAE13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C7161-8EB3-4F41-9028-F1BF02E4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37CD64-07F7-43A8-B981-C0B6D3ED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D06700-4A6A-4464-BFC7-F46ACB83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01C60-00DF-4B00-B12E-5E15910C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1C2D29-7742-4154-B357-B6BEBAE6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3776-EBCA-4137-9BC0-0445E4F3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69FBF-51EE-49D9-8C33-A52C129C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6502D7-3169-4A11-B295-BD4AD41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9B07B-F6E6-4B9D-86F2-0E20A39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218B4-1C59-4E6F-9371-DF2AEEEF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CE0D3-D9EA-410C-BDB2-71DE0B00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C2BE7-2D74-4C01-8D24-98139DD1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8BBA5-E60C-4D21-9A5A-DD0D4011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D95FE-08A2-4DF4-8EEE-1DD3C22A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A9320-CABC-4937-A4C3-18D39A95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768AA1-AFA7-433F-AAC0-771B7F39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0E88-F261-4135-91D8-C2E276BB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FDF775-7015-417C-BF1B-99A65DC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A07CB6-3194-4322-B43D-6B74B2B4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3974D-0105-4C46-AC3D-1BD52C2B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75009-FF63-447B-A5AE-D367CC1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552101-3D5D-4025-9D90-CE80C19C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4EC7FF-20EF-4D65-BD03-C19D7C1C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48202-8706-4E9D-95D7-C27BCE23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8EA0E-3E8D-42AF-8E9A-27ABF806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B4AA74-CAF3-4048-A894-F308ECE5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314AB7-03D6-4A4C-9E39-16B4287B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889E-0F79-43B4-9A75-CCE69B8C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9277F-DAB7-44D2-BCA9-7CCB12F1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4C88C-CB74-4B20-9956-AB7D7C0B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78AB2-196F-4DA9-BFD6-19C96FB8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78E567-1D7B-47AD-86C2-47D72307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EB2F65-BF1E-4F1F-BC99-F3211BB7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117E0-0F52-458A-A81E-7318382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C49281-1805-4C57-B95C-FB939C85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A7C9B-4AB6-42EA-A44D-DEDEA47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E99B6-AED7-4157-B013-C3A2F50D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6B214-D857-4C94-AE23-02B9615D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058C-BBE9-4565-B368-3C0EC3A2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F5708-90B9-4F26-BDF4-603BEC73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26DB0-18F9-432A-A5D6-BEB5E88B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41E270-8336-4777-B9EB-2A059BC1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84D42-69CB-46CD-AA77-309B91C9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189551-C76F-4B19-9AC3-F162E280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358F52-A6E6-462C-8E8C-D675AD84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2BFA44-1B09-41A0-89FB-5A0BC2C6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6183BD-E7FA-4400-9760-3BB5C6A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C290B2-DEBF-447C-B75E-556ED474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1F768-3862-41C0-9E2C-925EB511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933E-C2DF-4460-AAFE-A54B5FFB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033D3B-1328-4A09-B5E9-76F0A970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13987-1C08-4F88-87A8-8D521BE7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976F3-F61C-4404-B76A-33463242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0FE7E1-138E-4A0D-AB65-1EC277E6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AD51AC-FCF7-4376-8293-45970080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1125A-75E9-4382-B34B-609627F5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1FB2C-0A6B-4FFB-922D-707FF43D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AA4E35-5DBE-4547-BB57-075D4916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3BC5FD-8CFC-4773-AEBC-886F6440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426726-8F44-45FA-B607-3DE5A41E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6532-4346-49C8-9AB7-0D891BA1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EC0C77-EE9E-4723-BFB3-36A08AE3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FFFB40-09C6-425E-9B17-6F00897E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DDB16C-D381-4C40-A747-61105295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E962FA-860A-454C-83A5-00153DD6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548925-2FDD-4E22-8653-C77664C1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FFE1D7-3924-4D36-BFC7-DE4F92AC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449CC5-AA9E-472C-B18F-79A725A8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884284-C930-4FF4-9F69-DE4D8FCF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4E54F4-BC77-4FA4-9457-FB5AEC94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4454B3-45DB-474D-A9F6-58797FD1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1A85-9D02-4E5B-B90E-84E6A753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4EBEA6-32EA-405D-AAC5-F4B55F76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A0A09C-434F-4B26-8D23-215BFC5F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6EAF24-98F5-4AA4-A0EE-1CBDCE44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7B24BF-5BBB-4158-AF09-88B59B8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595E6C-0426-4B46-A3AA-04870DE5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97EE58-0351-413F-BE2D-0D52436F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E4AF3D-25E7-4412-8B08-394B9000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0235E6-A2F6-4239-A139-251DB979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47B5A6-AFAB-4B58-9AD0-1AD2E637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24C56B-D859-42FC-8A4A-0E461F94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4263-2CFB-4ED4-9810-34C4763D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C91E7F-C0E9-44ED-89C7-F369A802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0DFBF3-427E-4E3F-A51E-1FF26250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29637E-E672-4E46-8E2E-0BBB76CF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85F7C5-B394-4B0A-BC72-0CB30BE4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D047A5-4DAE-410D-B486-4274B07B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044AE2-A6A4-483C-A769-562E429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30255-6322-4810-9BF2-9AB8E9F6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6CA1DD-9734-486E-AB40-7F0DFA5A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4007A9-A6C2-45FD-8DBE-A246848F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25AC4-C00D-4342-BCA8-54184BA7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194-4756-474E-AC30-421981BC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13D10-C213-40E2-B846-652D2419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24A95-3966-4E5E-A17F-6A67680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0E1C-7FEE-4ABB-8A7E-D4B13640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D710-6151-4284-A3CD-F4FB9DC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0847-0C83-48FA-8FC2-14CB8D10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986B-B7FE-4D6E-B00E-C4CFD74B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9A2A-1F3B-4799-AF25-E5496557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C0172-747C-4CA3-8F6A-58717F80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ABFC6-7231-40ED-A75F-C6E770E3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44A3E-6566-4D47-8491-91BAED55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C0E-8628-4C70-8F69-D1ECDC49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6974-E2BE-43F3-9E34-182CA19B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76CB-3A38-4521-A2CC-C7BE985D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43F9-E8DC-4418-915F-6AAE15C0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A1C7D-0270-4075-BB1C-EAC57F07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950A-BA97-4F18-93F9-F21F830C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F676-F55C-41A8-8F9A-F000592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C85FC-26B7-46ED-80B0-384D4C87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2B76-309C-4E85-98FE-DC298790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14AF2-F85D-431B-8465-7A57E7DC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6A7E0-45F0-43F1-8848-128E05D3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92E-4310-4E3D-BD77-50201A48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D2D0-4C3E-4F9C-A922-FB784B9C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4CD55-3574-4D0E-98F7-E8188BFA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D54BB-AEA6-4919-9B64-61560011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75DC-6D84-43B8-A219-BC2815F0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9E66-A834-47E5-BCE9-2D6E5BB9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EE9E1-B2E2-46C8-BE59-78BCE8E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D7A2D-0A9E-4181-9A03-D04B6902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019B6-D1F0-4371-8F74-95E3E427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89252-4989-48B4-A75E-4869223D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56E6-3852-4B64-B53F-F844A953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FFA-A123-4A83-8D59-563B9F0D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91DB4-B463-46B6-82FF-5326B4E5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D1D8D-CAB7-48E2-ACDD-7AAA03F2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5E4F2-0125-4DB1-81AB-BE7D259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AD97-9FE4-4C6B-BD72-9E0A7F1E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44188-64D7-429A-B9B2-2AC7DD8D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DF3B4-E753-4817-8B0B-0EA9A526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33B19-D038-4CC9-82FE-F880D7D4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71F67-7983-43B2-827E-8563059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3B712-E647-43F9-A5DC-13BC77A5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6710D-A159-4291-BFD4-CB6FC9B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22D-8EE5-49C2-9B5F-C78ACBE5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FB57-D671-4052-9630-B88238C2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8BCF3-4947-4DFB-B201-E7BAE730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D582-22AB-4CC4-B2EA-1D4D51AE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A7B82-4FFF-4196-819A-A2A45873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2C2B8-B9DE-4113-A976-8D315F02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185D-10F8-46D2-A566-18E08D71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A9A4A-BE22-4F54-8FCD-6C423B21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326A-394C-4306-B2F7-C985A4B3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011F4-EAFC-4A4C-AB12-EE10E148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2CB55-3588-4CF6-AB8E-477601E5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625-7B6E-4AE1-96FC-5E0665C6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CFD54-413A-4694-A706-5C86D58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89472-7923-416B-BEB5-AFE6308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F8448-1F9D-41BE-953C-548EDECE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96B40-38F3-4659-AEC5-0ADEB8E0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F0307-881E-43B8-8F62-23A99A52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69C7D-28D8-45C8-B33D-40D9A26A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9A5BA-ADE2-460C-9255-DC4A9F0C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844A5-6CCC-425E-92C9-E97B7A8E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FE3F7-3C92-43AA-83CF-58351F21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CF77A-9CA3-45D8-832F-1567E45A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DFE-2290-4255-A8C6-4A00E34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170F-3031-4539-9DC6-40153689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45311-1E6D-41BA-9AD0-2A88F8F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086AB-7BB5-4B32-BB3D-6F84F3C9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056D4-3BD7-423F-B9F9-735F3280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04A83-B0F8-43F2-AB1C-4D4F6A53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822D0-14A8-453D-B312-842A64F1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579AF-9514-4579-96BF-ED873FB8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A95BB-F752-491A-AFF3-CE54FDC4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BE2C0-8F71-49DC-8D50-E62C977D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C42C6-721D-4E7F-BB30-F4D159C0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E32A-F1FB-4D9A-ADCB-92389B11DFD1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6B5F-89BE-4AEB-A8C5-17F051E06F2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4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68A8-D76D-4F02-826B-8F62D02D705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2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4377-1735-4150-AF1E-92CAE4ADDA3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9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BF30-678E-4058-A9F1-40BC3967311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86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A938-BD38-4B3E-B1B7-CC0A0C47A9C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94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4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6352-7A55-4B3A-97F6-0935B1F573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1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900C-245D-4760-B66F-FF25DDAC062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5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051C-80FA-47FD-8265-C16AA48DB7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3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4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16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5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6462-1650-4177-97E8-82B3F9EF226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3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57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A7FB-95D7-4D24-B670-ACDE3231FB4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70F9-D037-4F78-804E-1B679C27408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6484-877D-456F-B702-E68135D3D54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8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AA7-21DE-47AC-B775-11C3A622C87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2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3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DC7B-6D18-4C71-B712-6EE97F7E0B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C54D-A20C-46CE-A15D-A33090522D3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15D-64E1-4C01-9C05-257B0F5E178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CE1-97CC-4029-B17A-B211ABC20636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F420-EAE5-4D4D-BF27-3F13AD7D22D5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8792-9CFF-4D93-8932-93730C108A43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6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6D1C-D62E-4FB4-BFFF-CF8398F1DE8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3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F9F1-0EF2-4C74-A751-7BA29B40C6D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42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A134-1F56-490B-AC95-A884E58A30B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B583-3511-4FEB-9561-C681894CC75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9281BDD39C87F3218B3AC503DFA8BEE3F12588B15DA6DF4A48D4F33551DF220D1F6398B8705A1704777545928C10681BB1A4257893729504hAm4H" TargetMode="External"/><Relationship Id="rId2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3B3CEBC88A1CC4C56F4AEF0A7CB4BB9016FAC6FF5594FF85EB6967FA2709A6E8BEB69EA3ACA394AF1F229E78DEBF360B738DFBA5E4272B87DX9E" TargetMode="External"/><Relationship Id="rId2" Type="http://schemas.openxmlformats.org/officeDocument/2006/relationships/hyperlink" Target="consultantplus://offline/ref=E3B3CEBC88A1CC4C56F4AEF0A7CB4BB90066A26BF1574FF85EB6967FA2709A6E8BEB69EE319E680CA6F47FB5D7BFFF7CB626DF7BX2E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.zdravohrana.ru/npd-doc.aspx?npmid=99&amp;npid=901807664&amp;anchor=XA00MCC2NT#XA00MCC2NT" TargetMode="External"/><Relationship Id="rId2" Type="http://schemas.openxmlformats.org/officeDocument/2006/relationships/slideLayout" Target="../slideLayouts/slideLayout25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1" name=""/>
          <p:cNvGraphicFramePr/>
          <p:nvPr/>
        </p:nvGraphicFramePr>
        <p:xfrm>
          <a:off x="324000" y="1327320"/>
          <a:ext cx="8450280" cy="453060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из распорядительного акта органа государственной власти или организации, создавших аттестационную комиссию, о присвоении специалистам, прошедшим аттестацию, квалификационных категор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 и фармацевтическим работникам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2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766f54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</a:tr>
            </a:tbl>
          </a:graphicData>
        </a:graphic>
      </p:graphicFrame>
      <p:sp>
        <p:nvSpPr>
          <p:cNvPr id="1675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3"/>
          <p:cNvGrpSpPr/>
          <p:nvPr/>
        </p:nvGrpSpPr>
        <p:grpSpPr>
          <a:xfrm>
            <a:off x="257040" y="4149720"/>
            <a:ext cx="8429400" cy="2512440"/>
            <a:chOff x="257040" y="4149720"/>
            <a:chExt cx="8429400" cy="2512440"/>
          </a:xfrm>
        </p:grpSpPr>
        <p:grpSp>
          <p:nvGrpSpPr>
            <p:cNvPr id="1679" name="Group 4"/>
            <p:cNvGrpSpPr/>
            <p:nvPr/>
          </p:nvGrpSpPr>
          <p:grpSpPr>
            <a:xfrm>
              <a:off x="257040" y="4149720"/>
              <a:ext cx="8429400" cy="2512440"/>
              <a:chOff x="257040" y="4149720"/>
              <a:chExt cx="8429400" cy="2512440"/>
            </a:xfrm>
          </p:grpSpPr>
          <p:grpSp>
            <p:nvGrpSpPr>
              <p:cNvPr id="1680" name="Group 5"/>
              <p:cNvGrpSpPr/>
              <p:nvPr/>
            </p:nvGrpSpPr>
            <p:grpSpPr>
              <a:xfrm>
                <a:off x="257040" y="4149720"/>
                <a:ext cx="8392320" cy="2512440"/>
                <a:chOff x="257040" y="4149720"/>
                <a:chExt cx="8392320" cy="2512440"/>
              </a:xfrm>
            </p:grpSpPr>
            <p:sp>
              <p:nvSpPr>
                <p:cNvPr id="1681" name="AutoShape 7"/>
                <p:cNvSpPr/>
                <p:nvPr/>
              </p:nvSpPr>
              <p:spPr>
                <a:xfrm>
                  <a:off x="622800" y="4149720"/>
                  <a:ext cx="7974720" cy="1055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499a1"/>
                    </a:gs>
                    <a:gs pos="50000">
                      <a:srgbClr val="13737d"/>
                    </a:gs>
                    <a:gs pos="100000">
                      <a:srgbClr val="5499a1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"/>
                <p:cNvSpPr/>
                <p:nvPr/>
              </p:nvSpPr>
              <p:spPr>
                <a:xfrm>
                  <a:off x="257040" y="4149720"/>
                  <a:ext cx="8392320" cy="2512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2e1e0"/>
                    </a:gs>
                    <a:gs pos="100000">
                      <a:srgbClr val="83cfc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Line 9"/>
              <p:cNvSpPr/>
              <p:nvPr/>
            </p:nvSpPr>
            <p:spPr>
              <a:xfrm>
                <a:off x="572040" y="4736520"/>
                <a:ext cx="6764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10"/>
              <p:cNvSpPr/>
              <p:nvPr/>
            </p:nvSpPr>
            <p:spPr>
              <a:xfrm>
                <a:off x="8010360" y="4736520"/>
                <a:ext cx="6760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Rectangle 11"/>
            <p:cNvSpPr/>
            <p:nvPr/>
          </p:nvSpPr>
          <p:spPr>
            <a:xfrm>
              <a:off x="1277280" y="4181040"/>
              <a:ext cx="667044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фа 15 + Графа 16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может быть больше Графы 9 по всем строкам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В случае если графа 15+16 не равна графе 9 </a:t>
              </a:r>
              <a:r>
                <a:rPr b="1" lang="ru-RU" sz="2000" spc="-1" strike="noStrike" u="sng">
                  <a:solidFill>
                    <a:srgbClr val="cc3300"/>
                  </a:solidFill>
                  <a:uFillTx/>
                  <a:latin typeface="Arial"/>
                </a:rPr>
                <a:t>представить пояснительную записку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При отсутствии/окончании срока действия сертификата – специалист не имеет права заниматься медицинской деятельностью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523800" y="1227240"/>
            <a:ext cx="839952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ИНИСТЕРСТВО ЗДРАВООХРАНЕНИЯ РОССИЙСКОЙ ФЕДЕРАЦИИ ПРИКАЗ от 22 декабря 2017 г. N 1043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ОБ УТВЕРЖДЕНИИ СРОКОВ И ЭТАПОВ АККРЕДИТАЦИИ СПЕЦИАЛИСТОВ, А ТАКЖЕ КАТЕГОРИЙ ЛИЦ, ИМЕЮЩ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МЕДИЦИНСКОЕ, ФАРМАЦЕВТИЧЕСКОЕ ИЛИ ИНОЕ ОБРАЗОВАНИЕ И ПОДЛЕЖАЩИХ АККРЕДИТАЦИИ СПЕЦИАЛИСТ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7" name=""/>
          <p:cNvGraphicFramePr/>
          <p:nvPr/>
        </p:nvGraphicFramePr>
        <p:xfrm>
          <a:off x="357120" y="1125360"/>
          <a:ext cx="8339040" cy="5151600"/>
        </p:xfrm>
        <a:graphic>
          <a:graphicData uri="http://schemas.openxmlformats.org/drawingml/2006/table">
            <a:tbl>
              <a:tblPr/>
              <a:tblGrid>
                <a:gridCol w="938160"/>
                <a:gridCol w="7400880"/>
              </a:tblGrid>
              <a:tr h="252540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января 2019 год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высшее образование по основным образовательным программам в соответствии с федеральными государственными образовательными стандартами в области образования "Здравоохранение и медицинские науки"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,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ебования к результатам освоения основных образовательных программ профессионального образования в части профессиональной компетенции которых сформированы на основе соответствующих профессиональных стандартов (при наличии) &lt;2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дополнительное профессиональное образование по программам профессиональной переподготовки, разработанным на основании установленных квалификационных требований, профессиональных стандартов и требований соответствующих федеральных государственных образовательных стандартов высшего образования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результатам освоения образовательных программ &lt;3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ред. </a:t>
                      </a:r>
                      <a:r>
                        <a:rPr b="1" i="1" lang="ru-RU" sz="1600" spc="-1" strike="noStrike" u="sng">
                          <a:solidFill>
                            <a:srgbClr val="fb4a18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Приказ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здрава России от 21.12.2018 N 898н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 txBox="1"/>
          <p:nvPr/>
        </p:nvSpPr>
        <p:spPr>
          <a:xfrm>
            <a:off x="396360" y="355680"/>
            <a:ext cx="8450280" cy="62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Минздрав пересмотрел категории выпускников-медиков, подлежащих аккредитации с 2019 и 2020 год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Медорганизации не должны принимать на работу без свидетельства об аккредитации тех, кто в 2019 году или позже завершит обучение в ординатуре в рамках высшего или дополнительного образования по следующим специальностям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невр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карди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бщая врачебная практика (семейная медицина)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нк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педиатр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терапия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По ранее действовавшим правилам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аккредитации с 2019 года подлежали и те, кто получит допобразование по программам профпереподготовки, основанным на квалификационных требованиях, профстандартах и ФГОС среднего профессионального и (или) высшего образования. Теперь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2"/>
              </a:rPr>
              <a:t>эта группа выпускников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должна получать свидетельства об аккредитации только с 2020 год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С 2020 года аккредитацию предстоит пройти и тем, кто после 1 января 2020 года получит высшее образование по основным образовательным программам "Здравоохранение и медицинские науки" (уровень бакалавриата, магистратуры, ординатуры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404040"/>
                </a:solidFill>
                <a:latin typeface="Times New Roman"/>
              </a:rPr>
              <a:t>Документ: Приказ Минздрава России от 21.12.2018 N 898н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29880" y="38412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МИНИСТЕРСТВО ЗДРАВООХРАНЕНИЯ РОССИЙСКОЙ ФЕДЕРАЦИИ ПИСЬМО от 8 августа 2019 г. N 16-7/И/2-7280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92120" y="140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месте с тем Положением наряду с выдачей свидетельства об аккредитации специалиста также предусмотрен еще один механизм подтверждения факта успешного прохождения процедуры аккредитации специалиста - выдача в течение трех дней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выписки из итогового протокола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, содержащей соответствующее решение (пункт 52 Положения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 связи с изложенным в настоящее время в медицинских и фармацевтических организациях, независимо от их формы собственности и ведомственной принадлежности, могут осуществлять медицинскую или фармацевтическую деятельность лица, успешно прошедшие в 2019 году процедуру первичной и первичной специализированной аккредитации специалистов,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имеющие выписку из итогового протокола и не имеющие до настоящего времени на руках свидетельства об аккредитации специалиста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Одновременно с этим, учитывая, что в соответствии с пунктом 53 Положения сведения о лицах, признанных прошедшими аккредитацию специалиста, вносятся в Федеральный регистр медицинских работников (далее - ФРМР), ведение которого предусмотрено приказом Минздрава России от 31.12.2013 N 1159н, осуществление проверки факта успешного прохождения процедуры аккредитации специалистом может осуществляться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путем получения соответствующей информации из ФРМР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 в процессе формирования личного дела при трудоустройстве указанного лица в медицинскую организацию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Дополнительно сообщаем, что факт успешного прохождения лицом аккредитации специалиста также может быть проверен на официальном сайте образовательной и (или) научной организаций в информационно-телекоммуникационной сети "Интернет", на базе которой проводилась аккредитация специалиста, путем сверки данных в выписке с данными в итоговом протокол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55280" y="290520"/>
            <a:ext cx="75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списка сотрудников, имеющих удостоверение об аккредитации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692" name="Объект 3" descr=""/>
          <p:cNvPicPr/>
          <p:nvPr/>
        </p:nvPicPr>
        <p:blipFill>
          <a:blip r:embed="rId1"/>
          <a:stretch/>
        </p:blipFill>
        <p:spPr>
          <a:xfrm>
            <a:off x="792000" y="1484280"/>
            <a:ext cx="8352000" cy="50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3" name="Прямоугольная выноска 2"/>
          <p:cNvSpPr/>
          <p:nvPr/>
        </p:nvSpPr>
        <p:spPr>
          <a:xfrm>
            <a:off x="684360" y="5516640"/>
            <a:ext cx="1800000" cy="576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ccc7b7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Диапазон дат -  с 2016 года по  настоящее врем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рямая соединительная линия 5"/>
          <p:cNvSpPr/>
          <p:nvPr/>
        </p:nvSpPr>
        <p:spPr>
          <a:xfrm>
            <a:off x="755640" y="6381720"/>
            <a:ext cx="1368360" cy="0"/>
          </a:xfrm>
          <a:prstGeom prst="line">
            <a:avLst/>
          </a:prstGeom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7"/>
          <p:cNvSpPr/>
          <p:nvPr/>
        </p:nvSpPr>
        <p:spPr>
          <a:xfrm>
            <a:off x="5940360" y="1665360"/>
            <a:ext cx="2808360" cy="1585800"/>
          </a:xfrm>
          <a:prstGeom prst="rect">
            <a:avLst/>
          </a:prstGeom>
          <a:solidFill>
            <a:srgbClr val="ee6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ату проведения аккредитации в диапазон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атус работника –работающ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ип занятия должности – основная должнос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8"/>
          <p:cNvSpPr/>
          <p:nvPr/>
        </p:nvSpPr>
        <p:spPr>
          <a:xfrm>
            <a:off x="2916360" y="615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Стрелка вправо 9"/>
          <p:cNvSpPr/>
          <p:nvPr/>
        </p:nvSpPr>
        <p:spPr>
          <a:xfrm>
            <a:off x="6164280" y="4105440"/>
            <a:ext cx="360360" cy="7272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Стрелка вправо 10"/>
          <p:cNvSpPr/>
          <p:nvPr/>
        </p:nvSpPr>
        <p:spPr>
          <a:xfrm>
            <a:off x="6164280" y="430200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Прямая соединительная линия 12"/>
          <p:cNvSpPr/>
          <p:nvPr/>
        </p:nvSpPr>
        <p:spPr>
          <a:xfrm>
            <a:off x="4788000" y="4302000"/>
            <a:ext cx="792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Рисунок 13" descr=""/>
          <p:cNvPicPr/>
          <p:nvPr/>
        </p:nvPicPr>
        <p:blipFill>
          <a:blip r:embed="rId2"/>
          <a:stretch/>
        </p:blipFill>
        <p:spPr>
          <a:xfrm>
            <a:off x="4788000" y="4437000"/>
            <a:ext cx="811080" cy="30240"/>
          </a:xfrm>
          <a:prstGeom prst="rect">
            <a:avLst/>
          </a:prstGeom>
          <a:ln w="0">
            <a:noFill/>
          </a:ln>
        </p:spPr>
      </p:pic>
      <p:sp>
        <p:nvSpPr>
          <p:cNvPr id="1701" name="TextBox 14"/>
          <p:cNvSpPr/>
          <p:nvPr/>
        </p:nvSpPr>
        <p:spPr>
          <a:xfrm>
            <a:off x="5884920" y="39434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15"/>
          <p:cNvSpPr/>
          <p:nvPr/>
        </p:nvSpPr>
        <p:spPr>
          <a:xfrm>
            <a:off x="5877000" y="418932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3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4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6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7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.о. должность «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» сохраняется для специалистов с высшим профессиональным (немедицинским) образованием, принятых на работу до 01.10.1999 года. Эти работники могут продолжать профессиональную деятельность в занимаемых должностях без сертификата специалис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9" name=""/>
          <p:cNvGraphicFramePr/>
          <p:nvPr/>
        </p:nvGraphicFramePr>
        <p:xfrm>
          <a:off x="517680" y="1143000"/>
          <a:ext cx="8173800" cy="329256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Rectangle 108"/>
          <p:cNvSpPr/>
          <p:nvPr/>
        </p:nvSpPr>
        <p:spPr>
          <a:xfrm>
            <a:off x="577800" y="4587840"/>
            <a:ext cx="808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ем все должности врачей приемного отдел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Обратить внимание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казываем должности «врач приемного отделения», независимо от специаль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Text Box 3"/>
          <p:cNvSpPr/>
          <p:nvPr/>
        </p:nvSpPr>
        <p:spPr>
          <a:xfrm>
            <a:off x="328680" y="131616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м учреждении штатно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писа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авляется отдельно по бюджетным подразделениям, ОМС и оказывающим платные медицинские услуги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2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Врачи «скорой медицинской помощи», работающие в кабинетах неотложной помощ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или в больницах скорой медицинской помощи указываются по графам «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амбулаторных условиях» или «в стационарных условиях» соответственно, при услов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наличия должности «врач скорой медицинской помощи» в штатном расписани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1" name=""/>
          <p:cNvGraphicFramePr/>
          <p:nvPr/>
        </p:nvGraphicFramePr>
        <p:xfrm>
          <a:off x="260280" y="1424160"/>
          <a:ext cx="8532720" cy="344304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2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5" name="Rectangle 628"/>
          <p:cNvSpPr/>
          <p:nvPr/>
        </p:nvSpPr>
        <p:spPr>
          <a:xfrm>
            <a:off x="2259000" y="4270320"/>
            <a:ext cx="6591240" cy="13492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деральные учреждения, подчинение субъекта РФ) медицински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распределяются по состоянию на конец отчетного года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629"/>
          <p:cNvSpPr/>
          <p:nvPr/>
        </p:nvSpPr>
        <p:spPr>
          <a:xfrm>
            <a:off x="2279520" y="2921040"/>
            <a:ext cx="6607440" cy="736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90360" indent="-90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токсиколог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8" name="Rectangle 629"/>
          <p:cNvSpPr/>
          <p:nvPr/>
        </p:nvSpPr>
        <p:spPr>
          <a:xfrm>
            <a:off x="1463760" y="6051600"/>
            <a:ext cx="6607080" cy="57780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 целью единого подхода использовать всем субъектам РФ данный перечень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347760" y="2122560"/>
          <a:ext cx="8450280" cy="29210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401d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1" name="Rectangle 2"/>
          <p:cNvSpPr/>
          <p:nvPr/>
        </p:nvSpPr>
        <p:spPr>
          <a:xfrm>
            <a:off x="1376280" y="746280"/>
            <a:ext cx="659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17"/>
          <p:cNvSpPr/>
          <p:nvPr/>
        </p:nvSpPr>
        <p:spPr>
          <a:xfrm>
            <a:off x="6802560" y="4413240"/>
            <a:ext cx="19270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541"/>
          <p:cNvSpPr/>
          <p:nvPr/>
        </p:nvSpPr>
        <p:spPr>
          <a:xfrm>
            <a:off x="5086440" y="4997520"/>
            <a:ext cx="3757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Строка 126 по графе 16 по логике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афа 17 – заполняе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4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5" name="Rectangle 915"/>
          <p:cNvSpPr/>
          <p:nvPr/>
        </p:nvSpPr>
        <p:spPr>
          <a:xfrm>
            <a:off x="3040200" y="2647800"/>
            <a:ext cx="5744880" cy="83844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917"/>
          <p:cNvSpPr/>
          <p:nvPr/>
        </p:nvSpPr>
        <p:spPr>
          <a:xfrm>
            <a:off x="3040200" y="3586320"/>
            <a:ext cx="5703840" cy="3999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915"/>
          <p:cNvSpPr/>
          <p:nvPr/>
        </p:nvSpPr>
        <p:spPr>
          <a:xfrm>
            <a:off x="3040200" y="4087800"/>
            <a:ext cx="5703840" cy="153504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Обратите вним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заполнени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 15 «Имеют сертификат» Сертификат указывается при наличи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документа установленного образц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16 «Имеют свидетельство об аккредитации»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8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7e18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9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медицинском 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3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4" name="Rectangle 719"/>
          <p:cNvSpPr/>
          <p:nvPr/>
        </p:nvSpPr>
        <p:spPr>
          <a:xfrm>
            <a:off x="2527200" y="2859120"/>
            <a:ext cx="6189840" cy="18288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в строке 150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804"/>
          <p:cNvSpPr/>
          <p:nvPr/>
        </p:nvSpPr>
        <p:spPr>
          <a:xfrm>
            <a:off x="2494080" y="4781520"/>
            <a:ext cx="6273720" cy="175896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указывать должности помощников: врача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эпидемиолога, врача-паразитолога, врача по гигиене детей 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ростков, врача по гигиене питания, врача по гигиене тру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а по гигиеническому воспитанию, врача по коммунально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6" name=""/>
          <p:cNvGraphicFramePr/>
          <p:nvPr/>
        </p:nvGraphicFramePr>
        <p:xfrm>
          <a:off x="455760" y="468360"/>
          <a:ext cx="8442000" cy="575316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400" spc="-1" strike="noStrike">
                          <a:solidFill>
                            <a:srgbClr val="de7e18"/>
                          </a:solidFill>
                          <a:latin typeface="Times New Roman"/>
                          <a:ea typeface="Times New Roman"/>
                        </a:rPr>
                        <a:t>Разница (ошибка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7" name="AutoShape 17"/>
          <p:cNvSpPr/>
          <p:nvPr/>
        </p:nvSpPr>
        <p:spPr>
          <a:xfrm>
            <a:off x="2482920" y="4819680"/>
            <a:ext cx="13762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8" name=""/>
          <p:cNvGraphicFramePr/>
          <p:nvPr/>
        </p:nvGraphicFramePr>
        <p:xfrm>
          <a:off x="455760" y="468360"/>
          <a:ext cx="8442000" cy="539424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ница между гр.9 и гр. 1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 по строкам 45-47,67-68,69-70, 71-72, 73-74, 96-100, 109-110, 127-138, 139-142, 150-151, 152-153, 163-166, 198-201, 202-206, 208-21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9" name="AutoShape 17"/>
          <p:cNvSpPr/>
          <p:nvPr/>
        </p:nvSpPr>
        <p:spPr>
          <a:xfrm>
            <a:off x="7155000" y="3195720"/>
            <a:ext cx="556920" cy="812880"/>
          </a:xfrm>
          <a:custGeom>
            <a:avLst/>
            <a:gdLst>
              <a:gd name="textAreaLeft" fmla="*/ 27000 w 556920"/>
              <a:gd name="textAreaRight" fmla="*/ 529920 w 556920"/>
              <a:gd name="textAreaTop" fmla="*/ 27000 h 812880"/>
              <a:gd name="textAreaBottom" fmla="*/ 785880 h 812880"/>
            </a:gdLst>
            <a:ahLst/>
            <a:rect l="textAreaLeft" t="textAreaTop" r="textAreaRight" b="textAreaBottom"/>
            <a:pathLst>
              <a:path w="21600" h="31521">
                <a:moveTo>
                  <a:pt x="3600" y="0"/>
                </a:moveTo>
                <a:arcTo wR="3600" hR="3600" stAng="16200000" swAng="-5400000"/>
                <a:lnTo>
                  <a:pt x="0" y="27921"/>
                </a:lnTo>
                <a:arcTo wR="3600" hR="3600" stAng="10800000" swAng="-5400000"/>
                <a:lnTo>
                  <a:pt x="18000" y="31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Стрелка влево 1"/>
          <p:cNvSpPr/>
          <p:nvPr/>
        </p:nvSpPr>
        <p:spPr>
          <a:xfrm>
            <a:off x="7711920" y="3017880"/>
            <a:ext cx="1390680" cy="159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530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а!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160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= стр.15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4"/>
          <p:cNvSpPr/>
          <p:nvPr/>
        </p:nvSpPr>
        <p:spPr>
          <a:xfrm>
            <a:off x="271440" y="1855800"/>
            <a:ext cx="8664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менования должностей указывается согласно квалификационным справочникам или профессиональным стандарт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необходимо, если сотрудники получают компенсации и льготы, например, досрочную пенсию или дополнительный отпуск. Или для должностей, по которым закон устанавливает ограничения, например, есть необходимость проходить предрейсовый медосмотр. Медработники, водители и педагоги подпадают под действие этой нормы (</a:t>
            </a:r>
            <a:r>
              <a:rPr b="0" lang="ru-RU" sz="18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ч. 2 ст. 57 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1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2" name="Rectangle 862"/>
          <p:cNvSpPr/>
          <p:nvPr/>
        </p:nvSpPr>
        <p:spPr>
          <a:xfrm>
            <a:off x="2522520" y="2884320"/>
            <a:ext cx="6369120" cy="20098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ах 168-173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880"/>
          <p:cNvSpPr/>
          <p:nvPr/>
        </p:nvSpPr>
        <p:spPr>
          <a:xfrm>
            <a:off x="2522520" y="5056200"/>
            <a:ext cx="6348600" cy="6094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67 может быть больше или равна сумме строк с 168 по 17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7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8" name="Rectangle 859"/>
          <p:cNvSpPr/>
          <p:nvPr/>
        </p:nvSpPr>
        <p:spPr>
          <a:xfrm>
            <a:off x="2490840" y="2610000"/>
            <a:ext cx="6345360" cy="1147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68 по 170. То есть специалисты с высш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863"/>
          <p:cNvSpPr/>
          <p:nvPr/>
        </p:nvSpPr>
        <p:spPr>
          <a:xfrm>
            <a:off x="2482920" y="4214880"/>
            <a:ext cx="6337080" cy="1171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71 по 173. То есть специалисты со средн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3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4" name="Rectangle 862"/>
          <p:cNvSpPr/>
          <p:nvPr/>
        </p:nvSpPr>
        <p:spPr>
          <a:xfrm>
            <a:off x="2558880" y="1198440"/>
            <a:ext cx="6370920" cy="155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имер: К профессиональной деятельности в качестве медицинской сестры врача общей практики допускаются лица, получившие высшее медицинское образование по специальности "Сестринское дело" и сертификат по специальности "Общая практика"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863"/>
          <p:cNvSpPr/>
          <p:nvPr/>
        </p:nvSpPr>
        <p:spPr>
          <a:xfrm>
            <a:off x="2584440" y="4221000"/>
            <a:ext cx="6337440" cy="2400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« и подготовка в интернатур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пециальности "Управление сестринской деятельностью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меститель руководителя МО; главная медицинская сестра (главная акушерка, главный фельдшер); директор больницы (дома) сестринского ухода, хосписа; заведующий (начальник) структурного подразделения (отдела, отделения, лаборатории, кабинета, отряда и другое) медицинской организации - врач-статистик; заведующий (начальник) структурного подразделения (отдела, отделения, лаборатории, кабинета, отряда и другое) медицинской организации - врач-методист; врач-статистик; врач-методист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880"/>
          <p:cNvSpPr/>
          <p:nvPr/>
        </p:nvSpPr>
        <p:spPr>
          <a:xfrm>
            <a:off x="2575080" y="2901960"/>
            <a:ext cx="6251400" cy="1244520"/>
          </a:xfrm>
          <a:prstGeom prst="rect">
            <a:avLst/>
          </a:prstGeom>
          <a:solidFill>
            <a:srgbClr val="ede6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бакалавриа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 направлению подготовки "Сестринское дел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Медицинская сестра общей практики, медицинская сестра по паллиативной помощи, медицинская сестра по профилактике, медицинская сестра по реабилит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720"/>
          <p:cNvSpPr/>
          <p:nvPr/>
        </p:nvSpPr>
        <p:spPr>
          <a:xfrm flipV="1">
            <a:off x="2216160" y="2362320"/>
            <a:ext cx="560520" cy="87768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720"/>
          <p:cNvSpPr/>
          <p:nvPr/>
        </p:nvSpPr>
        <p:spPr>
          <a:xfrm>
            <a:off x="2376360" y="3908520"/>
            <a:ext cx="425520" cy="32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720"/>
          <p:cNvSpPr/>
          <p:nvPr/>
        </p:nvSpPr>
        <p:spPr>
          <a:xfrm>
            <a:off x="2131920" y="4390920"/>
            <a:ext cx="654120" cy="3333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0" name=""/>
          <p:cNvGraphicFramePr/>
          <p:nvPr/>
        </p:nvGraphicFramePr>
        <p:xfrm>
          <a:off x="291960" y="193680"/>
          <a:ext cx="8629920" cy="6467400"/>
        </p:xfrm>
        <a:graphic>
          <a:graphicData uri="http://schemas.openxmlformats.org/drawingml/2006/table">
            <a:tbl>
              <a:tblPr/>
              <a:tblGrid>
                <a:gridCol w="1643040"/>
                <a:gridCol w="532080"/>
                <a:gridCol w="538200"/>
                <a:gridCol w="633240"/>
                <a:gridCol w="676440"/>
                <a:gridCol w="615960"/>
                <a:gridCol w="661680"/>
                <a:gridCol w="60192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7: анестез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1" name="Rectangle 885"/>
          <p:cNvSpPr/>
          <p:nvPr/>
        </p:nvSpPr>
        <p:spPr>
          <a:xfrm>
            <a:off x="2516040" y="3301920"/>
            <a:ext cx="6321600" cy="38124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может быть больше суммы строк с 174 по 19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885"/>
          <p:cNvSpPr/>
          <p:nvPr/>
        </p:nvSpPr>
        <p:spPr>
          <a:xfrm>
            <a:off x="2573280" y="4135320"/>
            <a:ext cx="6264360" cy="3970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вная медсестра включается только в строку 16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3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571680"/>
                <a:gridCol w="70452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4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7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8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их регистраторов, медицинских дезинфекторов, инструкторов по лечебной физкультур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удентов медицинских Вузов, имеющ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99800" y="47628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Несколько слов о трудоустройстве студентов.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риказом Минздрава РФ от 27.06.2016 N 419н утвержден Порядок допуска лиц к осуществлению медицинской (фармацевтической) деятельности на должностях среднего медицинского (фармацевтического) персонала, в соответствии с которым лиц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не завершившие освоение образовательных программ высшего медицинского (фармацевтического) образования, могут быть приняты на работу на указанные должности при налич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справки об обучении или о периоде обучения, подтверждающей освоение образовательной программы в необходимом объеме и по специальност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положительного результата сдачи экзамена по допуску к осуществлению медицинской (фармацевтической) деятельности (проводится в образовательном учреждении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Например, лица с незаконченным высшим образованием, освоившие образовательную программу высшего медицинского образования по специальностям "Лечебное дело", "Педиатрия", "Медико-профилактическое дело", "Стоматология" в объеме трех курсов и более или по направлению подготовки "Сестринское дело" в объеме двух курсов и более либо имеющие диплом специалиста (диплом бакалавра) по специальности "Лечебное дело", "Педиатрия", "Медико-профилактическое дело", "Сестринское дело" или "Стоматология"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могут быть приняты на работу в качестве медицинской сестры (медбрата), в том числе палатной, перевязочной, процедурной, по приему вызовов скорой медицинской помощи, приемного отделения, участково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33240" y="628560"/>
            <a:ext cx="7909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Сверка т.1100 с данными федерального регистра медицинских работников (ФРМР)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160200" y="2641680"/>
          <a:ext cx="8856720" cy="2141280"/>
        </p:xfrm>
        <a:graphic>
          <a:graphicData uri="http://schemas.openxmlformats.org/drawingml/2006/table">
            <a:tbl>
              <a:tblPr/>
              <a:tblGrid>
                <a:gridCol w="608040"/>
                <a:gridCol w="696960"/>
                <a:gridCol w="754200"/>
                <a:gridCol w="941400"/>
                <a:gridCol w="834840"/>
                <a:gridCol w="922320"/>
                <a:gridCol w="1190880"/>
                <a:gridCol w="1285560"/>
                <a:gridCol w="852840"/>
                <a:gridCol w="769680"/>
              </a:tblGrid>
              <a:tr h="300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/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бъект Российской Федер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медицинской организ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личество сотрудник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и и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едн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ладш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визо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армацев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1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9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1785" name="Прямоугольник 3"/>
          <p:cNvSpPr/>
          <p:nvPr/>
        </p:nvSpPr>
        <p:spPr>
          <a:xfrm>
            <a:off x="160200" y="1943280"/>
            <a:ext cx="86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об эксплуатации ФРМР на 31.12.2019 г. по сведениям о трудоустройстве по перечню организаций, заведенных в регистр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рямоугольник 4"/>
          <p:cNvSpPr/>
          <p:nvPr/>
        </p:nvSpPr>
        <p:spPr>
          <a:xfrm>
            <a:off x="160200" y="4896000"/>
            <a:ext cx="301788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, всего в отчете ФРМР на 31.12.2019 г. должно соответствовать сумме строк (1+143+217+139+213) по графе 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Прямоугольник 5"/>
          <p:cNvSpPr/>
          <p:nvPr/>
        </p:nvSpPr>
        <p:spPr>
          <a:xfrm>
            <a:off x="3249720" y="4896000"/>
            <a:ext cx="559260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 врачей, СМП, МПП, провизоров, фармацевтов в отчете ФРМР должно соответствовать стр. 1,143, 217, 139, 213 гр.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8" name="Прямая со стрелкой 6"/>
          <p:cNvCxnSpPr/>
          <p:nvPr/>
        </p:nvCxnSpPr>
        <p:spPr>
          <a:xfrm>
            <a:off x="357804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89" name="Прямая со стрелкой 14"/>
          <p:cNvCxnSpPr/>
          <p:nvPr/>
        </p:nvCxnSpPr>
        <p:spPr>
          <a:xfrm>
            <a:off x="86482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0" name="Прямая со стрелкой 15"/>
          <p:cNvCxnSpPr/>
          <p:nvPr/>
        </p:nvCxnSpPr>
        <p:spPr>
          <a:xfrm>
            <a:off x="78148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1" name="Прямая со стрелкой 16"/>
          <p:cNvCxnSpPr/>
          <p:nvPr/>
        </p:nvCxnSpPr>
        <p:spPr>
          <a:xfrm>
            <a:off x="674172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2" name="Прямая со стрелкой 17"/>
          <p:cNvCxnSpPr/>
          <p:nvPr/>
        </p:nvCxnSpPr>
        <p:spPr>
          <a:xfrm>
            <a:off x="550980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3" name="Прямая со стрелкой 18"/>
          <p:cNvCxnSpPr/>
          <p:nvPr/>
        </p:nvCxnSpPr>
        <p:spPr>
          <a:xfrm>
            <a:off x="266976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4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(кабинетов) профилактики (из таблицы 1100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*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5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1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* </a:t>
            </a:r>
            <a:r>
              <a:rPr b="1" lang="ru-RU" sz="1600" spc="-1" strike="noStrike">
                <a:solidFill>
                  <a:srgbClr val="de7e18"/>
                </a:solidFill>
                <a:latin typeface="Times New Roman"/>
                <a:ea typeface="Arial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0" y="235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спехов в работе, коллег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Должность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465120" y="3151080"/>
          <a:ext cx="8305920" cy="280512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6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0" name=""/>
          <p:cNvGraphicFramePr/>
          <p:nvPr/>
        </p:nvGraphicFramePr>
        <p:xfrm>
          <a:off x="228600" y="1371600"/>
          <a:ext cx="8686800" cy="435600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ач стати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евт участко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чебное дело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ая врачебная практика (семейная медицина)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1" name=""/>
          <p:cNvGraphicFramePr/>
          <p:nvPr/>
        </p:nvGraphicFramePr>
        <p:xfrm>
          <a:off x="490680" y="1371600"/>
          <a:ext cx="8196120" cy="4460760"/>
        </p:xfrm>
        <a:graphic>
          <a:graphicData uri="http://schemas.openxmlformats.org/drawingml/2006/table">
            <a:tbl>
              <a:tblPr/>
              <a:tblGrid>
                <a:gridCol w="3068640"/>
                <a:gridCol w="5127480"/>
              </a:tblGrid>
              <a:tr h="44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рганизаторы сестринского дела (стр.147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иректор больницы (дома) сестринского ухода, хосписа, заведующий молочной кухней, главная медицинская сестра, главный фельдшер, главная акушерка, старшая медицинская сестр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2" name="TextBox 1"/>
          <p:cNvSpPr/>
          <p:nvPr/>
        </p:nvSpPr>
        <p:spPr>
          <a:xfrm>
            <a:off x="2524320" y="423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ИМАНИЕ!!!!!!!!!!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5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ого типа (центры, бюро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этом если такая 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стр.1): руководители организаций и их заместители (организаторы здравоохран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8" name="Прямоугольник 3"/>
          <p:cNvSpPr/>
          <p:nvPr/>
        </p:nvSpPr>
        <p:spPr>
          <a:xfrm>
            <a:off x="2197080" y="3621240"/>
            <a:ext cx="6616800" cy="10659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classuser</cp:lastModifiedBy>
  <cp:lastPrinted>2018-11-27T04:13:37Z</cp:lastPrinted>
  <dcterms:modified xsi:type="dcterms:W3CDTF">2019-12-08T11:12:14Z</dcterms:modified>
  <cp:revision>115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