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64A7-B873-43BD-9F6C-E61AC17D8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762F-EF8C-4300-A3A7-0C646B749B85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1E2-7860-49B4-A11A-D41366E0394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531-27AE-41CF-A4AA-9EED5CE70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A5B-97F3-493C-9E30-CB9E32989CF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227-9C70-4EA5-B436-8F9DC05B527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9FE-3D58-4D45-AD27-87546E27BEC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5C41-000A-4313-B4B8-48C73FBB879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77E-B8FE-42E5-98E1-0C006C46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E2E-0C38-4115-AAF1-1D2954E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7F4-E22B-49D6-B46F-63846EC9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13E-E9DF-4159-B76C-F3D22AF4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BFD-502E-478B-ADBA-666642F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784-8E82-44E6-B391-2A05816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4AD-08A3-430A-9BFD-B2438EA0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E56-4A66-4972-B6BF-B9D6C72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73B-F594-46E0-8133-3C86EA7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D01-9735-4C34-A79A-CCB0092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514-CE91-434E-B230-67D0C5E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1CC-BC35-41CF-9FD4-FD660CE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6695-A767-483E-8905-960D00239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7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88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8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99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7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08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3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9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3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9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1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1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3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67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78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5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горова</cp:lastModifiedBy>
  <cp:lastPrinted>2018-12-10T14:36:03Z</cp:lastPrinted>
  <dcterms:modified xsi:type="dcterms:W3CDTF">2021-12-17T11:32:22Z</dcterms:modified>
  <cp:revision>177</cp:revision>
  <dc:subject/>
  <dc:title>Презентация PowerPoint</dc:title>
</cp:coreProperties>
</file>