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732588" cy="9864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9CD-4B23-44CC-972C-C975A5CE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209A-6A0F-4923-94A7-E8C7CF11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A8A-5FF8-40F5-B610-9D9F16C3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048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9613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9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2048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9613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B30-A7F7-4D1F-A843-75973271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1EA7-1317-4543-B362-7C169132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C6EB-33F1-41FD-842F-5F94E8E8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11D6-D6AF-4BA4-96C6-AC915413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6997-64CA-4832-92A9-8B3E538A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965C-345B-432D-852A-7EC54BED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04920"/>
            <a:ext cx="8534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E37C-949B-468C-95C7-AD9CA5D3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B8F4-D7CC-49B7-94A0-B6A3DC56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15B-6003-44E2-96F8-353619E8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0BDA8-ECFF-42C5-A410-4C969651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30E2-3D5E-4E68-A520-D6259D76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ECDF-99B5-440E-B53E-6FA2A4BF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7272-B26B-46A5-9E76-B4B17550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0480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61320" y="152388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479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20480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61320" y="391212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B883-3681-4107-9E8C-11038015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9AA1-93D6-4328-859C-9FC4D337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FA2-82D8-4901-8D96-256DAAA7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49B-4CAA-416F-A0FD-B585FA0A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304920"/>
            <a:ext cx="8534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1D25-1B1D-4C1D-8C64-AEE9130E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FC3-CB5D-440D-8C45-0BF45F0B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26080" y="391212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8A9F-8AA0-45EA-A061-2898302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6080" y="152388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920" y="3912120"/>
            <a:ext cx="815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309-512D-468C-8CD6-60AB0683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7696080" y="6019920"/>
            <a:ext cx="1905120" cy="58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479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51"/>
              </a:spcAft>
              <a:buClr>
                <a:srgbClr val="002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451"/>
              </a:spcAft>
              <a:buClr>
                <a:srgbClr val="002c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451"/>
              </a:spcAft>
              <a:buClr>
                <a:srgbClr val="002c7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451"/>
              </a:spcAft>
              <a:buClr>
                <a:srgbClr val="002c7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45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19320" y="6476760"/>
            <a:ext cx="1676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5392-2012-489C-AD9B-1B5BDB456D64}" type="datetime">
              <a:rPr b="0" lang="fi-FI" sz="7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95480" y="6476760"/>
            <a:ext cx="4648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04920" y="6476760"/>
            <a:ext cx="3808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1917-60F2-4943-81E1-4558678132A9}" type="slidenum">
              <a:rPr b="0" lang="fi-FI" sz="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612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2880" y="2286000"/>
            <a:ext cx="42674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c7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96080" y="6019920"/>
            <a:ext cx="1905120" cy="588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219320" y="6476760"/>
            <a:ext cx="1676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445A-9DCB-47DE-B661-79BAB29CD128}" type="datetime">
              <a:rPr b="0" lang="fi-FI" sz="7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2895480" y="6476760"/>
            <a:ext cx="4648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304920" y="6476760"/>
            <a:ext cx="3808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7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C23F-AD72-4165-9B89-31879D9D9C4C}" type="slidenum">
              <a:rPr b="0" lang="fi-FI" sz="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4191120"/>
            <a:ext cx="4267440" cy="0"/>
          </a:xfrm>
          <a:prstGeom prst="line">
            <a:avLst/>
          </a:prstGeom>
          <a:ln w="19080">
            <a:solidFill>
              <a:srgbClr val="002c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329600" y="5805360"/>
            <a:ext cx="257652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20880" y="10836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24160" y="1267560"/>
            <a:ext cx="73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41080" y="2375640"/>
            <a:ext cx="4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14520" y="4823280"/>
            <a:ext cx="38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8880" y="345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1800" y="2421000"/>
            <a:ext cx="90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4680" y="429408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129a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4520" y="0"/>
            <a:ext cx="920124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ФОРМА № 30 «Сведения о медицинской организаци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280a"/>
                </a:solidFill>
                <a:latin typeface="Arial"/>
              </a:rPr>
              <a:t>Отчет составляется всеми медицинскими организациями, входящими в номенклатуру медицинских организаций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риказ Минздрава от 06.08.2013 №529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88520" y="990360"/>
            <a:ext cx="9169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374"/>
              </a:spcAft>
              <a:buClr>
                <a:srgbClr val="002c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оменклатура медицинских организац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иказ Министерства здравоохранения Российской Федерации от 06.08.2013 N 529н "Об утверждении номенклатуры медицинских организац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Зарегистрировано в Минюсте России 13.09.2013 N 299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74"/>
              </a:spcAft>
              <a:buClr>
                <a:srgbClr val="002c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оменклатура кое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риказ Минздравсоцразвития России от 17.05.2012 N 555н "Об утверждении номенклатуры коечного фонда по профилям медицинской помощ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Зарегистрировано в Минюсте России 04.06.2012 N 2444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74"/>
              </a:spcAft>
              <a:buClr>
                <a:srgbClr val="002c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Номенклатура должност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Приказ Министерства здравоохранения Российской Федерации от 20.12.2012 N 1183н "Об утверждении номенклатуры должностей медицинских и фармацевтических работник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Зарегистрировано в Минюсте России 10.03.2013 N 27723), с изменениями на 01.08.2014 года Приказ Минздрава России №420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74"/>
              </a:spcAft>
              <a:buClr>
                <a:srgbClr val="002c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Реестр административно-территориальных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единиц субъект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74"/>
              </a:spcAft>
              <a:buClr>
                <a:srgbClr val="002c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Штатные расписания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74"/>
              </a:spcAft>
              <a:buClr>
                <a:srgbClr val="002c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Устав и лицензии медицинских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374"/>
              </a:spcAft>
              <a:buClr>
                <a:srgbClr val="002c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Общероссийский классификатор единиц изме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577800" y="457200"/>
            <a:ext cx="8667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Рекомендованные док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60520" y="981000"/>
            <a:ext cx="8850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Aft>
                <a:spcPts val="451"/>
              </a:spcAft>
              <a:buClr>
                <a:srgbClr val="002c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800" spc="-1" strike="noStrike" u="sng">
                <a:solidFill>
                  <a:srgbClr val="da280a"/>
                </a:solidFill>
                <a:uFillTx/>
                <a:latin typeface="Times New Roman"/>
              </a:rPr>
              <a:t>сельскими жител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едует понимать </a:t>
            </a: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контингенты населения, постоянно проживающие в сельски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селенных пунктах или сельских поселениях, расположенных в сельских муниципальных образованиях, а также в сельских населенных пунктах, входящих в состав городских поселений или городских окру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451"/>
              </a:spcAft>
              <a:buClr>
                <a:srgbClr val="002c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800" spc="-1" strike="noStrike" u="sng">
                <a:solidFill>
                  <a:srgbClr val="da280a"/>
                </a:solidFill>
                <a:uFillTx/>
                <a:latin typeface="Times New Roman"/>
              </a:rPr>
              <a:t>сельской мест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понимаются сельские населенные пункты или сельские поселения, расположенные в сельских муниципальных образованиях, а также сельские населенные пункты, входящие в состав городских поселений или городских окру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Aft>
                <a:spcPts val="451"/>
              </a:spcAft>
              <a:buClr>
                <a:srgbClr val="002c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чень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(Реестр административно-территориальных единиц субъекта Российской Федерации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таких сельских населенных пунктов на территории субъекта Российской Федерации определяется и утверждается исполнительным органом государственной власти субъекта Российской Федер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60240" y="533520"/>
            <a:ext cx="866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Кроме того, при заполнении ФФСН №30, следует иметь в ви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764640"/>
            <a:ext cx="8534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280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da280a"/>
                </a:solidFill>
                <a:uFillTx/>
                <a:latin typeface="Times New Roman"/>
                <a:ea typeface="Times New Roman"/>
              </a:rPr>
              <a:t>Станции (отделения) скорой помощи</a:t>
            </a:r>
            <a:br>
              <a:rPr sz="3200"/>
            </a:br>
            <a:r>
              <a:rPr b="1" lang="ru-RU" sz="3200" spc="-1" strike="noStrike">
                <a:solidFill>
                  <a:srgbClr val="002c72"/>
                </a:solidFill>
                <a:latin typeface="Times New Roman"/>
              </a:rPr>
              <a:t>                            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8880" y="691920"/>
            <a:ext cx="875196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00 (для самост.)                2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01 стр.70                             22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60                                         220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00                                         2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05                                         235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110 (при наличии)               54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120                                         545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Aft>
                <a:spcPts val="751"/>
              </a:spcAft>
              <a:buClr>
                <a:srgbClr val="002c72"/>
              </a:buClr>
              <a:buFont typeface="Arial"/>
              <a:buAutoNum type="arabicPlain" startAt="21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4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Aft>
                <a:spcPts val="751"/>
              </a:spcAft>
              <a:buClr>
                <a:srgbClr val="002c72"/>
              </a:buClr>
              <a:buFont typeface="Arial"/>
              <a:buAutoNum type="arabicPlain" startAt="21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 u="sng">
                <a:solidFill>
                  <a:srgbClr val="0078c7"/>
                </a:solidFill>
                <a:uFillTx/>
                <a:latin typeface="Arial"/>
              </a:rPr>
              <a:t>ОБЯЗАТЕЛЬ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78c7"/>
                </a:solidFill>
                <a:latin typeface="Arial"/>
              </a:rPr>
              <a:t>7000-70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8c7"/>
                </a:solidFill>
                <a:latin typeface="Arial"/>
              </a:rPr>
              <a:t>                    </a:t>
            </a:r>
            <a:r>
              <a:rPr b="1" lang="ru-RU" sz="4000" spc="-1" strike="noStrike">
                <a:solidFill>
                  <a:srgbClr val="0078c7"/>
                </a:solidFill>
                <a:latin typeface="Arial"/>
              </a:rPr>
              <a:t>8000-8003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534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280a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 u="sng">
                <a:solidFill>
                  <a:srgbClr val="da280a"/>
                </a:solidFill>
                <a:uFillTx/>
                <a:latin typeface="Arial"/>
              </a:rPr>
              <a:t>Санатории и санаторные подразделения</a:t>
            </a:r>
            <a:br>
              <a:rPr sz="3200"/>
            </a:br>
            <a:r>
              <a:rPr b="1" lang="ru-RU" sz="3200" spc="-1" strike="noStrike">
                <a:solidFill>
                  <a:srgbClr val="002c72"/>
                </a:solidFill>
                <a:latin typeface="Times New Roman"/>
              </a:rPr>
              <a:t>                            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0520" y="836640"/>
            <a:ext cx="9345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00, 1001, 1080, 110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10 (при налич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>
                <a:solidFill>
                  <a:srgbClr val="da280a"/>
                </a:solidFill>
                <a:latin typeface="Arial"/>
              </a:rPr>
              <a:t>3150 ОБЯЗАТЕЛЬ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 наличии кабинетов по т.1001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полн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601 (физио), 4701 (ЛФК), 5300 и 5301(лабо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8c7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78c7"/>
                </a:solidFill>
                <a:latin typeface="Arial"/>
              </a:rPr>
              <a:t>ОБЯЗАТЕЛЬНО!</a:t>
            </a:r>
            <a:r>
              <a:rPr b="1" lang="ru-RU" sz="3200" spc="-1" strike="noStrike" u="sng">
                <a:solidFill>
                  <a:srgbClr val="0078c7"/>
                </a:solidFill>
                <a:uFillTx/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00-7001, 8000-800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9920"/>
            <a:ext cx="85345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280a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 u="sng">
                <a:solidFill>
                  <a:srgbClr val="da280a"/>
                </a:solidFill>
                <a:uFillTx/>
                <a:latin typeface="Arial"/>
              </a:rPr>
              <a:t>Станции (отделения) переливания крови</a:t>
            </a:r>
            <a:br>
              <a:rPr sz="3200"/>
            </a:br>
            <a:r>
              <a:rPr b="1" lang="ru-RU" sz="3200" spc="-1" strike="noStrike">
                <a:solidFill>
                  <a:srgbClr val="002c72"/>
                </a:solidFill>
                <a:latin typeface="Times New Roman"/>
              </a:rPr>
              <a:t>                            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08160" y="119664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0 (для самост.станци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 (при наличи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0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10 (при наличи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200, 3201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вспомогательных кабинетов (при наличии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8c7"/>
                </a:solidFill>
                <a:latin typeface="Arial"/>
              </a:rPr>
              <a:t>ОБЯЗА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8c7"/>
                </a:solidFill>
                <a:latin typeface="Arial"/>
              </a:rPr>
              <a:t>7000-7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8c7"/>
                </a:solidFill>
                <a:latin typeface="Arial"/>
              </a:rPr>
              <a:t>8000-800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4880" y="549360"/>
            <a:ext cx="8534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280a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3600" spc="-1" strike="noStrike">
                <a:solidFill>
                  <a:srgbClr val="da280a"/>
                </a:solidFill>
                <a:latin typeface="Arial"/>
              </a:rPr>
              <a:t>БСМЭ</a:t>
            </a:r>
            <a:br>
              <a:rPr sz="3200"/>
            </a:br>
            <a:r>
              <a:rPr b="1" lang="ru-RU" sz="3200" spc="-1" strike="noStrike">
                <a:solidFill>
                  <a:srgbClr val="002c72"/>
                </a:solidFill>
                <a:latin typeface="Times New Roman"/>
              </a:rPr>
              <a:t>                            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08160" y="119664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0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0, 1110 (при наличи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280a"/>
                </a:solidFill>
                <a:latin typeface="Arial"/>
              </a:rPr>
              <a:t>  </a:t>
            </a:r>
            <a:r>
              <a:rPr b="1" lang="ru-RU" sz="3600" spc="-1" strike="noStrike" u="sng">
                <a:solidFill>
                  <a:srgbClr val="da280a"/>
                </a:solidFill>
                <a:uFillTx/>
                <a:latin typeface="Arial"/>
              </a:rPr>
              <a:t>ОБЯЗА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280a"/>
                </a:solidFill>
                <a:latin typeface="Arial"/>
              </a:rPr>
              <a:t>240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8c7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78c7"/>
                </a:solidFill>
                <a:latin typeface="Arial"/>
              </a:rPr>
              <a:t>7000-7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8c7"/>
                </a:solidFill>
                <a:latin typeface="Arial"/>
              </a:rPr>
              <a:t>8000-800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60520" y="549360"/>
            <a:ext cx="9937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a280a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da280a"/>
                </a:solidFill>
                <a:latin typeface="Arial"/>
              </a:rPr>
              <a:t>ЦКК ЛС, ОМЦ Резерв, Дом ребенка,</a:t>
            </a:r>
            <a:br>
              <a:rPr sz="2800"/>
            </a:br>
            <a:r>
              <a:rPr b="1" lang="ru-RU" sz="2800" spc="-1" strike="noStrike">
                <a:solidFill>
                  <a:srgbClr val="da280a"/>
                </a:solidFill>
                <a:latin typeface="Arial"/>
              </a:rPr>
              <a:t>ОАУЗ «Мед.центр развития сестр.деятельности»</a:t>
            </a: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2c72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c72"/>
                </a:solidFill>
                <a:latin typeface="Times New Roman"/>
              </a:rPr>
              <a:t>                          </a:t>
            </a:r>
            <a:endParaRPr b="1" lang="en-US" sz="3200" spc="-1" strike="noStrike">
              <a:solidFill>
                <a:srgbClr val="002c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08160" y="1196640"/>
            <a:ext cx="8066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0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1 (при наличии),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100, 1110 (при наличи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280a"/>
                </a:solidFill>
                <a:latin typeface="Arial"/>
              </a:rPr>
              <a:t>  </a:t>
            </a:r>
            <a:r>
              <a:rPr b="1" lang="ru-RU" sz="3600" spc="-1" strike="noStrike" u="sng">
                <a:solidFill>
                  <a:srgbClr val="da280a"/>
                </a:solidFill>
                <a:uFillTx/>
                <a:latin typeface="Arial"/>
              </a:rPr>
              <a:t>ОБЯЗА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280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8c7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78c7"/>
                </a:solidFill>
                <a:latin typeface="Arial"/>
              </a:rPr>
              <a:t>7000-7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8c7"/>
                </a:solidFill>
                <a:latin typeface="Arial"/>
              </a:rPr>
              <a:t>8000-800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4:47:54Z</dcterms:created>
  <dc:creator>roinem</dc:creator>
  <dc:description/>
  <dc:language>en-US</dc:language>
  <cp:lastModifiedBy>aae</cp:lastModifiedBy>
  <dcterms:modified xsi:type="dcterms:W3CDTF">2015-12-17T14:59:25Z</dcterms:modified>
  <cp:revision>691</cp:revision>
  <dc:subject/>
  <dc:title>PowerPoint-esitys</dc:title>
</cp:coreProperties>
</file>