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907588" cy="6858000"/>
  <p:notesSz cx="67325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2F6-254F-4A7D-A297-B9C6AAFC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B04-69FF-43DA-8C76-E86C3616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81D7-C708-4F44-BE95-0CCB81F0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04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613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04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613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471-9DE2-473A-A3B5-C8F79CAE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EEF6-2238-49BF-BDF4-DF9EC065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6259-1B1B-4105-B348-68B64A89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F402-E12D-400E-80F8-DEC8AE33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5CF0-1616-48BC-8A8C-13F02221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DBEC-330E-4459-8973-639170E6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8534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383B-90AC-463D-B355-E99A5C43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EC49-F978-45F6-8350-067CF7C8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9283-1BE2-4D76-874F-32AFC388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789D-8426-41D3-AAB1-F1D4128E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2745-1F07-4F85-B8D3-C1A0641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798F-A311-4144-BBD1-D565D098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F14E-7F42-452D-9B3D-59847646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04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613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479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204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613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B3A9-A602-4658-A60F-7FD99E27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14F-5E0E-4586-94E5-9C0D62AB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28F-2492-412F-B095-DF4DBD5E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09D-E89A-415A-83D1-5B878DB4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8534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161-53AC-4837-AA56-4C6D6726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703-76C3-43B4-B213-AC2013C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40A-2176-4C05-AEA9-D31C85A3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4E6-1324-4E8A-AAED-161F3A2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6019920"/>
            <a:ext cx="1905120" cy="58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002c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19320" y="6476760"/>
            <a:ext cx="1676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AF41-F51A-4D81-84C3-CFFD0C31E848}" type="datetime">
              <a:rPr b="0" lang="fi-FI" sz="7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95480" y="6476760"/>
            <a:ext cx="4648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04920" y="6476760"/>
            <a:ext cx="3808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4F0E-59D6-47DB-8871-8D9187488326}" type="slidenum">
              <a:rPr b="0" lang="fi-FI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880" y="2286000"/>
            <a:ext cx="4267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96080" y="6019920"/>
            <a:ext cx="1905120" cy="588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219320" y="6476760"/>
            <a:ext cx="1676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4B34-9949-4BAA-82D5-6EE5CA5FBC9C}" type="datetime">
              <a:rPr b="0" lang="fi-FI" sz="7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895480" y="6476760"/>
            <a:ext cx="4648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04920" y="6476760"/>
            <a:ext cx="3808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4CD3-E983-4565-A84E-7FE90548E356}" type="slidenum">
              <a:rPr b="0" lang="fi-FI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4191120"/>
            <a:ext cx="4267440" cy="0"/>
          </a:xfrm>
          <a:prstGeom prst="line">
            <a:avLst/>
          </a:prstGeom>
          <a:ln w="19080">
            <a:solidFill>
              <a:srgbClr val="002c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zdrav-novgorod.ru/" TargetMode="External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novbms@mail.ru" TargetMode="External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64880" y="1268280"/>
            <a:ext cx="8278920" cy="31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129ab"/>
                </a:solidFill>
                <a:latin typeface="Arial"/>
              </a:rPr>
              <a:t>Формы федерального статистического наблюдения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129ab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129ab"/>
                </a:solidFill>
                <a:latin typeface="Arial"/>
              </a:rPr>
              <a:t>к отчету за 2015 г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1592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Департамент здравоохранения Нов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ГОБУЗ «Медицинский информационно-аналитический центр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76880" y="566100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Директор ГОБУЗ «Медицинский информационно-аналитический центр»</a:t>
            </a:r>
            <a:r>
              <a:rPr b="1" lang="en-US" sz="1800" spc="-1" strike="noStrike">
                <a:solidFill>
                  <a:srgbClr val="0129ab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Егорова Алла Анатоль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81240" y="2644200"/>
            <a:ext cx="8084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38280" y="177840"/>
          <a:ext cx="917388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177840"/>
                    <a:ext cx="917388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1800" y="189000"/>
            <a:ext cx="9274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c72"/>
                </a:solidFill>
                <a:latin typeface="Arial"/>
              </a:rPr>
              <a:t>Пояснительная записка о детях,родившихся при сроке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c72"/>
                </a:solidFill>
                <a:latin typeface="Arial"/>
              </a:rPr>
              <a:t> гестации 22 нед. и более,  но массой тела 500г </a:t>
            </a:r>
            <a:endParaRPr b="1" lang="en-US" sz="24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20520" y="1483920"/>
            <a:ext cx="89852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Терр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ровень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Здоровье 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Срок г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Масса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Родился живым-мерт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Выжил -умер (антенатально, в первые 24ч., 168ч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Клинический диагноз (основной, сопутствующий, ослож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 При вскрытии – патологоанатомический диагн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81240" y="2644200"/>
            <a:ext cx="8084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42840" y="479520"/>
          <a:ext cx="8852040" cy="583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479520"/>
                    <a:ext cx="8852040" cy="58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81240" y="2644200"/>
            <a:ext cx="8084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058760" y="378000"/>
          <a:ext cx="9042480" cy="64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378000"/>
                    <a:ext cx="9042480" cy="64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040" y="836640"/>
            <a:ext cx="91807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орма ФСН №32-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вкладыш к форме №3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Сведения о регионализации акушерской и перинатальной помощи в родильных домах (отделениях) и перинатальных центрах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040" y="836640"/>
            <a:ext cx="91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66680" y="304920"/>
          <a:ext cx="8534520" cy="25695000"/>
        </p:xfrm>
        <a:graphic>
          <a:graphicData uri="http://schemas.openxmlformats.org/drawingml/2006/table">
            <a:tbl>
              <a:tblPr/>
              <a:tblGrid>
                <a:gridCol w="3641760"/>
                <a:gridCol w="619200"/>
                <a:gridCol w="561960"/>
                <a:gridCol w="893880"/>
                <a:gridCol w="1042920"/>
                <a:gridCol w="892080"/>
                <a:gridCol w="88272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организаци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родовспомо-ж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организаци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споможения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ров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ров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ров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рганизаций (отделений) родовспоможения,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оказывающих стационарную акушерскую помощ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 ост.ЦР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ров.ЦР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тар.ЦР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л.род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для беременных и рожен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0 т.3100 стр.4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 патологии берем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0 т.3100 стр.5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р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2210 п.1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:  в сроке  22-27 недель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&lt;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Ф.32 т.2210 п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роке 28-36 нед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роке 42 недели и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2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ы у женщин после  ЭК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цированные р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1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з стр. 2.1: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при искусственном прерыван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едицинским показаниями в свя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оками развития пл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ось живыми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1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:    массой тела    500-9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1 гр.4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1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1 гр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-2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1 гр.7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:    массой тела    500-9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 гр.4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1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 гр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-2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 гр.7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 4): умерло в первые 168 часов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3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: массой тела    500-9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3 гр.4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1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3 гр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-2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3 гр.7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ось мертвыми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5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:    массой тела    500-9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5 гр.4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1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5 гр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-2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5 гр.7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родившихся мертвыми (стр.  6)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до начала родовой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6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 акушерском стациона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ие акушерские состоя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в м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71.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0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акушерском стациона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71.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лампсия, преэклампсия тяжелая фор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14-О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&gt;=Ф.32 т.2211 стр.(3+4+5)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(за счет О15.0 Эклампсия во время беременности – этого нет в ф.3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акушерском стациона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14-О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родовой сепсис, генерализованная послерод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&lt;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 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течение при беременности, в родах и послеродовом период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44.1, О45,О46, О67, О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2211 стр.(9+10+11+22)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кушерских опер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0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сарево с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 14.4 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в сроке 22-27 недель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ие щип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2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уум-экстракция пл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3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оразрушающие опер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7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ирпация и надвлагалищная ампутация ма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(14.8 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в сроке 22-27 недель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материнской смерти в акушерских стационарах 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2400 п.1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женщин, умерших после прерывания беременности в сроке до 22 нед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беременных, рожениц и родильниц при сроке беременности 22 недели и боле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ри сроке беременности 22-28 недель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женщин переведенных в другие стациона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по экстренным показания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выездных бригад реанимационной помощ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 т.ч.  акушерско-гинекологическ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о-реанимационно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натологическо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-194040"/>
            <a:ext cx="853452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2c7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260280"/>
          <a:ext cx="8153280" cy="17230320"/>
        </p:xfrm>
        <a:graphic>
          <a:graphicData uri="http://schemas.openxmlformats.org/drawingml/2006/table">
            <a:tbl>
              <a:tblPr/>
              <a:tblGrid>
                <a:gridCol w="3479760"/>
                <a:gridCol w="590400"/>
                <a:gridCol w="538200"/>
                <a:gridCol w="852480"/>
                <a:gridCol w="996840"/>
                <a:gridCol w="852480"/>
                <a:gridCol w="843120"/>
              </a:tblGrid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1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1 гр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-2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1 гр.7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:    массой тела    500-9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 гр.4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1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 гр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-2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 гр.7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стр. 4): умерло в первые 168 часов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3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: массой тела    500-9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3 гр.4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1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3 гр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-2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3 гр.7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лось мертвыми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5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 них:    массой тела    500-9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5 гр.4+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1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5 гр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                           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0-2499 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5 гр.7+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родившихся мертвыми (стр.  6)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рть наступила до начала родовой деятель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45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6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в  акушерском стациона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ие акушерские состоя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в м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71.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0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акушерском стациона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71.0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лампсия, преэклампсия тяжелая фор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14-О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&gt;=Ф.32 т.2211 стр.(3+4+5)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(за счет О15.0 Эклампсия во время беременности – этого нет в ф.3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акушерском стациона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14-О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родовой сепсис, генерализованная послерод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&lt;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 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течение при беременности, в родах и послеродовом период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44.1, О45,О46, О67, О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2211 стр.(9+10+11+22)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кушерских опер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0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сарево с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 14.4 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в сроке 22-27 недель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ие щип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2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уум-экстракция пл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3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оразрушающие опер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7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ирпация и надвлагалищная ампутация ма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(14.8 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в сроке 22-27 недель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материнской смерти в акушерских стационарах 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2400 п.1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-194040"/>
            <a:ext cx="8534520" cy="4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2c72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447920" y="260280"/>
          <a:ext cx="8153280" cy="11204280"/>
        </p:xfrm>
        <a:graphic>
          <a:graphicData uri="http://schemas.openxmlformats.org/drawingml/2006/table">
            <a:tbl>
              <a:tblPr/>
              <a:tblGrid>
                <a:gridCol w="3479760"/>
                <a:gridCol w="590400"/>
                <a:gridCol w="538200"/>
                <a:gridCol w="852480"/>
                <a:gridCol w="996840"/>
                <a:gridCol w="852480"/>
                <a:gridCol w="843120"/>
              </a:tblGrid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ические акушерские состоя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ыв ма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20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акушерском стациона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лампсия, преэклампсия тяжелая фор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&gt;=Ф.32 т.2211 стр.(3+4+5)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(за счет О15.0 Эклампсия во время беременности – этого нет в ф.3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в акушерском стационар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14-О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родовой сепсис, генерализованная послеродовая инфе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&lt;=Ф.32 т.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стр. </a:t>
                      </a:r>
                      <a:r>
                        <a:rPr b="1" lang="en-US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отечение при беременности, в родах и послеродовом период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44.1, О45,О46, О67, О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32 т.2211 стр.(9+10+11+22) гр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кушерских операц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0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сарево се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 14.4 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в сроке 22-27 недель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кие щипц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2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куум-экстракция пл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3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оразрушающие опер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14.7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тирпация и надвлагалищная ампутация матки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4000 стр.(14.8  гр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в сроке 22-27 недель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5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случаев материнской смерти в акушерских стационарах  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=Ф.14 т.2400 п.1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040" y="836640"/>
            <a:ext cx="918072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А № 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СВЕДЕНИЯ О МЕДИЦИНСКОЙ ПОМОЩИ ДЕТЯМ И ПОДРОСТКАМ-ШКОЛЬНИКА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утверждена приказом Росста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 28.01.2009 №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81240" y="2644200"/>
            <a:ext cx="8084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44640" y="262080"/>
          <a:ext cx="8427960" cy="638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262080"/>
                    <a:ext cx="8427960" cy="63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1800" y="189000"/>
            <a:ext cx="9074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129ab"/>
                </a:solidFill>
                <a:latin typeface="Arial"/>
              </a:rPr>
              <a:t>С отчета за 2015 год утвердили  изменения к следующим формам годовой статистической отчетности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74720" y="798480"/>
          <a:ext cx="9047160" cy="68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798480"/>
                    <a:ext cx="904716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Число новорожденных, поступивших под наблюдение данного учреждения  (табл. 2201)</a:t>
            </a:r>
            <a:endParaRPr b="1" lang="en-US" sz="20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196" name="Содержимое 5" descr=""/>
          <p:cNvPicPr/>
          <p:nvPr/>
        </p:nvPicPr>
        <p:blipFill>
          <a:blip r:embed="rId1"/>
          <a:stretch/>
        </p:blipFill>
        <p:spPr>
          <a:xfrm>
            <a:off x="488880" y="1579680"/>
            <a:ext cx="8928000" cy="51321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41080" y="213840"/>
            <a:ext cx="8915400" cy="135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з общего числа  детей, состоящих под наблюдением на конец отчетного года (стр.4 гр.6 табл.2100) в возрасте 1-4 года, больных (табл. 2202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198" name="Содержимое 3" descr=""/>
          <p:cNvPicPr/>
          <p:nvPr/>
        </p:nvPicPr>
        <p:blipFill>
          <a:blip r:embed="rId1"/>
          <a:stretch/>
        </p:blipFill>
        <p:spPr>
          <a:xfrm>
            <a:off x="480960" y="1596960"/>
            <a:ext cx="8975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ЗАБОЛЕВАЕМОСТЬ ДЕТЕЙ ПЕРВОГО ГОДА ЖИЗНИ (табл. 2300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2c72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95360" y="1600200"/>
          <a:ext cx="8915400" cy="4564080"/>
        </p:xfrm>
        <a:graphic>
          <a:graphicData uri="http://schemas.openxmlformats.org/drawingml/2006/table">
            <a:tbl>
              <a:tblPr/>
              <a:tblGrid>
                <a:gridCol w="5232240"/>
                <a:gridCol w="1082880"/>
                <a:gridCol w="1315800"/>
                <a:gridCol w="1284480"/>
              </a:tblGrid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заболе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c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c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фр по МКБ-Х пересмот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c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регистри-ровано за-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8c7"/>
                    </a:solidFill>
                  </a:tcPr>
                </a:tc>
              </a:tr>
              <a:tr h="23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х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55.0-ча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илкетону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7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ногенитальный синд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2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актозе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7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ковисцид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ические расстро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00-F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левые значения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расстройства повед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зни нерв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00-G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ский церебральный парал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зни гла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00-H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1080" y="285480"/>
            <a:ext cx="89154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нутриформенный контроль по т.23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04520" y="1600200"/>
            <a:ext cx="8705880" cy="4829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</a:rPr>
              <a:t>стр.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0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</a:rPr>
              <a:t> =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</a:rPr>
              <a:t>стр. 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0+…+19.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</a:rPr>
              <a:t>стр.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0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≥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 стр. 2.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стр. 5.3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(зарегистрировано случа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</a:t>
            </a:r>
            <a:r>
              <a:rPr b="0" lang="ru-RU" sz="24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енилкетонурии)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≥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табл. 220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.10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(выявлено больных фенилкетонури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стр.5.1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(зарегистрировано случаев врожденного гипотиреоза)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 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табл. 220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.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Bright"/>
                <a:ea typeface="Times New Roman"/>
              </a:rPr>
              <a:t>(выявлено больных врожденным гипотиреоз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.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</a:rPr>
              <a:t>5.4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</a:rPr>
              <a:t> (зарегистрировано случаев АГС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Lucida Bright"/>
              </a:rPr>
              <a:t>табл.220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.12</a:t>
            </a:r>
            <a:r>
              <a:rPr b="0" lang="ru-RU" sz="2800" spc="-1" strike="noStrike">
                <a:solidFill>
                  <a:srgbClr val="000000"/>
                </a:solidFill>
                <a:latin typeface="Lucida Bright"/>
              </a:rPr>
              <a:t> (выявлено больных с АГС</a:t>
            </a:r>
            <a:r>
              <a:rPr b="0" lang="en-US" sz="2800" spc="-1" strike="noStrike">
                <a:solidFill>
                  <a:srgbClr val="000000"/>
                </a:solidFill>
                <a:latin typeface="Lucida Brigh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524"/>
              </a:spcAft>
              <a:buClr>
                <a:srgbClr val="002c72"/>
              </a:buClr>
              <a:buFont typeface="Lucida Br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А С ДЕТЬМИ, ДОСТИГШИМИ 1 ГОДА И ПРОЖИВАЮЩИМИ В РАЙОНЕ ОБСЛУЖИВАНИЯ ДАННОГО УЧРЕЖДЕНИЯ (табл. 2400)</a:t>
            </a:r>
            <a:endParaRPr b="1" lang="en-US" sz="18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204" name="Содержимое 3" descr=""/>
          <p:cNvPicPr/>
          <p:nvPr/>
        </p:nvPicPr>
        <p:blipFill>
          <a:blip r:embed="rId1"/>
          <a:stretch/>
        </p:blipFill>
        <p:spPr>
          <a:xfrm>
            <a:off x="430200" y="1596960"/>
            <a:ext cx="9099720" cy="462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ОФИЛАКТИЧЕСКИЕ ОСМОТРЫ  ДЕТЕЙ И ПОДРОСТКОВ-ШКОЛЬНИКОВ И ИХ РЕЗУЛЬТАТЫ (табл. 2500)</a:t>
            </a:r>
            <a:endParaRPr b="1" lang="en-US" sz="2000" spc="-1" strike="noStrike">
              <a:solidFill>
                <a:srgbClr val="002c72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04880" y="1600200"/>
          <a:ext cx="8705880" cy="4819680"/>
        </p:xfrm>
        <a:graphic>
          <a:graphicData uri="http://schemas.openxmlformats.org/drawingml/2006/table">
            <a:tbl>
              <a:tblPr/>
              <a:tblGrid>
                <a:gridCol w="2765520"/>
                <a:gridCol w="831600"/>
                <a:gridCol w="755640"/>
                <a:gridCol w="830520"/>
                <a:gridCol w="757080"/>
                <a:gridCol w="1057320"/>
                <a:gridCol w="906480"/>
                <a:gridCol w="801720"/>
              </a:tblGrid>
              <a:tr h="34668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инг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8c7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8c7"/>
                    </a:solidFill>
                  </a:tcPr>
                </a:tc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мот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8c7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понижением остр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8c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явлено при осмотр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8c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ефектом ре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 сколиоз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ару-шением оса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3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детей в возрасте до 17 лет включитель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466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ей до 14 лет включите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6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бщего числа (стр.1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90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поступлением в детское дошкольное учреж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 год до поступления в шк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466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д поступлением в шко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нце 1-го года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26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нутриформенный контроль (табл. 2500)</a:t>
            </a:r>
            <a:endParaRPr b="1" lang="en-US" sz="2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447920" y="1523880"/>
            <a:ext cx="815328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Aft>
                <a:spcPts val="675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р.3  (осмотрено детей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gt;=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гр.4+5+6+7+8 (выявлено при осмотрах с заболеванием…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da280a"/>
                </a:solidFill>
                <a:latin typeface="Arial"/>
              </a:rPr>
              <a:t>гр.8   (с нарушением осанки) </a:t>
            </a:r>
            <a:r>
              <a:rPr b="1" lang="ru-RU" sz="3600" spc="-1" strike="noStrike">
                <a:solidFill>
                  <a:srgbClr val="da280a"/>
                </a:solidFill>
                <a:latin typeface="Calibri"/>
              </a:rPr>
              <a:t>&gt; данных по гр.7   (со сколиозом)</a:t>
            </a:r>
            <a:r>
              <a:rPr b="1" lang="ru-RU" sz="3600" spc="-1" strike="noStrike">
                <a:solidFill>
                  <a:srgbClr val="da280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75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.1= стр.2+8+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5040" y="836640"/>
            <a:ext cx="91807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А № 14-Д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СВЕДЕНИЯ О ДЕЯТЕЛЬНОСТИ ДНЕВНЫХ СТАЦИОНАРОВ МЕДИЦИНСКИХ ОРГАНИЗАЦИ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утверждена приказом Росстат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 30.12.2002  №4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76320" y="2952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1000)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лжности и физ.лица дневных стационаров М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220760" y="692280"/>
          <a:ext cx="8340840" cy="61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692280"/>
                    <a:ext cx="834084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534520" cy="9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c72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704520" y="260280"/>
            <a:ext cx="92012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Aft>
                <a:spcPts val="499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040" y="692280"/>
            <a:ext cx="918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А № 13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«Сведения о прерывании беремен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(в сроки до 22 недель)»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4880" y="4108320"/>
            <a:ext cx="9201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2012 г. переход на новые критерии учета рождений рекомендованные Всемирной организацией здравоохранения (ВОЗ)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280a"/>
                </a:solidFill>
                <a:latin typeface="Arial"/>
              </a:rPr>
              <a:t>Прерывание беременности в сроке до 22 недель</a:t>
            </a:r>
            <a:r>
              <a:rPr b="1" lang="ru-RU" sz="24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76320" y="2952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2000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ние мест дневного стационара МО по профил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923760" y="484200"/>
          <a:ext cx="8496360" cy="84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484200"/>
                    <a:ext cx="8496360" cy="84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36160" y="33336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1" lang="en-US" sz="18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83920" y="1052280"/>
            <a:ext cx="891540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исло среднегодовых коек указывается целыми числ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Aft>
                <a:spcPts val="524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тить внимание, чтобы на койках для детей не указывались сведения о взрослых пациентах, в том числе лиц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040" y="836640"/>
            <a:ext cx="9180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А № 19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СВЕДЕНИЯ О ДЕТЯХ-ИНВАЛИДА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утверждена постановлением Госкомстата России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 29.06.2009 №4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76320" y="3888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1000)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Контингенты детей - инвали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030320" y="3240"/>
          <a:ext cx="8737560" cy="675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0320" y="3240"/>
                    <a:ext cx="873756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040" y="836640"/>
            <a:ext cx="918072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А № 1РБ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СВЕДЕНИЯ ОБ ОКАЗАНИИ МЕДИЦИНСКОЙ ПОМОЩИ ГРАЖДАНАМ РЕСПУБЛИКИ БЕЛАРУСЬ В ГОСУДАРСТВЕННЫХ И МУНИЦИПАЛЬНЫХ УЧРЕЖДЕНИЯХ ЗДРАВООХРАНЕНИЯ РОССИЙСКОЙ ФЕДЕРАЦ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(утверждена приказом Минздравсоцразвит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от 21.01.2009 №1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81240" y="2644200"/>
            <a:ext cx="8084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917640" y="566640"/>
          <a:ext cx="8586720" cy="66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566640"/>
                    <a:ext cx="8586720" cy="66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5800" y="579240"/>
            <a:ext cx="97218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Образцы форм годовой отчетности выложены на сайт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ec0e6"/>
                </a:solidFill>
                <a:uFillTx/>
                <a:latin typeface="Arial"/>
                <a:hlinkClick r:id="rId1"/>
              </a:rPr>
              <a:t>www.zdrav-novgorod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Раздел: </a:t>
            </a:r>
            <a:r>
              <a:rPr b="1" lang="ru-RU" sz="4000" spc="-1" strike="noStrike">
                <a:solidFill>
                  <a:srgbClr val="da280a"/>
                </a:solidFill>
                <a:latin typeface="Arial"/>
              </a:rPr>
              <a:t>Специалиста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Подраздел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70c16"/>
                </a:solidFill>
                <a:latin typeface="Arial"/>
              </a:rPr>
              <a:t>МИАЦ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Подраздел: </a:t>
            </a:r>
            <a:r>
              <a:rPr b="1" lang="ru-RU" sz="4000" spc="-1" strike="noStrike">
                <a:solidFill>
                  <a:srgbClr val="d70c16"/>
                </a:solidFill>
                <a:latin typeface="Arial"/>
              </a:rPr>
              <a:t>Форм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ечень форм отчетной документации, используемых в учреждениях здравоохран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07720"/>
            <a:ext cx="10137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Директор ГОБУЗ «Медицинский информационно-аналитический центр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0c16"/>
                </a:solidFill>
                <a:latin typeface="Arial"/>
              </a:rPr>
              <a:t>Егорова Алла Анатольевн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Контактные телефон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64-16-69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129ab"/>
                </a:solidFill>
                <a:latin typeface="Arial"/>
              </a:rPr>
              <a:t>E-mail</a:t>
            </a: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129ab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7ec0e6"/>
                </a:solidFill>
                <a:uFillTx/>
                <a:latin typeface="Arial"/>
                <a:hlinkClick r:id="rId1"/>
              </a:rPr>
              <a:t>novbms@mail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6,-64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36520" y="0"/>
            <a:ext cx="876960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ИЗМЕНЕНИЯ К ОТЧЕТУ ЗА 2016 год.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20520" y="636120"/>
            <a:ext cx="89852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.1000-Беременность с абортивным исход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12н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.1100-Осложнения аборта и анормального зач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нфекция, кровотечение, эмболия, шок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.1200-Аборт по медицинским показ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.2000-Беременность с абортивным исход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2-22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.2100-Осложнения аборта и анормал-го зач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инфекция, кровотечение, эмболия, шок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.2200-Мед. аборт по социальным показа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. 3000-Структура смертности при беременност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ортивным исходом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0520" y="260280"/>
            <a:ext cx="9345600" cy="60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А № 32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«Сведения о медицинской помощи беременным, роженицам и родильницам»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2012 г. переход на новые критерии учета рождений рекомендованные Всемирной организацией здравоохранения (ВОЗ)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280a"/>
                </a:solidFill>
                <a:latin typeface="Arial"/>
              </a:rPr>
              <a:t>Роды с 22 недель и массе тела при рождении 500 грам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800" y="1162800"/>
            <a:ext cx="907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96880" y="1294560"/>
            <a:ext cx="738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8880" y="3578400"/>
            <a:ext cx="943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15920" y="406440"/>
          <a:ext cx="8621640" cy="57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406440"/>
                    <a:ext cx="8621640" cy="57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81240" y="2644200"/>
            <a:ext cx="8084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298440"/>
          <a:ext cx="8491680" cy="639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98440"/>
                    <a:ext cx="8491680" cy="63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08160" y="450000"/>
            <a:ext cx="83534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129ab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4880" y="3675960"/>
            <a:ext cx="90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8880" y="3933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20880" y="148428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04880" y="336600"/>
          <a:ext cx="9201240" cy="652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336600"/>
                    <a:ext cx="9201240" cy="65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1240" y="2644200"/>
            <a:ext cx="8084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81240" y="260280"/>
          <a:ext cx="7804080" cy="636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260280"/>
                    <a:ext cx="7804080" cy="63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4:47:54Z</dcterms:created>
  <dc:creator>roinem</dc:creator>
  <dc:description/>
  <dc:language>en-US</dc:language>
  <cp:lastModifiedBy>aae</cp:lastModifiedBy>
  <dcterms:modified xsi:type="dcterms:W3CDTF">2015-12-17T15:02:37Z</dcterms:modified>
  <cp:revision>688</cp:revision>
  <dc:subject/>
  <dc:title>PowerPoint-esitys</dc:title>
</cp:coreProperties>
</file>