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67325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97B-0C3D-4F76-B7D6-EB223F80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136-68BD-4758-931B-3C2EE6BF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1BE-3DE0-493D-8B76-88C88CE3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04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613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04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613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B55-A098-45F9-8FB7-B1822570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3DF6-CCDE-48B0-A6E7-55D36386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3C99-5450-482F-99B2-D68BC38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E80-982C-4D93-B2B5-4456979F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1ECA-A9B2-4DDA-9767-EEC4C95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55C-0932-4BB9-80FA-7958428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8534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6BC4-B856-40F5-885D-7B75CC4C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DDB1-7E92-41F8-9BB3-AB67418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8C8-5447-432C-8F35-FB83D358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529E-7373-43DC-8E75-4EB5137D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833C-26D4-472A-86D4-E60F8D8D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7D24-9F67-4EB5-8438-B6EB562D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E3F0-003D-46B9-8358-5FC26EC8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04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613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479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204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613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5C2C-DDEA-4ED5-82F9-EB33076D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803-7C75-4B53-B288-3029B3DD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CF4-C817-473E-8D12-48ADF0A3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278-5045-48C6-ACBA-4C3B2239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8534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2AE-2FC8-4035-9FA2-641919E2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8EC-6288-47B7-ADCF-6DD68DF1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2C2-79A3-43D9-A720-8412175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957-5503-4461-8C47-BC7A32D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6019920"/>
            <a:ext cx="1905120" cy="58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002c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19320" y="6476760"/>
            <a:ext cx="1676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7E46-9142-4E87-8F01-F8A68A778837}" type="datetime">
              <a:rPr b="0" lang="fi-FI" sz="7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95480" y="6476760"/>
            <a:ext cx="4648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04920" y="6476760"/>
            <a:ext cx="3808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D30B-D112-40F8-8023-4FE8B7873083}" type="slidenum">
              <a:rPr b="0" lang="fi-FI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880" y="2286000"/>
            <a:ext cx="4267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96080" y="6019920"/>
            <a:ext cx="1905120" cy="588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219320" y="6476760"/>
            <a:ext cx="1676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0530-A9FB-47CC-934F-5C0F04ADEE66}" type="datetime">
              <a:rPr b="0" lang="fi-FI" sz="7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895480" y="6476760"/>
            <a:ext cx="4648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04920" y="6476760"/>
            <a:ext cx="3808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C885-7062-4C0E-9DD8-C3AFD82F6013}" type="slidenum">
              <a:rPr b="0" lang="fi-FI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4191120"/>
            <a:ext cx="4267440" cy="0"/>
          </a:xfrm>
          <a:prstGeom prst="line">
            <a:avLst/>
          </a:prstGeom>
          <a:ln w="19080">
            <a:solidFill>
              <a:srgbClr val="002c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zdrav-novgorod.ru/" TargetMode="External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novbms@mail.ru" TargetMode="External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99800" y="765000"/>
            <a:ext cx="9705960" cy="459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129ab"/>
                </a:solidFill>
                <a:latin typeface="Arial"/>
              </a:rPr>
              <a:t>Полнота и достоверность ведения первичной учетной документац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129ab"/>
                </a:solidFill>
                <a:latin typeface="Arial"/>
              </a:rPr>
              <a:t>Основные требования к сдаче годовых статистических отчетов за 2017 г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159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Департамент здравоохранения Нов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ГОБУЗ «Медицинский информационно-аналитический центр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76880" y="5661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Директор ГОБУЗ «Медицинский информационно-аналитический центр»</a:t>
            </a:r>
            <a:r>
              <a:rPr b="1" lang="en-US" sz="1800" spc="-1" strike="noStrike">
                <a:solidFill>
                  <a:srgbClr val="0129ab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Егорова Алла Анатол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12560" y="457200"/>
            <a:ext cx="9327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8c7"/>
                </a:solidFill>
                <a:latin typeface="Times New Roman"/>
              </a:rPr>
              <a:t>Приказ Минздравсоцразвития России от 17.05.2012 N 555н  «Об утверждении номенклатуры коечного фонда по профилям медицинской помощ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30120" y="1341360"/>
            <a:ext cx="9328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31800" y="1484280"/>
          <a:ext cx="9109080" cy="5295960"/>
        </p:xfrm>
        <a:graphic>
          <a:graphicData uri="http://schemas.openxmlformats.org/drawingml/2006/table">
            <a:tbl>
              <a:tblPr/>
              <a:tblGrid>
                <a:gridCol w="2870280"/>
                <a:gridCol w="6238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a280a"/>
                          </a:solidFill>
                          <a:latin typeface="Times New Roman"/>
                          <a:ea typeface="Times New Roman"/>
                        </a:rPr>
                        <a:t>Профиль койки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е дело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койки сестринского ухода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гинекологические, гинекологические для детей, гинекологические для вспомогательных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 и реаниматология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, реанимационные для новорожденных, интенсивной терапии, интенсивной терапии для новорожденных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я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венерология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логические, венер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я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, кардиологические интенсивной терапии, кардиологические для больных с острым 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, неврологические для больных с острыми нарушениями мозгового кровообращения, неврологические интенсивной терапии, психоневрологические для детей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e8f6">
                        <a:alpha val="5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007U"/>
          <p:cNvPicPr/>
          <p:nvPr/>
        </p:nvPicPr>
        <p:blipFill>
          <a:blip r:embed="rId1"/>
          <a:stretch/>
        </p:blipFill>
        <p:spPr>
          <a:xfrm>
            <a:off x="-231840" y="-352440"/>
            <a:ext cx="10977480" cy="7166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6356520" y="0"/>
            <a:ext cx="321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Таблица 3100 заполняе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по профилям коек, а не по наименованию от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73160" y="4648320"/>
            <a:ext cx="676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пойдут в строку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073160" y="5181480"/>
            <a:ext cx="676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пойдут в строку 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73160" y="5562720"/>
            <a:ext cx="676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пойдут в строку 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73160" y="5943600"/>
            <a:ext cx="6686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пойдут в строку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24160" y="1125000"/>
            <a:ext cx="81374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8c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91480" y="-1933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92160" y="333360"/>
          <a:ext cx="8402760" cy="6066000"/>
        </p:xfrm>
        <a:graphic>
          <a:graphicData uri="http://schemas.openxmlformats.org/drawingml/2006/table">
            <a:tbl>
              <a:tblPr/>
              <a:tblGrid>
                <a:gridCol w="5494320"/>
                <a:gridCol w="1496880"/>
                <a:gridCol w="1411560"/>
              </a:tblGrid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з целевого показателя "Работа койки в году" 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тчету "Доступность" за 3 квартал 2017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План по "Дорожной карте" на 2017 год - </a:t>
                      </a:r>
                      <a:r>
                        <a:rPr b="1" lang="en-GB" sz="12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бота койки в году (дн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кв.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ГНОЗ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Новгородская областная клиническ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Областная детская клиническ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Клинический госпиталь ветеранов воин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Областной клинический родильный дом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Новгородский клинический спец. центр психиатрии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Областной клинический онкологический диспансер"  </a:t>
                      </a:r>
                      <a:r>
                        <a:rPr b="1" lang="en-GB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Новг. клинический спец.центр фтизиопульмонологии"</a:t>
                      </a:r>
                      <a:r>
                        <a:rPr b="1" lang="en-GB" sz="1400" spc="-1" strike="noStrike">
                          <a:solidFill>
                            <a:srgbClr val="ff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Новгородский областной наркологический диспанс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АУЗ "Новг.областной кожно-венерологический диспансер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АУЗ "Центр медицинской реабилитации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 Новгородская областная инфекци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Центральная городская клиническ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Батец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Борович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Боровичский психоневрологический диспансер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"Валдай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 "Валдайская обл.психоневрологическая 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8312040" y="3992400"/>
            <a:ext cx="789120" cy="287640"/>
          </a:xfrm>
          <a:custGeom>
            <a:avLst/>
            <a:gdLst/>
            <a:ahLst/>
            <a:rect l="l" t="t" r="r" b="b"/>
            <a:pathLst>
              <a:path w="2194" h="797">
                <a:moveTo>
                  <a:pt x="24937" y="11178"/>
                </a:moveTo>
                <a:cubicBezTo>
                  <a:pt x="24906" y="11163"/>
                  <a:pt x="24898" y="11142"/>
                  <a:pt x="24872" y="11135"/>
                </a:cubicBezTo>
                <a:cubicBezTo>
                  <a:pt x="24844" y="11127"/>
                  <a:pt x="24816" y="11117"/>
                  <a:pt x="24808" y="11114"/>
                </a:cubicBezTo>
                <a:cubicBezTo>
                  <a:pt x="24783" y="11104"/>
                  <a:pt x="24747" y="11096"/>
                  <a:pt x="24722" y="11092"/>
                </a:cubicBezTo>
                <a:cubicBezTo>
                  <a:pt x="24495" y="11052"/>
                  <a:pt x="24212" y="11091"/>
                  <a:pt x="23991" y="11114"/>
                </a:cubicBezTo>
                <a:cubicBezTo>
                  <a:pt x="23877" y="11126"/>
                  <a:pt x="23758" y="11121"/>
                  <a:pt x="23647" y="11135"/>
                </a:cubicBezTo>
                <a:cubicBezTo>
                  <a:pt x="23586" y="11143"/>
                  <a:pt x="23550" y="11169"/>
                  <a:pt x="23497" y="11178"/>
                </a:cubicBezTo>
                <a:cubicBezTo>
                  <a:pt x="23456" y="11185"/>
                  <a:pt x="23447" y="11185"/>
                  <a:pt x="23411" y="11200"/>
                </a:cubicBezTo>
                <a:cubicBezTo>
                  <a:pt x="23378" y="11214"/>
                  <a:pt x="23329" y="11243"/>
                  <a:pt x="23303" y="11264"/>
                </a:cubicBezTo>
                <a:cubicBezTo>
                  <a:pt x="23245" y="11311"/>
                  <a:pt x="23185" y="11376"/>
                  <a:pt x="23153" y="11436"/>
                </a:cubicBezTo>
                <a:cubicBezTo>
                  <a:pt x="23138" y="11464"/>
                  <a:pt x="23098" y="11515"/>
                  <a:pt x="23088" y="11544"/>
                </a:cubicBezTo>
                <a:cubicBezTo>
                  <a:pt x="23071" y="11595"/>
                  <a:pt x="23077" y="11745"/>
                  <a:pt x="23110" y="11780"/>
                </a:cubicBezTo>
                <a:cubicBezTo>
                  <a:pt x="23136" y="11808"/>
                  <a:pt x="23129" y="11787"/>
                  <a:pt x="23174" y="11802"/>
                </a:cubicBezTo>
                <a:cubicBezTo>
                  <a:pt x="23207" y="11813"/>
                  <a:pt x="23194" y="11817"/>
                  <a:pt x="23239" y="11823"/>
                </a:cubicBezTo>
                <a:cubicBezTo>
                  <a:pt x="23312" y="11832"/>
                  <a:pt x="23369" y="11819"/>
                  <a:pt x="23432" y="11845"/>
                </a:cubicBezTo>
                <a:cubicBezTo>
                  <a:pt x="23460" y="11857"/>
                  <a:pt x="23475" y="11862"/>
                  <a:pt x="23497" y="11866"/>
                </a:cubicBezTo>
                <a:cubicBezTo>
                  <a:pt x="23547" y="11875"/>
                  <a:pt x="23576" y="11882"/>
                  <a:pt x="23626" y="11888"/>
                </a:cubicBezTo>
                <a:cubicBezTo>
                  <a:pt x="23996" y="11934"/>
                  <a:pt x="24674" y="11977"/>
                  <a:pt x="25023" y="11866"/>
                </a:cubicBezTo>
                <a:cubicBezTo>
                  <a:pt x="25044" y="11859"/>
                  <a:pt x="25091" y="11834"/>
                  <a:pt x="25109" y="11823"/>
                </a:cubicBezTo>
                <a:cubicBezTo>
                  <a:pt x="25148" y="11799"/>
                  <a:pt x="25179" y="11762"/>
                  <a:pt x="25216" y="11737"/>
                </a:cubicBezTo>
                <a:cubicBezTo>
                  <a:pt x="25229" y="11728"/>
                  <a:pt x="25270" y="11720"/>
                  <a:pt x="25281" y="11694"/>
                </a:cubicBezTo>
                <a:cubicBezTo>
                  <a:pt x="25306" y="11632"/>
                  <a:pt x="25294" y="11419"/>
                  <a:pt x="25259" y="11372"/>
                </a:cubicBezTo>
                <a:cubicBezTo>
                  <a:pt x="25235" y="11340"/>
                  <a:pt x="25189" y="11299"/>
                  <a:pt x="25173" y="11286"/>
                </a:cubicBezTo>
                <a:cubicBezTo>
                  <a:pt x="25138" y="11258"/>
                  <a:pt x="25101" y="11239"/>
                  <a:pt x="25066" y="11221"/>
                </a:cubicBezTo>
                <a:cubicBezTo>
                  <a:pt x="25030" y="11203"/>
                  <a:pt x="25018" y="11211"/>
                  <a:pt x="24980" y="11200"/>
                </a:cubicBezTo>
                <a:cubicBezTo>
                  <a:pt x="24944" y="11190"/>
                  <a:pt x="24910" y="11176"/>
                  <a:pt x="24872" y="1115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0200" y="2128680"/>
            <a:ext cx="728640" cy="347760"/>
          </a:xfrm>
          <a:custGeom>
            <a:avLst/>
            <a:gdLst/>
            <a:ahLst/>
            <a:rect l="l" t="t" r="r" b="b"/>
            <a:pathLst>
              <a:path w="2021" h="968">
                <a:moveTo>
                  <a:pt x="24765" y="5933"/>
                </a:moveTo>
                <a:cubicBezTo>
                  <a:pt x="24507" y="5933"/>
                  <a:pt x="24241" y="5923"/>
                  <a:pt x="23991" y="5955"/>
                </a:cubicBezTo>
                <a:cubicBezTo>
                  <a:pt x="23877" y="5970"/>
                  <a:pt x="23858" y="5993"/>
                  <a:pt x="23755" y="6019"/>
                </a:cubicBezTo>
                <a:cubicBezTo>
                  <a:pt x="23677" y="6038"/>
                  <a:pt x="23555" y="6031"/>
                  <a:pt x="23475" y="6041"/>
                </a:cubicBezTo>
                <a:cubicBezTo>
                  <a:pt x="23415" y="6049"/>
                  <a:pt x="23335" y="6022"/>
                  <a:pt x="23282" y="6062"/>
                </a:cubicBezTo>
                <a:cubicBezTo>
                  <a:pt x="23258" y="6080"/>
                  <a:pt x="23226" y="6151"/>
                  <a:pt x="23217" y="6170"/>
                </a:cubicBezTo>
                <a:cubicBezTo>
                  <a:pt x="23199" y="6205"/>
                  <a:pt x="23197" y="6256"/>
                  <a:pt x="23196" y="6299"/>
                </a:cubicBezTo>
                <a:cubicBezTo>
                  <a:pt x="23194" y="6355"/>
                  <a:pt x="23169" y="6589"/>
                  <a:pt x="23217" y="6621"/>
                </a:cubicBezTo>
                <a:cubicBezTo>
                  <a:pt x="23237" y="6634"/>
                  <a:pt x="23319" y="6632"/>
                  <a:pt x="23346" y="6643"/>
                </a:cubicBezTo>
                <a:cubicBezTo>
                  <a:pt x="23367" y="6652"/>
                  <a:pt x="23386" y="6650"/>
                  <a:pt x="23411" y="6664"/>
                </a:cubicBezTo>
                <a:cubicBezTo>
                  <a:pt x="23440" y="6681"/>
                  <a:pt x="23487" y="6724"/>
                  <a:pt x="23518" y="6729"/>
                </a:cubicBezTo>
                <a:cubicBezTo>
                  <a:pt x="23566" y="6737"/>
                  <a:pt x="23674" y="6748"/>
                  <a:pt x="23690" y="6750"/>
                </a:cubicBezTo>
                <a:cubicBezTo>
                  <a:pt x="23763" y="6757"/>
                  <a:pt x="23834" y="6764"/>
                  <a:pt x="23905" y="6772"/>
                </a:cubicBezTo>
                <a:cubicBezTo>
                  <a:pt x="24015" y="6784"/>
                  <a:pt x="24171" y="6784"/>
                  <a:pt x="24249" y="6793"/>
                </a:cubicBezTo>
                <a:cubicBezTo>
                  <a:pt x="24298" y="6799"/>
                  <a:pt x="24355" y="6811"/>
                  <a:pt x="24400" y="6815"/>
                </a:cubicBezTo>
                <a:cubicBezTo>
                  <a:pt x="24458" y="6820"/>
                  <a:pt x="24525" y="6831"/>
                  <a:pt x="24572" y="6836"/>
                </a:cubicBezTo>
                <a:cubicBezTo>
                  <a:pt x="24644" y="6844"/>
                  <a:pt x="24719" y="6850"/>
                  <a:pt x="24786" y="6858"/>
                </a:cubicBezTo>
                <a:cubicBezTo>
                  <a:pt x="24839" y="6865"/>
                  <a:pt x="24884" y="6874"/>
                  <a:pt x="24937" y="6879"/>
                </a:cubicBezTo>
                <a:cubicBezTo>
                  <a:pt x="24977" y="6883"/>
                  <a:pt x="25152" y="6900"/>
                  <a:pt x="25173" y="6858"/>
                </a:cubicBezTo>
                <a:cubicBezTo>
                  <a:pt x="25183" y="6838"/>
                  <a:pt x="25187" y="6773"/>
                  <a:pt x="25195" y="6750"/>
                </a:cubicBezTo>
                <a:cubicBezTo>
                  <a:pt x="25215" y="6690"/>
                  <a:pt x="25214" y="6629"/>
                  <a:pt x="25216" y="6557"/>
                </a:cubicBezTo>
                <a:cubicBezTo>
                  <a:pt x="25218" y="6462"/>
                  <a:pt x="25266" y="6144"/>
                  <a:pt x="25195" y="6062"/>
                </a:cubicBezTo>
                <a:cubicBezTo>
                  <a:pt x="25171" y="6035"/>
                  <a:pt x="25133" y="6037"/>
                  <a:pt x="25109" y="6019"/>
                </a:cubicBezTo>
                <a:cubicBezTo>
                  <a:pt x="25070" y="5989"/>
                  <a:pt x="25062" y="5992"/>
                  <a:pt x="25023" y="5976"/>
                </a:cubicBezTo>
                <a:cubicBezTo>
                  <a:pt x="24984" y="5959"/>
                  <a:pt x="24988" y="5945"/>
                  <a:pt x="24958" y="5933"/>
                </a:cubicBezTo>
                <a:cubicBezTo>
                  <a:pt x="24924" y="5920"/>
                  <a:pt x="24888" y="5916"/>
                  <a:pt x="24851" y="5912"/>
                </a:cubicBezTo>
                <a:cubicBezTo>
                  <a:pt x="24803" y="5907"/>
                  <a:pt x="24750" y="5912"/>
                  <a:pt x="24701" y="591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24160" y="1125000"/>
            <a:ext cx="81374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8c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91480" y="-1933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2160" y="333360"/>
          <a:ext cx="8402760" cy="6066000"/>
        </p:xfrm>
        <a:graphic>
          <a:graphicData uri="http://schemas.openxmlformats.org/drawingml/2006/table">
            <a:tbl>
              <a:tblPr/>
              <a:tblGrid>
                <a:gridCol w="5494320"/>
                <a:gridCol w="1496880"/>
                <a:gridCol w="1411560"/>
              </a:tblGrid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з целевого показателя "Работа койки в году" </a:t>
                      </a:r>
                      <a:br>
                        <a:rPr sz="1600"/>
                      </a:b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тчету "Доступность" за 3 квартал 2017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План по "Дорожной карте" на 2017 год - </a:t>
                      </a:r>
                      <a:r>
                        <a:rPr b="1" lang="en-GB" sz="12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бота койки в году (дн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кв.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ГНОЗ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"Демян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Крестец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"Зарубин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Маревская 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"Маловишерская центральная районная больница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Мошен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Новгородская ЦРБ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"Окуловская центральная 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АУЗ "Поддор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"Пестов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Солец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Старорус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 "Старорусский психоневрологический диспансер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АУЗ "Хвойнин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Холмская центральная 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Чудов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ОБУЗ "Шимская центральная районная больниц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8435880" y="1555920"/>
            <a:ext cx="579600" cy="301320"/>
          </a:xfrm>
          <a:custGeom>
            <a:avLst/>
            <a:gdLst/>
            <a:ahLst/>
            <a:rect l="l" t="t" r="r" b="b"/>
            <a:pathLst>
              <a:path w="1613" h="839">
                <a:moveTo>
                  <a:pt x="24765" y="4364"/>
                </a:moveTo>
                <a:cubicBezTo>
                  <a:pt x="24526" y="4364"/>
                  <a:pt x="24217" y="4317"/>
                  <a:pt x="23991" y="4385"/>
                </a:cubicBezTo>
                <a:cubicBezTo>
                  <a:pt x="23955" y="4396"/>
                  <a:pt x="23929" y="4407"/>
                  <a:pt x="23884" y="4407"/>
                </a:cubicBezTo>
                <a:cubicBezTo>
                  <a:pt x="23795" y="4407"/>
                  <a:pt x="23713" y="4404"/>
                  <a:pt x="23626" y="4428"/>
                </a:cubicBezTo>
                <a:cubicBezTo>
                  <a:pt x="23592" y="4437"/>
                  <a:pt x="23556" y="4459"/>
                  <a:pt x="23540" y="4471"/>
                </a:cubicBezTo>
                <a:cubicBezTo>
                  <a:pt x="23518" y="4488"/>
                  <a:pt x="23517" y="4509"/>
                  <a:pt x="23497" y="4536"/>
                </a:cubicBezTo>
                <a:cubicBezTo>
                  <a:pt x="23483" y="4554"/>
                  <a:pt x="23460" y="4566"/>
                  <a:pt x="23454" y="4600"/>
                </a:cubicBezTo>
                <a:cubicBezTo>
                  <a:pt x="23447" y="4641"/>
                  <a:pt x="23438" y="4672"/>
                  <a:pt x="23432" y="4708"/>
                </a:cubicBezTo>
                <a:cubicBezTo>
                  <a:pt x="23418" y="4790"/>
                  <a:pt x="23422" y="4914"/>
                  <a:pt x="23454" y="4987"/>
                </a:cubicBezTo>
                <a:cubicBezTo>
                  <a:pt x="23468" y="5018"/>
                  <a:pt x="23470" y="5047"/>
                  <a:pt x="23497" y="5073"/>
                </a:cubicBezTo>
                <a:cubicBezTo>
                  <a:pt x="23537" y="5110"/>
                  <a:pt x="23583" y="5102"/>
                  <a:pt x="23626" y="5116"/>
                </a:cubicBezTo>
                <a:cubicBezTo>
                  <a:pt x="23675" y="5132"/>
                  <a:pt x="23704" y="5138"/>
                  <a:pt x="23755" y="5138"/>
                </a:cubicBezTo>
                <a:cubicBezTo>
                  <a:pt x="23846" y="5138"/>
                  <a:pt x="23934" y="5146"/>
                  <a:pt x="24013" y="5159"/>
                </a:cubicBezTo>
                <a:cubicBezTo>
                  <a:pt x="24209" y="5191"/>
                  <a:pt x="24675" y="5217"/>
                  <a:pt x="24851" y="5138"/>
                </a:cubicBezTo>
                <a:cubicBezTo>
                  <a:pt x="24883" y="5124"/>
                  <a:pt x="24902" y="5113"/>
                  <a:pt x="24915" y="5095"/>
                </a:cubicBezTo>
                <a:cubicBezTo>
                  <a:pt x="24935" y="5067"/>
                  <a:pt x="24972" y="5024"/>
                  <a:pt x="24980" y="4987"/>
                </a:cubicBezTo>
                <a:cubicBezTo>
                  <a:pt x="24990" y="4943"/>
                  <a:pt x="24996" y="4859"/>
                  <a:pt x="25001" y="4815"/>
                </a:cubicBezTo>
                <a:cubicBezTo>
                  <a:pt x="25007" y="4758"/>
                  <a:pt x="25035" y="4738"/>
                  <a:pt x="25044" y="4686"/>
                </a:cubicBezTo>
                <a:cubicBezTo>
                  <a:pt x="25054" y="4624"/>
                  <a:pt x="25051" y="4543"/>
                  <a:pt x="25023" y="4493"/>
                </a:cubicBezTo>
                <a:cubicBezTo>
                  <a:pt x="25017" y="4482"/>
                  <a:pt x="24992" y="4438"/>
                  <a:pt x="24980" y="4428"/>
                </a:cubicBezTo>
                <a:cubicBezTo>
                  <a:pt x="24959" y="4410"/>
                  <a:pt x="24918" y="4418"/>
                  <a:pt x="24894" y="4407"/>
                </a:cubicBezTo>
                <a:cubicBezTo>
                  <a:pt x="24889" y="4405"/>
                  <a:pt x="24853" y="4369"/>
                  <a:pt x="24829" y="4364"/>
                </a:cubicBezTo>
                <a:cubicBezTo>
                  <a:pt x="24787" y="4354"/>
                  <a:pt x="24769" y="4328"/>
                  <a:pt x="24744" y="4321"/>
                </a:cubicBezTo>
                <a:cubicBezTo>
                  <a:pt x="24713" y="4312"/>
                  <a:pt x="24669" y="4321"/>
                  <a:pt x="24636" y="43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66040" y="2778120"/>
            <a:ext cx="565200" cy="301680"/>
          </a:xfrm>
          <a:custGeom>
            <a:avLst/>
            <a:gdLst/>
            <a:ahLst/>
            <a:rect l="l" t="t" r="r" b="b"/>
            <a:pathLst>
              <a:path w="1570" h="840">
                <a:moveTo>
                  <a:pt x="24679" y="7760"/>
                </a:moveTo>
                <a:cubicBezTo>
                  <a:pt x="24641" y="7755"/>
                  <a:pt x="24608" y="7750"/>
                  <a:pt x="24572" y="7739"/>
                </a:cubicBezTo>
                <a:cubicBezTo>
                  <a:pt x="24539" y="7728"/>
                  <a:pt x="24524" y="7719"/>
                  <a:pt x="24486" y="7717"/>
                </a:cubicBezTo>
                <a:cubicBezTo>
                  <a:pt x="24303" y="7707"/>
                  <a:pt x="24033" y="7674"/>
                  <a:pt x="23862" y="7739"/>
                </a:cubicBezTo>
                <a:cubicBezTo>
                  <a:pt x="23806" y="7760"/>
                  <a:pt x="23743" y="7756"/>
                  <a:pt x="23690" y="7782"/>
                </a:cubicBezTo>
                <a:cubicBezTo>
                  <a:pt x="23609" y="7821"/>
                  <a:pt x="23633" y="7818"/>
                  <a:pt x="23561" y="7825"/>
                </a:cubicBezTo>
                <a:cubicBezTo>
                  <a:pt x="23525" y="7829"/>
                  <a:pt x="23507" y="7835"/>
                  <a:pt x="23475" y="7846"/>
                </a:cubicBezTo>
                <a:cubicBezTo>
                  <a:pt x="23405" y="7871"/>
                  <a:pt x="23398" y="7867"/>
                  <a:pt x="23346" y="7911"/>
                </a:cubicBezTo>
                <a:cubicBezTo>
                  <a:pt x="23314" y="7938"/>
                  <a:pt x="23289" y="7976"/>
                  <a:pt x="23282" y="8018"/>
                </a:cubicBezTo>
                <a:cubicBezTo>
                  <a:pt x="23272" y="8077"/>
                  <a:pt x="23251" y="8099"/>
                  <a:pt x="23239" y="8147"/>
                </a:cubicBezTo>
                <a:cubicBezTo>
                  <a:pt x="23226" y="8201"/>
                  <a:pt x="23240" y="8275"/>
                  <a:pt x="23260" y="8298"/>
                </a:cubicBezTo>
                <a:cubicBezTo>
                  <a:pt x="23298" y="8343"/>
                  <a:pt x="23360" y="8357"/>
                  <a:pt x="23389" y="8384"/>
                </a:cubicBezTo>
                <a:cubicBezTo>
                  <a:pt x="23419" y="8411"/>
                  <a:pt x="23411" y="8410"/>
                  <a:pt x="23454" y="8427"/>
                </a:cubicBezTo>
                <a:cubicBezTo>
                  <a:pt x="23517" y="8453"/>
                  <a:pt x="23508" y="8452"/>
                  <a:pt x="23561" y="8470"/>
                </a:cubicBezTo>
                <a:cubicBezTo>
                  <a:pt x="23614" y="8489"/>
                  <a:pt x="23657" y="8524"/>
                  <a:pt x="23712" y="8534"/>
                </a:cubicBezTo>
                <a:cubicBezTo>
                  <a:pt x="23794" y="8549"/>
                  <a:pt x="23896" y="8543"/>
                  <a:pt x="23970" y="8556"/>
                </a:cubicBezTo>
                <a:cubicBezTo>
                  <a:pt x="24097" y="8578"/>
                  <a:pt x="24303" y="8573"/>
                  <a:pt x="24421" y="8534"/>
                </a:cubicBezTo>
                <a:cubicBezTo>
                  <a:pt x="24453" y="8523"/>
                  <a:pt x="24505" y="8510"/>
                  <a:pt x="24529" y="8491"/>
                </a:cubicBezTo>
                <a:cubicBezTo>
                  <a:pt x="24563" y="8464"/>
                  <a:pt x="24590" y="8453"/>
                  <a:pt x="24636" y="8427"/>
                </a:cubicBezTo>
                <a:cubicBezTo>
                  <a:pt x="24676" y="8405"/>
                  <a:pt x="24733" y="8384"/>
                  <a:pt x="24765" y="8362"/>
                </a:cubicBezTo>
                <a:cubicBezTo>
                  <a:pt x="24776" y="8354"/>
                  <a:pt x="24802" y="8323"/>
                  <a:pt x="24808" y="8298"/>
                </a:cubicBezTo>
                <a:cubicBezTo>
                  <a:pt x="24824" y="8231"/>
                  <a:pt x="24810" y="8138"/>
                  <a:pt x="24786" y="8083"/>
                </a:cubicBezTo>
                <a:cubicBezTo>
                  <a:pt x="24769" y="8045"/>
                  <a:pt x="24745" y="8011"/>
                  <a:pt x="24722" y="7975"/>
                </a:cubicBezTo>
                <a:cubicBezTo>
                  <a:pt x="24696" y="7936"/>
                  <a:pt x="24668" y="7903"/>
                  <a:pt x="24636" y="7868"/>
                </a:cubicBezTo>
                <a:cubicBezTo>
                  <a:pt x="24620" y="7851"/>
                  <a:pt x="24595" y="7814"/>
                  <a:pt x="24572" y="778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1800" y="189000"/>
            <a:ext cx="907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87480" y="263520"/>
          <a:ext cx="8851680" cy="713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63520"/>
                    <a:ext cx="8851680" cy="713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040" y="836640"/>
            <a:ext cx="9180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А № 14-Д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СВЕДЕНИЯ О ДЕЯТЕЛЬНОСТИ ДНЕВНЫХ СТАЦИОНАРОВ МЕДИЦИНСКИХ ОРГАНИЗАЦ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утверждена приказом Росста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 30.12.2002  №4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6320" y="2952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000)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жности и физ.лица дневных стационаров 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20760" y="692280"/>
          <a:ext cx="8340840" cy="61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692280"/>
                    <a:ext cx="834084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534520" cy="9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c72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04520" y="260280"/>
            <a:ext cx="92012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6320" y="43920"/>
            <a:ext cx="89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010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 дневных стационаров, оказывающих медпомощь в стационарных условиях 1_________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 них: для взросл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___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детей  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о дневных стационаров, оказывающих медпомощь в амбулаторных условиях  4________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з них: для взросл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______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для детей  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36160" y="33336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1" lang="en-US" sz="1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83920" y="1052280"/>
            <a:ext cx="891540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среднегодовых коек указывается целыми чис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тить внимание, чтобы на койках для детей не указывались сведения о взрослых пациентах, в том числе лиц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60520" y="1447560"/>
            <a:ext cx="9097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lang="ru-RU" sz="2000" spc="-1" strike="noStrike">
                <a:solidFill>
                  <a:srgbClr val="da280a"/>
                </a:solidFill>
                <a:latin typeface="Times New Roman"/>
              </a:rPr>
              <a:t>ведение медицинской 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медицинской  карты   пациента, получающего медицинскую  помощь  в  амбулаторных  условиях,   истории развития ребенка, индивидуальной карты беременной и родильницы (далее   -амбулаторная карта):     </a:t>
            </a:r>
            <a:r>
              <a:rPr b="0" lang="ru-RU" sz="2000" spc="-1" strike="noStrike">
                <a:solidFill>
                  <a:srgbClr val="da280a"/>
                </a:solidFill>
                <a:latin typeface="Times New Roman"/>
              </a:rPr>
              <a:t>заполнение всех разде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едусмотренных амбулаторной картой;     наличие  информированного  добровольного  согласия  на   медицинское вмешательство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итери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ачества по условиям оказания медицинской помощи </a:t>
            </a:r>
            <a:r>
              <a:rPr b="1" lang="ru-RU" sz="2000" spc="-1" strike="noStrike">
                <a:solidFill>
                  <a:srgbClr val="0078c7"/>
                </a:solidFill>
                <a:latin typeface="Times New Roman"/>
                <a:ea typeface="Arial"/>
              </a:rPr>
              <a:t>в стационарных условиях и условиях дневного стацион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 </a:t>
            </a:r>
            <a:r>
              <a:rPr b="1" lang="ru-RU" sz="2000" spc="-1" strike="noStrike">
                <a:solidFill>
                  <a:srgbClr val="da280a"/>
                </a:solidFill>
                <a:latin typeface="Times New Roman"/>
              </a:rPr>
              <a:t>ведение   медицинской   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-       медицинской карты стационарного больного, истории родов, истории  развития   новорожденного(далее - стационарная карта):     </a:t>
            </a:r>
            <a:r>
              <a:rPr b="0" lang="ru-RU" sz="2000" spc="-1" strike="noStrike">
                <a:solidFill>
                  <a:srgbClr val="da280a"/>
                </a:solidFill>
                <a:latin typeface="Times New Roman"/>
              </a:rPr>
              <a:t>заполнение всех разде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едусмотренных стационарной картой;     наличие  информированного  добровольного  согласия  на   медицинское вмешатель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30120" y="457200"/>
            <a:ext cx="9328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итерии качества по условиям оказания медицинской помощ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394000" y="914400"/>
            <a:ext cx="4870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8c7"/>
                </a:solidFill>
                <a:latin typeface="Times New Roman"/>
                <a:ea typeface="Arial"/>
              </a:rPr>
              <a:t>в амбулаторных услов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Ф.54 «Отчет врача детского дома, школы-интерната о лечебно-профилактической помощи воспитанникам»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88880" y="1628280"/>
            <a:ext cx="911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яется детскими домами, школами-интернатами, социальными приютами, оказывающими лечебно-профилактическую помощь воспитанникам, с привлечением прикрепленных врачей поликли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 детские дома, школы-интерны, социальные приюты подчинения министерства образования и министерство социальной защиты в центральную районную (городскую) больницу по территориальной принадл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районная (городская) больница представляет отчеты в органы управления здравоохра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" y="579240"/>
            <a:ext cx="97218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Образцы форм годовой отчетности выложены на сайт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ec0e6"/>
                </a:solidFill>
                <a:uFillTx/>
                <a:latin typeface="Arial"/>
                <a:hlinkClick r:id="rId1"/>
              </a:rPr>
              <a:t>www.zdrav-novgorod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Раздел: </a:t>
            </a:r>
            <a:r>
              <a:rPr b="1" lang="ru-RU" sz="4000" spc="-1" strike="noStrike">
                <a:solidFill>
                  <a:srgbClr val="da280a"/>
                </a:solidFill>
                <a:latin typeface="Arial"/>
              </a:rPr>
              <a:t>Специалист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Подраздел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70c16"/>
                </a:solidFill>
                <a:latin typeface="Arial"/>
              </a:rPr>
              <a:t>МИА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Подраздел: </a:t>
            </a:r>
            <a:r>
              <a:rPr b="1" lang="ru-RU" sz="4000" spc="-1" strike="noStrike">
                <a:solidFill>
                  <a:srgbClr val="d70c16"/>
                </a:solidFill>
                <a:latin typeface="Arial"/>
              </a:rPr>
              <a:t>Форм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чень форм отчетной документации, используемых в учреждениях здравоохра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7720"/>
            <a:ext cx="10137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Директор ГОБУЗ «Медицинский информационно-аналитический центр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0c16"/>
                </a:solidFill>
                <a:latin typeface="Arial"/>
              </a:rPr>
              <a:t>Егорова Алла Анатольев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Контактные телефон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64-16-69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29ab"/>
                </a:solidFill>
                <a:latin typeface="Arial"/>
              </a:rPr>
              <a:t>E-mail</a:t>
            </a: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129ab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7ec0e6"/>
                </a:solidFill>
                <a:uFillTx/>
                <a:latin typeface="Arial"/>
                <a:hlinkClick r:id="rId1"/>
              </a:rPr>
              <a:t>novbms@mail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Связка данных МОНИТОРИНГОВ и годового статистического отчета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47920" y="1523520"/>
            <a:ext cx="4000320" cy="221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5600880" y="1523520"/>
            <a:ext cx="4000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Ф.30 «Сведения о медицинской организаци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37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таблицы, касаемые оборудования (т.5117, 5118 лучевая диагностика и терапия, 5301 Лабор.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37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и (т.8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37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47920" y="3886200"/>
            <a:ext cx="4000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Фед.регистр медрабо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Ф.131 по диспансе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00880" y="3886200"/>
            <a:ext cx="4000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Ф.30 «Сведения о медицинской организации» таб.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Ежеквартальный мониторинг КАД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Еженедельный мониторинг участков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280a"/>
                </a:solidFill>
                <a:latin typeface="Arial"/>
              </a:rPr>
              <a:t>Ф.30 «Сведения о медицинской организации» таб.21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04520" y="1052280"/>
            <a:ext cx="92012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Мониторинг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Паспорт МО</a:t>
            </a:r>
            <a:r>
              <a:rPr b="0" lang="ru-RU" sz="2400" spc="-1" strike="noStrike">
                <a:solidFill>
                  <a:srgbClr val="da280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1440" y="476280"/>
            <a:ext cx="904068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23.05.2016г №490-Д</a:t>
            </a:r>
            <a:br>
              <a:rPr sz="2800"/>
            </a:b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«Об утверждении плана мероприятий («Дорожная карта») по обеспечению доступности медицинской помощи…»</a:t>
            </a:r>
            <a:br>
              <a:rPr sz="2800"/>
            </a:b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04880" y="3860640"/>
            <a:ext cx="887256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a280a"/>
                </a:solidFill>
                <a:latin typeface="Arial"/>
              </a:rPr>
              <a:t>Информационная Система мониторинга показателей в сфере здравоохранения (подсистема ГЕОПОРТА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МИАЦ внес в Систему информ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ru-RU" sz="2000" spc="-1" strike="noStrike">
                <a:solidFill>
                  <a:srgbClr val="0078c7"/>
                </a:solidFill>
                <a:latin typeface="Arial"/>
              </a:rPr>
              <a:t>3719 населенным пун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ru-RU" sz="2000" spc="-1" strike="noStrike">
                <a:solidFill>
                  <a:srgbClr val="0078c7"/>
                </a:solidFill>
                <a:latin typeface="Arial"/>
              </a:rPr>
              <a:t>541 структурному подразделению медицинских организа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раз в полугодие информация должна актуализироваться в ч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рикрепленного к МО и его структурному подразделению) насе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исленности населения в каждом населенном пунк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0520" y="2133720"/>
            <a:ext cx="8856360" cy="158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49240" y="304920"/>
            <a:ext cx="9056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21.12.2017г. №881-Д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 отчетов за 2017 год для всех МО, подчинения ДЗНО только с примене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веб-мониторинга на базе программного продукта «Парус – Бюджет 8», модуль «Мониторинг.Web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боту в системе «Парус» начнете строго только после нашего уведом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к. сейчас в Парусе проводятся работы по внесению изменений в формы годового отч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тчете за 2017 год в системе веб-мониторинга размещает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лько формы, прописанные в п.7 прик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годовому отч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дицинская организация размещает свои отчеты в Парусе не позднее, чем за 1 день до сдачи отчетов в ГОБУЗ МИАЦ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880" y="304920"/>
            <a:ext cx="9328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21.12.2017г. №881-Д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6160" y="1267920"/>
            <a:ext cx="88250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ие организации должны в ОБЯЗАТЕЛЬНОМ порядке провести на местах </a:t>
            </a:r>
            <a:r>
              <a:rPr b="1" lang="ru-RU" sz="2400" spc="-1" strike="noStrike" u="sng">
                <a:solidFill>
                  <a:srgbClr val="da280a"/>
                </a:solidFill>
                <a:uFillTx/>
                <a:latin typeface="Arial"/>
              </a:rPr>
              <a:t>все провер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всем внесенным ими формам в системе ПАРУС и исправить все ошибки, которые выдает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ные формы, представляемые на бумажных носителях, должны быть </a:t>
            </a:r>
            <a:r>
              <a:rPr b="1" lang="ru-RU" sz="2400" spc="-1" strike="noStrike">
                <a:solidFill>
                  <a:srgbClr val="da280a"/>
                </a:solidFill>
                <a:latin typeface="Arial"/>
              </a:rPr>
              <a:t>распечатаны с ПАР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сле проведения всех проверок и внесения изменений в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ать отчетных форм двусторонняя, с четким изображением текста и циф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ы должны быть крепко сшиты, подписаны руководителем медицинской организации (главным врачом), а также ответственным лицом за составление формы, внесены контактные данные и заверены печатью учреж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шается заполнять и производить распечатку только тех таблиц, которые касаются деятельности этих медицинских орган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8520" y="304920"/>
            <a:ext cx="9417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21.12.2017г. №881-Д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4160" y="1125360"/>
            <a:ext cx="81770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280a"/>
                </a:solidFill>
                <a:latin typeface="Arial"/>
              </a:rPr>
              <a:t>Приложение 2 к прик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 приема  отчетов по формам ФСН от медицинских организаций  области, подведомственных департаменту за 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78c7"/>
                </a:solidFill>
                <a:uFillTx/>
                <a:latin typeface="Arial"/>
              </a:rPr>
              <a:t>МЕДИЦИНСКИЕ ОРГАН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 изменять дату сдачи отчета ЗАПРЕЩ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ка строго по графику к 9-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0078c7"/>
                </a:solidFill>
                <a:uFillTx/>
                <a:latin typeface="Arial"/>
              </a:rPr>
              <a:t>Члены комисси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, прописанные в прик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НЫ также явится для приема годовых статистических отчетов СТРОГО к 9-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8520" y="304920"/>
            <a:ext cx="9417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иказ Департамента здравоохранения Новгородской области от 21.12.2017г. №881-Д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6160" y="1196640"/>
            <a:ext cx="88250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280a"/>
                </a:solidFill>
                <a:latin typeface="Arial"/>
              </a:rPr>
              <a:t>Приложение 3 к прик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писана зона ответственности для каждой службы и для каждого главного штатного (нештатного) специалиста департамента, включенного в комиссию по приему отч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 отчета или соответствующего раздела по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й и арифметический 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зирование отчета (соответствующего раздела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ециалист комиссии подписывает непосредственно проверяемую форму или раздел.  После сдачи отчетов главным специалистам вариант отчета с подписью специалиста возвращается в ГОБУЗ «МИАЦ» на дальнейшую провер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д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в МЗ РФ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520" y="189000"/>
            <a:ext cx="9633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Правила заполнения ф.30  таб.3100 «Коечный фонд и его использование»  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0160" y="980640"/>
            <a:ext cx="90406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йки по профилю «реанимационные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ложение к приказу Минздрава России от 15 ноября 2012 г. № 919н «Порядок оказания медицинской помощи взрослому населению по профилю "анестезиология и реаниматологи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Число коек для реанимации и интенсивной терапии при оказании медицинской помощи по профилю "анестезиология и реаниматология" в медицинской организации устанавливается руководителем медицинской организации в зависимости от потребностей, обусловленных видами и объемом оказываемой медицинской помощи, и составля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енее 3% общего коечного фо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медицинских организациях, имеющих коечный фон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200 до 400 коек, не менее 5% общего коечного фо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медицинских организациях, имеющих коечный фонд более 400 коек,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енее 6 ко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общего коечного фонда в медицинских организациях, имеющих коечный фонд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е 200 ко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37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я в таблицу 3100 вносится </a:t>
            </a:r>
            <a:r>
              <a:rPr b="1" lang="ru-RU" sz="2000" spc="-1" strike="noStrike" u="sng">
                <a:solidFill>
                  <a:srgbClr val="0078c7"/>
                </a:solidFill>
                <a:uFillTx/>
                <a:latin typeface="Arial"/>
              </a:rPr>
              <a:t>по профилям  ко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приказ Минздравсоцразвития России от 17.05.2012 N 555н «Об утверждении номенклатуры коечного фонда по профилям медицинской помощ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4:47:54Z</dcterms:created>
  <dc:creator>roinem</dc:creator>
  <dc:description/>
  <dc:language>en-US</dc:language>
  <cp:lastModifiedBy>aae</cp:lastModifiedBy>
  <dcterms:modified xsi:type="dcterms:W3CDTF">2017-12-21T13:03:34Z</dcterms:modified>
  <cp:revision>729</cp:revision>
  <dc:subject/>
  <dc:title>PowerPoint-esitys</dc:title>
</cp:coreProperties>
</file>