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377-8DC2-44B7-BF28-D3CEA54E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1E2-8AC4-4AC8-B9C1-DDA33EF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2C0-32C3-4FA7-99C6-4066A1EA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755-6EFD-49AA-8DB9-77CD9AB5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6097-56CD-4165-B02C-226CB71F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3823-161B-423D-ADE9-EA43F527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B99-AF03-4589-AAB1-A5215C4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A16A-F278-4B8C-B242-26B736F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9D71-0A21-4FAB-B645-C6EC6A19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D42-87E8-4B5A-8CB7-DC06F54C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DDE-AD73-43D7-AF75-A3ACF22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463-FCDB-424A-AA71-6C68AF63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90B3-F6C7-4727-A861-F3D7C6D8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9331-0C46-4504-A6AC-0C0D5D4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5A20-8E75-4786-95C2-45F0349B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3C1-4435-4ED7-A9A0-20C480AC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40B7-DFC5-4EDC-9945-5BD44586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2F0-5965-400A-9868-88766BDE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C66-A9FF-4E62-BF31-37FB4951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B11-37B9-4853-A033-54FD49E4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CBF-D313-4180-A66C-5DF2117A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153-B110-43FC-9052-388E440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C1A-5236-4D84-B301-3887F661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EC4-6D6B-4DE7-92C5-9CC79897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BAC-EA42-485B-9930-50B61D16FDD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39A-97BF-4BAA-8A31-54B9FFC12F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682560" y="317520"/>
            <a:ext cx="7785000" cy="1584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280" y="2276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СВЕДЕНИЯ О ЧИСЛЕ ЗАБОЛЕВАНИЙ,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РЕГИСТРИРОВАННЫХ У ПАЦИЕНТОВ, ПРОЖИВАЮЩИХ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 РАЙОНЕ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ОБСЛУЖИВАНИЯ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МЕДИЦИНСКОЙ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ОРГАНИЗАЦИИ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за  20_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17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__  г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ГОБУЗ МИАЦ                                                                                                 22декабря 201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Обжогина Е.Н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г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графе 4 – всего, и только вновь выявленная в текущем году в первичной  заболеваемости  (графы 9 и 13  у  подростков, графа 9 у взрослых) соответствующих  табли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840" y="6429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дети в подростки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2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(переходные подростки во взрослые) + (впервые взятые на Д-учет в текущем году) + (вновь 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детей, таблицы 1000) = графа 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굴림"/>
              </a:rPr>
              <a:t>Таблица 3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прибывшие) + (ранее стоящие на Д-учет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оторвавшиес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굴림"/>
              </a:rPr>
              <a:t>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и кому диагноз был ранее установлен, но на Д-учете не состоял) + (переходные из подростков, таблицы 2000) = графа 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ГРАФА 1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934640"/>
            <a:ext cx="8329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14 – снято с диспансерного наблюд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е место жительства и др.)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а трактов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группы больных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ход в другую возрастну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ходит в графу 1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-гр.14=гр.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Дети первого года жиз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начало года по всем строкам 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а 4 = графе 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фа 8 = графе 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208080" y="633240"/>
            <a:ext cx="140619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895320" y="268200"/>
            <a:ext cx="8199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6630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0" y="-75492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Таблица 2" descr=""/>
          <p:cNvPicPr/>
          <p:nvPr/>
        </p:nvPicPr>
        <p:blipFill>
          <a:blip r:embed="rId1"/>
          <a:stretch/>
        </p:blipFill>
        <p:spPr>
          <a:xfrm>
            <a:off x="139680" y="1427040"/>
            <a:ext cx="890100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57120" y="928800"/>
            <a:ext cx="86439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 при диспансеризации определенных групп взрослого населени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. 12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ледует чит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явлено при диспансеризации</a:t>
            </a: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 заболеваний с впервые в жизни установленным диагнозом (из гр. 10) 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. 13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следует читать -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заболеваний с впервые в жизни установленным диагнозом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из гр. 9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юнош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11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«Болезни уха и сосцевидного отростк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строке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Острый средний отит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а «Всего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афе «Впервые  жизни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табл.2000,3000,4000 по этой строке графы касающиеся диспансерного наблюдения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не заполнять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3" descr=""/>
          <p:cNvPicPr/>
          <p:nvPr/>
        </p:nvPicPr>
        <p:blipFill>
          <a:blip r:embed="rId1"/>
          <a:stretch/>
        </p:blipFill>
        <p:spPr>
          <a:xfrm>
            <a:off x="457200" y="689040"/>
            <a:ext cx="82789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274680" y="1249200"/>
            <a:ext cx="82468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00040" y="928800"/>
            <a:ext cx="8001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= графе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654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22160" y="71424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71680" y="135720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, повторными инфарктами миокарда наблюдаются в теч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-30 дне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21664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51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2"/>
          <p:cNvSpPr/>
          <p:nvPr/>
        </p:nvSpPr>
        <p:spPr>
          <a:xfrm>
            <a:off x="857160" y="7142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лезни органов дых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285840" y="1357200"/>
            <a:ext cx="850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рок диспансерного наблюдения решает врач, и он может быть больше 6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714240" y="107172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ОРВИ верхних дыхательный путей и грипп под диспансерное наблюдение, как правило, не беру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ы 8, 10, 14, 15-не заполняю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3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8485200" cy="58946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285840" y="714240"/>
            <a:ext cx="835812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делы формы №12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(0-14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первого года жизни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 (15-17 лет включительно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зрослые 18 лет  и старше -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0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зрослые старше трудоспособного возраста (с 55 лет у женщин и с 60 лет у мужчин) – таблиц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испансеризация студентов высших учеб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чреждений </a:t>
            </a:r>
            <a:br>
              <a:rPr sz="2200"/>
            </a:br>
            <a:br>
              <a:rPr sz="2200"/>
            </a:b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се данные в табл.4000 должны быть меньше или равны данным в табл.3000</a:t>
            </a:r>
            <a:br>
              <a:rPr sz="3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2"/>
          <p:cNvSpPr/>
          <p:nvPr/>
        </p:nvSpPr>
        <p:spPr>
          <a:xfrm>
            <a:off x="142920" y="1214280"/>
            <a:ext cx="88786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трока 11.4-ОРВИ нижних дыхательных пу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олняется если есть детализация острого бронх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диагноз «Бронхит»без детализации 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0-14 лет(табл.1000)-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5-17 лет и взрослые(табл.2000, 3000, 4000)-стр.11.7 «бронхит хронический и неуточнен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сьмо МЗ от 03.12.2015 №13-2/1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42920" y="85716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Болезни системы пищевар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нный раздел включаются заболевания стоматологического профиля, но только те, которые подлежа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пансерному наблюд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00040" y="85716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ьные состояния, возникающие в перинаталь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357120" y="185724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, регистрируются как острые (таблица 1000, графа 4 должна быть равна графе 9), дети наблюдаются в течение 1 месяца, поэтому в графе 15 на конец отчетного периода показывают только тех детей, у которых эти состояния развились в декабре меся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28760" y="378612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7.0 (таблиц 2000 и 3000) заполняется только в случаях перинатальной смертности и касается состояния здоровья матери. В этих случаях состояния матери кодируются кодами Р00-Р04, а не кодам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а, и показываются в строке 17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93560" y="665280"/>
            <a:ext cx="7974000" cy="54864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500040" y="57168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мптомы, признаки и отклонения от нормы, выявленные при клинических и лабораторных исследованиях, не классифицированные в других рубриках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стояния из этого класса (стр. 19.0), как правило, не должны регистрироваться. Могут быть единичные случаи, которые требуют объяснения, что это за симптомы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перечень включенных состояний (диагнозов) в соответствии с МКБ-10 (представить список в виде приложения к таблице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ет данные состояни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беру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36080" cy="6296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57200" y="5715000"/>
            <a:ext cx="6415200" cy="460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txBody>
          <a:bodyPr lIns="0" rIns="18360" tIns="360" bIns="360" anchor="t">
            <a:noAutofit/>
          </a:bodyPr>
          <a:p>
            <a:pPr algn="r">
              <a:lnSpc>
                <a:spcPct val="6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endParaRPr b="0" lang="en-US" sz="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3" descr=""/>
          <p:cNvPicPr/>
          <p:nvPr/>
        </p:nvPicPr>
        <p:blipFill>
          <a:blip r:embed="rId1"/>
          <a:stretch/>
        </p:blipFill>
        <p:spPr>
          <a:xfrm>
            <a:off x="858960" y="804960"/>
            <a:ext cx="81262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3" descr=""/>
          <p:cNvPicPr/>
          <p:nvPr/>
        </p:nvPicPr>
        <p:blipFill>
          <a:blip r:embed="rId1"/>
          <a:stretch/>
        </p:blipFill>
        <p:spPr>
          <a:xfrm>
            <a:off x="817560" y="1011240"/>
            <a:ext cx="7935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22160" y="571680"/>
            <a:ext cx="7772400" cy="5643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Некоторые КОНТРОЛ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а 4 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onstantia"/>
              </a:rPr>
              <a:t>строго равна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рафе 9 по строк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- воспалительные болезни центральной нервной  систем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1- бактериальный менинг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7.1.2- энцефалит, миелит и энцефаломиел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9.2.1-острый средний от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1-О.ревматическая лихорад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1.1-нестабильная стенокарди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2-О.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3-Повторный инфарк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4.4-др.формы острых ИБ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1-О.пери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2-острый и подострый энд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5.3-О.миокарди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10.6.1 по 10.6.4-все инсуль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0.6.7-последствия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57120" y="1143000"/>
            <a:ext cx="842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-ОРВИ верх.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1-О.ларингит и трахе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1.2-О.обстр.ларингит и эпиглот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2-гри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3-пневм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1.4-ОРВИ нижних дыхательных пу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2.9.1-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стрый панкреат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7.0-Отдельные состояния,возникающие в перинатальном перио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2286000" y="2550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 этим же состояниям графа 8=графе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2" descr=""/>
          <p:cNvPicPr/>
          <p:nvPr/>
        </p:nvPicPr>
        <p:blipFill>
          <a:blip r:embed="rId1"/>
          <a:stretch/>
        </p:blipFill>
        <p:spPr>
          <a:xfrm>
            <a:off x="19080" y="281160"/>
            <a:ext cx="914868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22160" y="85680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СТРОГОЕ РАВЕНСТВО ВНИЗ ПО СТРО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3 = сумме 10.3.1+….+10.3.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4 = сумме 10.4.1+….+10.4.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.10.6 = сумме 10.6.1+….+10.6.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nstantia"/>
              </a:rPr>
              <a:t>ПО ВСЕМ ГРАФА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214200" y="100008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1643040"/>
          <a:ext cx="6095880" cy="126216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2711520"/>
              </a:tblGrid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всех строк в табл.1000,2000,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8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>
                        <a:alpha val="99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28760" y="3214800"/>
          <a:ext cx="6095880" cy="2773080"/>
        </p:xfrm>
        <a:graphic>
          <a:graphicData uri="http://schemas.openxmlformats.org/drawingml/2006/table">
            <a:tbl>
              <a:tblPr/>
              <a:tblGrid>
                <a:gridCol w="2103480"/>
                <a:gridCol w="1280880"/>
                <a:gridCol w="1333440"/>
                <a:gridCol w="454320"/>
                <a:gridCol w="426960"/>
                <a:gridCol w="496800"/>
              </a:tblGrid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&gt;=гр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15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7&gt;=гр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</a:tr>
              <a:tr h="2847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</a:tr>
              <a:tr h="284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9&gt;=гр.11+гр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5fa"/>
                    </a:solidFill>
                  </a:tcPr>
                </a:tc>
                <a:tc gridSpan="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 для всех строк в табл.3000,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f5f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500040" y="928800"/>
            <a:ext cx="84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000 выводить данные по девуш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одить свер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1785960"/>
          <a:ext cx="7000920" cy="1571760"/>
        </p:xfrm>
        <a:graphic>
          <a:graphicData uri="http://schemas.openxmlformats.org/drawingml/2006/table">
            <a:tbl>
              <a:tblPr/>
              <a:tblGrid>
                <a:gridCol w="4351320"/>
                <a:gridCol w="2649600"/>
              </a:tblGrid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9-гр.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f7dc"/>
                    </a:solidFill>
                  </a:tcPr>
                </a:tc>
              </a:tr>
              <a:tr h="78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.4-гр.7&gt;=гр.15-гр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всем строк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f7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2" descr=""/>
          <p:cNvPicPr/>
          <p:nvPr/>
        </p:nvPicPr>
        <p:blipFill>
          <a:blip r:embed="rId1"/>
          <a:stretch/>
        </p:blipFill>
        <p:spPr>
          <a:xfrm>
            <a:off x="523800" y="1176480"/>
            <a:ext cx="815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3" descr=""/>
          <p:cNvPicPr/>
          <p:nvPr/>
        </p:nvPicPr>
        <p:blipFill>
          <a:blip r:embed="rId1"/>
          <a:stretch/>
        </p:blipFill>
        <p:spPr>
          <a:xfrm>
            <a:off x="682560" y="1908000"/>
            <a:ext cx="81374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3" descr=""/>
          <p:cNvPicPr/>
          <p:nvPr/>
        </p:nvPicPr>
        <p:blipFill>
          <a:blip r:embed="rId1"/>
          <a:stretch/>
        </p:blipFill>
        <p:spPr>
          <a:xfrm>
            <a:off x="682560" y="781200"/>
            <a:ext cx="8352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000080" y="928800"/>
            <a:ext cx="7500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мерация граф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сопостави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1143000"/>
            <a:ext cx="8572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1000, 2000, 3000, 40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и повторно один  раз 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ду (+ и -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5 – в возрасте 0-4 года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6 – в возрасте 5-9 лет, из графы 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этом графа 4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графам 5+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года, из графы 4 «всего» (+ и -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ациентов впервые в жизни (+),  из графы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66600" y="268200"/>
            <a:ext cx="1287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3" descr=""/>
          <p:cNvPicPr/>
          <p:nvPr/>
        </p:nvPicPr>
        <p:blipFill>
          <a:blip r:embed="rId1"/>
          <a:stretch/>
        </p:blipFill>
        <p:spPr>
          <a:xfrm>
            <a:off x="480960" y="853920"/>
            <a:ext cx="83217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РАФА 8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В гр. 8 показываются все, кто оставался стоять  на Д-учете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 2016 году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, +(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  <a:ea typeface="굴림"/>
              </a:rPr>
              <a:t>впервые взятые на Д-учет в текущем году) +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(вновь прибывшие) + (больные, которым диагноз выставлен в прошлые годы, а на Д-учет он не брался) –или+ (переходные по возрасту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стоящие на Д-учете на конец 2016г.не касаются острых сосотояний!По ним на начало года всегда н0ль!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0:10:48Z</dcterms:created>
  <dc:creator>u.oskov</dc:creator>
  <dc:description/>
  <dc:language>en-US</dc:language>
  <cp:lastModifiedBy>Лена</cp:lastModifiedBy>
  <dcterms:modified xsi:type="dcterms:W3CDTF">2017-12-22T10:40:59Z</dcterms:modified>
  <cp:revision>200</cp:revision>
  <dc:subject/>
  <dc:title>Слайд 1</dc:title>
</cp:coreProperties>
</file>