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4F9-C33C-4F21-B7BE-C451627A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A15-F08A-4B79-A535-263ECD96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638-3956-4333-8ECC-95473145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6098-AABF-40D1-925E-275C7777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B49C-ED22-476A-9BFD-78046BFD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C45-4C65-4E43-8F2B-00323AB4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0D61-EC40-4E06-BF42-278DD687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8ED-B973-4925-BD56-A7C4B304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6EE8-3556-49E4-9156-034E847C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6DD-8879-4B82-9820-40ACCE31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9A5-6789-4822-B736-C38357E5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CE8-49D8-4D6E-9C2F-9728B8C7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99F7-37F1-4A84-9902-3432BF4F8F3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4C43-3D23-4FD8-9371-BE27A963A3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971640" y="18900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ЕРАЛЬНОЕ СТАТИСТИЧЕСКОЕ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971640" y="1125360"/>
            <a:ext cx="741672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СВЕДЕНИЯ О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ПОДРАЗДЕЛЕНИЙ МЕДИЦИНСКОЙ ОРГАНИЗАЦИИ, ОКАЗЫВАЮЩИХ МЕДИЦИНСКУЮ ПОМОЩЬ В СТАЦИОНАР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</a:rPr>
              <a:t>за 2017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Форма №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Приказ Росс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Об утверждении ф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от 27.12.2016 №8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 КОДИРОВАНИИ СОСТОЯНИЙ «СТАРОСТЬ» И «ДЕМЕНЦИЯ» (продолжение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сть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относится к  неточно обозначенным состояниям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состояние не может быть выбрано в качестве первоначальной причины смерти при наличии любого состояния, классифицированного в других рубриках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8268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КБ-10, том 2,  ср. 46-47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332000" y="888840"/>
            <a:ext cx="611964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НЕКОТОРЫЕ УСЛОВИЯ КОНТРОЛЯ</a:t>
            </a:r>
            <a:br>
              <a:rPr sz="2800"/>
            </a:b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(Таблица 2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ИШЕМИЧЕСКИЕ БОЛЕЗНИ СЕРД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аблица 2000: СТРОКА 10.4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о графам 4-12, 13-21,  22-33 должна быть равна сумме строк: 10.4.1 + 10.4.2 + 10.4.3  +10.4.4 +10.4.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alibri"/>
              </a:rPr>
              <a:t>ЦЕРЕБРОВАСКУЛЯРНЫЕ БОЛЕ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аблица 2000: СТРОКА 10.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графам 4-7, 13-16,  22-27 должна быть равна сумме строк: 10.7.1 + 10.7.2 + 10.7.3 + 10.7.4 + 10.7.5 + 10.7.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аблица 2000: СТРОКА 10.7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графам 8-12,  17- 21, 28-33 может быть больше суммы строк: 10.7.1 + 10.7.2 + 10.7.3 + 10.7.4 + 10.7.5 + 10.7.6 за счет рубрик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69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«Последствия цереброваскулярных болезне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79280" y="1484280"/>
          <a:ext cx="8642520" cy="4046400"/>
        </p:xfrm>
        <a:graphic>
          <a:graphicData uri="http://schemas.openxmlformats.org/drawingml/2006/table">
            <a:tbl>
              <a:tblPr/>
              <a:tblGrid>
                <a:gridCol w="4248360"/>
                <a:gridCol w="1062000"/>
                <a:gridCol w="915840"/>
                <a:gridCol w="476280"/>
                <a:gridCol w="476280"/>
                <a:gridCol w="399960"/>
                <a:gridCol w="1063800"/>
              </a:tblGrid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болезни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п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КБ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ит хронический и неуточненный, эмфизем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40-J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ая хроническая обструктивная легочная болезн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оэктатическая болез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функция яич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ройства менстр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91-N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еменность, роды и послеродовый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00-O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НЕКОТОРЫЕ УСЛОВИЯ КОНТРОЛЯ</a:t>
            </a:r>
            <a:br>
              <a:rPr sz="2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(продолжение)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(Таблица 2000 - ДЕТ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467"/>
          <p:cNvSpPr/>
          <p:nvPr/>
        </p:nvSpPr>
        <p:spPr>
          <a:xfrm>
            <a:off x="395280" y="5660280"/>
            <a:ext cx="84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Эти диагнозы не могут быть причиной болезни детей в возрасте до 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еобходимо представить подтверждения на следующие случаи смер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псис (А40-41, строка 2.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емии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50-D6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4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дельные нарушения, вовлекающие иммунный механизм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80-D8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4.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жирение (Е66, строка 5.1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сихические расстройства и расстройства поведения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01-F9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6.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трая ревматическая лихорадк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00-I0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0.1) – для детей до 1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ронические ревматические болезни сердц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05-I0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0.2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ля детей до 1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еобходимо представить подтверждения на следующие случаи смерти (продолжение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ипп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09-J1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1.2 )– для детей 0-17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трые респираторные  инфекции верхних дыхательных путей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00-J0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трока 11.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зва желудка и двенадцатиперстной кишки (К25-К26, строка 12.1) – для детей 0-17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астрит и дуоденит (К29, строка 12.2) – для взрослых 18 лет и старш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ные поражения соединительной ткани (М30-М35, строка 14.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Необходимо представить подтверждения на следующие случаи смерти (продолжение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случаи смерти женщин (от внематочной беременности, аборта, беременных, рожениц и родильниц) (О00-О99, строка 16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беркулез органов дыхания (А15-А16, строка 2.2) – для детей 0 - 17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ЛОЖНЕНИЯ, КОТОРЫЕ НЕ МОГУТ БЫТЬ ПЕРВОНАЧАЛЬНОЙ ПРИЧИНОЙ ЛЕТАЛЬНОГО ИСХОДА В СТАЦИОНАРЕ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СЕПСИ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►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  <a:ea typeface="Arial"/>
              </a:rPr>
              <a:t>	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СТЕНОКАРДИЯ НА ФОНЕ ХРОНИЧЕСКОЙ ФОРМЫ ИШЕМИЧЕСКОЙ БОЛЕЗНИ СЕРД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►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u-RU" sz="2800" spc="-1" strike="noStrike">
                <a:solidFill>
                  <a:srgbClr val="a50021"/>
                </a:solidFill>
                <a:latin typeface="Calibri"/>
              </a:rPr>
              <a:t>ПОЧЕЧНАЯ НЕДОСТАТОЧ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57200" y="525384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Каждый случай летального исхода при этих осложнениях должен быть подтвержден письменной копией посмертного заключительного диагноза при сдаче годового отчета с указанием кода МКБ о первоначальной причине смер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64480" cy="55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Сепсис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является 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осложнением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 обширных гнойных процессов (одонтогенных, остеогенных, отогенных, тонзиллогенных, риногенных, генитальных, урогенных, раневых и т.д.).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едких случа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гда причину сепсиса установить не удается, он носит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птоген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кодируется как самостоятельная нозологическая фор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  <a:ea typeface="Times New Roman"/>
              </a:rPr>
              <a:t>Необходимо обратить внимание, что в акушерско-гинекологической практике, как правило, сепсис регистрируется не как осложнение аборта, беременности, родов и послеродового периода, а как криптогенное заболевание. Это ведет к сокрытию случаев материнской смерт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539640" y="1627200"/>
            <a:ext cx="792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и составлении Формы для отнесения заболеваний к той или иной нозологической форме или классу заболеваний, следует руководствоваться заключительным клиническим диагнозом, а в случае смерти – </a:t>
            </a:r>
            <a:r>
              <a:rPr b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первоначальной причиной смер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Форму включаются только те заболевания, которые выставлены в качестве «основного заболевания». Если состояния, указанные в строках 10.6.5, 10.6.6 и 10.6.7,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ердно-желудочковая (атриовентрикулярная) блока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удочковая тахикардия, фибрилляция и трепетание предсердий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являются осложнением «основного заболевания», они в Форму не включаются.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ЫДЕРЖКА ИЗ УКАЗАНИЯ ПО ЗАПОЛНЕНИЮ ФОРМЫ ФЕДЕРАЛЬНОГО СТАТИСТИЧЕСКОГО НАБЛЮ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«Хирургическая работа учреждения»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 (4000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1773360"/>
            <a:ext cx="8029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включаются сведения о всех операциях, включая и выполненные в случае экстренной доставки пациента, проведенных в лечебном учреждении, независимо от того, в каком отделении была проведена операц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5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Calibri"/>
                <a:ea typeface="Times New Roman"/>
              </a:rPr>
              <a:t>«Хирургическая работа учреждения» 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Calibri"/>
                <a:ea typeface="Times New Roman"/>
              </a:rPr>
              <a:t>код (4000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дному и тому же пациенту произведено несколько операций, то он будет показан в таблице столько раз, сколько операций ему произведено, независимо от того, одномоментно или в разные сроки были произведены эти опер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я, произведенная в несколько этапов, в случае если пациент не выписывался из стационара в промежутки между этапами операции, учитывается как одна операц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Calibri"/>
                <a:ea typeface="Times New Roman"/>
              </a:rPr>
              <a:t>«Хирургическая работа учреждения» 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Calibri"/>
                <a:ea typeface="Times New Roman"/>
              </a:rPr>
              <a:t>код (4000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«умерло оперированных в стационаре» указывается число умерших оперированных пациентов, независимо от того, что послужило причиной смерти: заболевание, по поводу которого была произведена операция, осложнение при или после операции или другие заболе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имер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и, когда пациент, оперированный по поводу катаракты, аппендицита, грыжи и т.д., умер от инфаркта миокарда, инсульта и т.д., развившихся после опер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смерти пациента, перенесшего несколько операций, как умершего его следуют показывать лишь по одной операции (наиболее серьезной и радикальной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Таблица 4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, 4000, 1, 03:28 = 14, 4000, 2+3+4+5+6+7+8+9+10+11+12+13+14+15+16=17+18+19+20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, 4000, 8, 03:28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14, 4000, 81+82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, 4000, 2, 03:28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14, 4000, 21П29+210+211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перации на сосудах  (строка 8) и операции на нервной системе (2)  не должны дублироваться. Если данные операции подходят как для строки 8, так и для строки 2, следует  отметить их только в одной строк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чие операции, которые вошли в строки 2 и 8, но не вошли в предлагаемый перечень операций,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язательн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ледует расшифровать – приложить список операций и их количество. То же касается строки 20 -Прочие операции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з данной  расшифровки отчет приниматься не буд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250920" y="809280"/>
            <a:ext cx="864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400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996633"/>
                </a:solidFill>
                <a:uFillTx/>
                <a:latin typeface="Arial"/>
              </a:rPr>
              <a:t>закрещенных и незакрещенных графоклетках в строк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асто ук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достовер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формация о проведенных операциях по поводу злокачественных новообразований: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рока  7 – 3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9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случаев (операции на сердце), строка 9.7 – 518 случаев (геморр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400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ть число направленных материалов на морфологическое исследование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по числу операций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З РФ от 24 марта 2016 г. №179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420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аф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обходим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ть число направленных материалов на морфологическое исследование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по числу трансплантаций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З РФ от 24 марта 2016 г. № 179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457200" y="3337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743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Таблица  4110   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1341360"/>
          <a:ext cx="8642160" cy="4435560"/>
        </p:xfrm>
        <a:graphic>
          <a:graphicData uri="http://schemas.openxmlformats.org/drawingml/2006/table">
            <a:tbl>
              <a:tblPr/>
              <a:tblGrid>
                <a:gridCol w="3676680"/>
                <a:gridCol w="1054080"/>
                <a:gridCol w="1058760"/>
                <a:gridCol w="1058760"/>
                <a:gridCol w="1793880"/>
              </a:tblGrid>
              <a:tr h="30492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анестез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анестез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госед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дураль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ая (субарахноидальная)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о-эпидураль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тальная внутривен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 эндотрахеальный нарко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етан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краль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полостная анесте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826560" y="836280"/>
            <a:ext cx="7907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лжен проводить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12 «Сведения о числе заболеваний, зарегистрированных у пациентов, проживающих в районе обслуживания медицинской организац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13 «Сведения о беременности с абортивным исходом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30 «Сведения о медицинской организации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формой 32 «Сведения о медицинской помощи беременным, роженицам и родильницам»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53964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</a:rPr>
              <a:t>14 форма  Межформенный контроль 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2133360"/>
            <a:ext cx="83008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исло заболеваний (острые и повторные инфаркты миокарда и острые формы цереброваскулярных болезней, пневмонии и другие заболевания, требующие лечения в стационарных условиях, в форме №12 должно быть больше или равно числу лиц, показанных в форме №14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вышение количества заболеваний в форме №14 над заболеваниями, показанными в форме №12, указывает на отсутствие преемственности между поликлиникой и стациона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ключение: число заболеваний в форме №14 может быть больше, чем в форме №12, только в случае госпитализации лиц с вышеуказанными нозологическими единицами, не проживающими на территории обслуживания учреждения здравоохран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539640" y="333360"/>
            <a:ext cx="82296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4 форма  Межформенный контрол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 12 формой «Сведения о числе заболеваний, зарегистрированных у пациентов, проживающих в районе обслужи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826920" y="1700280"/>
            <a:ext cx="79423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 конт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о количеству выполненных абор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по количеству умерших после абор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о числу операций, при проведении которых  наблюдались осложнения в стациона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53964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4 форма  Межформенный контрол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 13 формой «Сведения о беременности с абортивным исходом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11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ежформенный контроль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продолжение):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26920" y="692280"/>
          <a:ext cx="7705800" cy="334800"/>
        </p:xfrm>
        <a:graphic>
          <a:graphicData uri="http://schemas.openxmlformats.org/drawingml/2006/table">
            <a:tbl>
              <a:tblPr/>
              <a:tblGrid>
                <a:gridCol w="3673800"/>
                <a:gridCol w="502920"/>
                <a:gridCol w="352908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13"/>
          <p:cNvSpPr/>
          <p:nvPr/>
        </p:nvSpPr>
        <p:spPr>
          <a:xfrm>
            <a:off x="2124000" y="3284640"/>
            <a:ext cx="59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26920" y="1700280"/>
          <a:ext cx="7705800" cy="2809800"/>
        </p:xfrm>
        <a:graphic>
          <a:graphicData uri="http://schemas.openxmlformats.org/drawingml/2006/table">
            <a:tbl>
              <a:tblPr/>
              <a:tblGrid>
                <a:gridCol w="3673800"/>
                <a:gridCol w="502920"/>
                <a:gridCol w="352908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4000 стр. 14.6, гр. 3 (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-O07)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1000 стр. 1, гр.4 (аборты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2 нед.)+ т. 2000 стр. 1, гр.4 (аборты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12 нед. до 22 нед.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4000 стр. 14.6, «аборт» гр. 19 (умерло оперированных в стационар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lt;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000 гр.4, стр.1 (умерло от беременности с  абортивным исходо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4000 гр.11, стр.14.6 «Число операций, при которых наблюдались осложне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1100 +2100 «Осложнения, вызванные абор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Rectangle 47"/>
          <p:cNvSpPr/>
          <p:nvPr/>
        </p:nvSpPr>
        <p:spPr>
          <a:xfrm>
            <a:off x="900000" y="1052640"/>
            <a:ext cx="7632720" cy="580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количеству выполненных абортов, осложнений и смертей вызванных абор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Calibri"/>
              </a:rPr>
              <a:t>Источником информации 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Calibri"/>
              </a:rPr>
              <a:t>при составлении формы №14 являются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42920" y="1196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форма №066/у-02 «Статистическая карта выбывшего из стационара круглосуточного пребывания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форма №016/у-02 «Ведомость учета движения пациентов и коечного фонда стационара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форма №001 «Журнал учета приема больных и отказов в госпитализац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Форма №106/у-08 «Медицинское свидетельство о смерти и форма №106-2/у-08 «Медицинское свидетельство о перинатальной смертно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10920" y="2421000"/>
            <a:ext cx="79074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у выбывших всего (выписано + умерло + переведено) пациен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539640" y="189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4 форма  Межформенный контрол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 30 формой «Сведения о медицинской организаци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24000" y="765000"/>
            <a:ext cx="8712000" cy="50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t">
            <a:normAutofit fontScale="84000"/>
          </a:bodyPr>
          <a:p>
            <a:pPr marL="432000" indent="-432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выбывших всего (выписано + умерло + переведен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11280" y="333360"/>
            <a:ext cx="82296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 (продолжение):</a:t>
            </a: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23720" y="1557360"/>
          <a:ext cx="8604360" cy="4319640"/>
        </p:xfrm>
        <a:graphic>
          <a:graphicData uri="http://schemas.openxmlformats.org/drawingml/2006/table">
            <a:tbl>
              <a:tblPr/>
              <a:tblGrid>
                <a:gridCol w="4608720"/>
                <a:gridCol w="503280"/>
                <a:gridCol w="3492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4 (выписано взрослых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A00-T98)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стр.1 гр.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выписано детей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A00-T98)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 21 гр. 4 (выписано взрослых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Z00-Z99»)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стр. 21 гр. 22 (выписано детей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Z00-Z99)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100 стр. 1 гр.1 (переведено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8 (умерло взрослых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стр.1 гр.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умерло детей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Здоровые новорожденные  показываются только в тех учреждениях, где есть профильные  койки для новорожденных указанные по строке </a:t>
                      </a:r>
                      <a:r>
                        <a:rPr b="1" lang="ru-RU" sz="15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1.0 «Z00-Z99»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Больные  новорожденные показываются всеми учреждениями в строке «отдельные состояния, возникающие в перинатальном периоде»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1 гр. 10 (выписано всего)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. 78 гр. 10 «кроме того больные новорожденные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1 гр. 13 (умерло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78 «кроме того больные новорожденные гр. 13 (умерло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чреждения, имеющие  койки для новорожденных показывают всех новорожденных, учреждения не имеющие таких коек показывают только больных новорожденных по строке  «кроме того больные новорожденные»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AutoShape 18"/>
          <p:cNvSpPr/>
          <p:nvPr/>
        </p:nvSpPr>
        <p:spPr>
          <a:xfrm>
            <a:off x="468360" y="2133720"/>
            <a:ext cx="142920" cy="1942920"/>
          </a:xfrm>
          <a:custGeom>
            <a:avLst/>
            <a:gdLst>
              <a:gd name="textAreaLeft" fmla="*/ 91440 w 142920"/>
              <a:gd name="textAreaRight" fmla="*/ 143280 w 142920"/>
              <a:gd name="textAreaTop" fmla="*/ 32400 h 1942920"/>
              <a:gd name="textAreaBottom" fmla="*/ 1910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6"/>
                  <a:pt x="10800" y="1151"/>
                </a:cubicBezTo>
                <a:lnTo>
                  <a:pt x="10800" y="9649"/>
                </a:lnTo>
                <a:cubicBezTo>
                  <a:pt x="10800" y="10225"/>
                  <a:pt x="5400" y="10800"/>
                  <a:pt x="0" y="10800"/>
                </a:cubicBezTo>
                <a:cubicBezTo>
                  <a:pt x="5400" y="10800"/>
                  <a:pt x="10800" y="11376"/>
                  <a:pt x="10800" y="11951"/>
                </a:cubicBezTo>
                <a:lnTo>
                  <a:pt x="10800" y="20449"/>
                </a:lnTo>
                <a:cubicBezTo>
                  <a:pt x="10800" y="210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"/>
          <p:cNvSpPr/>
          <p:nvPr/>
        </p:nvSpPr>
        <p:spPr>
          <a:xfrm>
            <a:off x="5508720" y="1944720"/>
            <a:ext cx="215640" cy="1638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34920 h 1638360"/>
              <a:gd name="textAreaBottom" fmla="*/ 1603440 h 163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40"/>
                  <a:pt x="10800" y="1479"/>
                </a:cubicBezTo>
                <a:lnTo>
                  <a:pt x="10800" y="9321"/>
                </a:lnTo>
                <a:cubicBezTo>
                  <a:pt x="10800" y="10061"/>
                  <a:pt x="5400" y="10800"/>
                  <a:pt x="0" y="10800"/>
                </a:cubicBezTo>
                <a:cubicBezTo>
                  <a:pt x="5400" y="10800"/>
                  <a:pt x="10800" y="11540"/>
                  <a:pt x="10800" y="12279"/>
                </a:cubicBezTo>
                <a:lnTo>
                  <a:pt x="10800" y="20121"/>
                </a:lnTo>
                <a:cubicBezTo>
                  <a:pt x="10800" y="2086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26560" y="549000"/>
            <a:ext cx="8085240" cy="360360"/>
          </a:xfrm>
          <a:prstGeom prst="rect">
            <a:avLst/>
          </a:prstGeom>
          <a:solidFill>
            <a:srgbClr val="3ba0bb"/>
          </a:solidFill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выписанны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611280" y="26028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жформенный контроль (продолжение):</a:t>
            </a: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084320"/>
          <a:ext cx="8569080" cy="3425760"/>
        </p:xfrm>
        <a:graphic>
          <a:graphicData uri="http://schemas.openxmlformats.org/drawingml/2006/table">
            <a:tbl>
              <a:tblPr/>
              <a:tblGrid>
                <a:gridCol w="4529160"/>
                <a:gridCol w="365040"/>
                <a:gridCol w="3674880"/>
              </a:tblGrid>
              <a:tr h="46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4 (выписано взрослых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A00-T98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22 (выписано дете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A00-T98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 21 гр. 4 (выписано взрослых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-Z99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 21 гр. 22 (выписано детей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-Z99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100 1 гр.1 (переведе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Здоровые новорожденные  показываются только в тех учреждениях, где есть  профильные,  штатные койки   для новорожденных, по строке 21.0 «Z00-Z99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Больные новорожденные показываются во всех учреждениях в строке «отдельные состояния, возникающие в перинатальном периоде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1 гр. 10 (выписано всего)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. 78 гр. 10 «кроме того больные новорожденны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чреждения имеющие в штате койки для новорожденных показывают всех новорожденных, учреждения не имеющие таких коек показывают только больных новорожденных по строк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«кроме того больные новорожденные»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AutoShape 18"/>
          <p:cNvSpPr/>
          <p:nvPr/>
        </p:nvSpPr>
        <p:spPr>
          <a:xfrm>
            <a:off x="324000" y="1563840"/>
            <a:ext cx="214200" cy="1439640"/>
          </a:xfrm>
          <a:custGeom>
            <a:avLst/>
            <a:gdLst>
              <a:gd name="textAreaLeft" fmla="*/ 136800 w 214200"/>
              <a:gd name="textAreaRight" fmla="*/ 214560 w 214200"/>
              <a:gd name="textAreaTop" fmla="*/ 25200 h 1439640"/>
              <a:gd name="textAreaBottom" fmla="*/ 141444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7"/>
                  <a:pt x="10800" y="1214"/>
                </a:cubicBezTo>
                <a:lnTo>
                  <a:pt x="10800" y="9586"/>
                </a:lnTo>
                <a:cubicBezTo>
                  <a:pt x="10800" y="10193"/>
                  <a:pt x="5400" y="10800"/>
                  <a:pt x="0" y="10800"/>
                </a:cubicBezTo>
                <a:cubicBezTo>
                  <a:pt x="5400" y="10800"/>
                  <a:pt x="10800" y="11407"/>
                  <a:pt x="10800" y="12014"/>
                </a:cubicBezTo>
                <a:lnTo>
                  <a:pt x="10800" y="20386"/>
                </a:lnTo>
                <a:cubicBezTo>
                  <a:pt x="10800" y="209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5148360" y="1603440"/>
            <a:ext cx="287280" cy="745920"/>
          </a:xfrm>
          <a:custGeom>
            <a:avLst/>
            <a:gdLst>
              <a:gd name="textAreaLeft" fmla="*/ 183600 w 287280"/>
              <a:gd name="textAreaRight" fmla="*/ 287640 w 287280"/>
              <a:gd name="textAreaTop" fmla="*/ 22320 h 745920"/>
              <a:gd name="textAreaBottom" fmla="*/ 723600 h 74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9"/>
                  <a:pt x="10800" y="2078"/>
                </a:cubicBezTo>
                <a:lnTo>
                  <a:pt x="10800" y="8722"/>
                </a:lnTo>
                <a:cubicBezTo>
                  <a:pt x="10800" y="9761"/>
                  <a:pt x="5400" y="10800"/>
                  <a:pt x="0" y="10800"/>
                </a:cubicBezTo>
                <a:cubicBezTo>
                  <a:pt x="5400" y="10800"/>
                  <a:pt x="10800" y="11839"/>
                  <a:pt x="10800" y="12878"/>
                </a:cubicBezTo>
                <a:lnTo>
                  <a:pt x="10800" y="19522"/>
                </a:lnTo>
                <a:cubicBezTo>
                  <a:pt x="10800" y="2056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4000" y="4797360"/>
          <a:ext cx="8569080" cy="1365480"/>
        </p:xfrm>
        <a:graphic>
          <a:graphicData uri="http://schemas.openxmlformats.org/drawingml/2006/table">
            <a:tbl>
              <a:tblPr/>
              <a:tblGrid>
                <a:gridCol w="4535280"/>
                <a:gridCol w="360360"/>
                <a:gridCol w="367344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8 (умерло взросл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000 стр.1 гр.28 (умерло детей)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1 гр. 13 (умерло всего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3100 стр. 78  «кроме того больные новорожденные»  гр. 13 (умерл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Прямоугольник 2"/>
          <p:cNvSpPr/>
          <p:nvPr/>
        </p:nvSpPr>
        <p:spPr>
          <a:xfrm>
            <a:off x="755640" y="4508640"/>
            <a:ext cx="8085240" cy="368280"/>
          </a:xfrm>
          <a:prstGeom prst="rect">
            <a:avLst/>
          </a:prstGeom>
          <a:solidFill>
            <a:srgbClr val="3ba0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числу умерши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Левая фигурная скобка 3"/>
          <p:cNvSpPr/>
          <p:nvPr/>
        </p:nvSpPr>
        <p:spPr>
          <a:xfrm>
            <a:off x="468360" y="5445000"/>
            <a:ext cx="69840" cy="360360"/>
          </a:xfrm>
          <a:custGeom>
            <a:avLst/>
            <a:gdLst>
              <a:gd name="textAreaLeft" fmla="*/ 44640 w 69840"/>
              <a:gd name="textAreaRight" fmla="*/ 69840 w 69840"/>
              <a:gd name="textAreaTop" fmla="*/ 1800 h 360360"/>
              <a:gd name="textAreaBottom" fmla="*/ 3585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5"/>
                  <a:pt x="10800" y="349"/>
                </a:cubicBezTo>
                <a:lnTo>
                  <a:pt x="10800" y="10451"/>
                </a:lnTo>
                <a:cubicBezTo>
                  <a:pt x="10800" y="10626"/>
                  <a:pt x="5400" y="10800"/>
                  <a:pt x="0" y="10800"/>
                </a:cubicBezTo>
                <a:cubicBezTo>
                  <a:pt x="5400" y="10800"/>
                  <a:pt x="10800" y="10975"/>
                  <a:pt x="10800" y="11149"/>
                </a:cubicBezTo>
                <a:lnTo>
                  <a:pt x="10800" y="21251"/>
                </a:lnTo>
                <a:cubicBezTo>
                  <a:pt x="10800" y="2142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Левая фигурная скобка 5"/>
          <p:cNvSpPr/>
          <p:nvPr/>
        </p:nvSpPr>
        <p:spPr>
          <a:xfrm>
            <a:off x="281160" y="5442120"/>
            <a:ext cx="266400" cy="579240"/>
          </a:xfrm>
          <a:custGeom>
            <a:avLst/>
            <a:gdLst>
              <a:gd name="textAreaLeft" fmla="*/ 170280 w 266400"/>
              <a:gd name="textAreaRight" fmla="*/ 266760 w 266400"/>
              <a:gd name="textAreaTop" fmla="*/ 6840 h 579240"/>
              <a:gd name="textAreaBottom" fmla="*/ 57240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14"/>
                  <a:pt x="10800" y="828"/>
                </a:cubicBezTo>
                <a:lnTo>
                  <a:pt x="10800" y="11605"/>
                </a:lnTo>
                <a:cubicBezTo>
                  <a:pt x="10800" y="12019"/>
                  <a:pt x="5400" y="12433"/>
                  <a:pt x="0" y="12433"/>
                </a:cubicBezTo>
                <a:cubicBezTo>
                  <a:pt x="5400" y="12433"/>
                  <a:pt x="10800" y="12847"/>
                  <a:pt x="10800" y="13261"/>
                </a:cubicBezTo>
                <a:lnTo>
                  <a:pt x="10800" y="20772"/>
                </a:lnTo>
                <a:cubicBezTo>
                  <a:pt x="10800" y="2118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Левая фигурная скобка 6"/>
          <p:cNvSpPr/>
          <p:nvPr/>
        </p:nvSpPr>
        <p:spPr>
          <a:xfrm>
            <a:off x="971640" y="5229360"/>
            <a:ext cx="647640" cy="1152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1152360"/>
              <a:gd name="textAreaBottom" fmla="*/ 113580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788"/>
                </a:lnTo>
                <a:cubicBezTo>
                  <a:pt x="10800" y="10294"/>
                  <a:pt x="5400" y="10800"/>
                  <a:pt x="0" y="10800"/>
                </a:cubicBezTo>
                <a:cubicBezTo>
                  <a:pt x="5400" y="10800"/>
                  <a:pt x="10800" y="11306"/>
                  <a:pt x="10800" y="11812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Левая фигурная скобка 12"/>
          <p:cNvSpPr/>
          <p:nvPr/>
        </p:nvSpPr>
        <p:spPr>
          <a:xfrm>
            <a:off x="5148360" y="5445000"/>
            <a:ext cx="358560" cy="939960"/>
          </a:xfrm>
          <a:custGeom>
            <a:avLst/>
            <a:gdLst>
              <a:gd name="textAreaLeft" fmla="*/ 228960 w 358560"/>
              <a:gd name="textAreaRight" fmla="*/ 358560 w 358560"/>
              <a:gd name="textAreaTop" fmla="*/ 9000 h 939960"/>
              <a:gd name="textAreaBottom" fmla="*/ 930960 h 93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4"/>
                  <a:pt x="10800" y="687"/>
                </a:cubicBezTo>
                <a:lnTo>
                  <a:pt x="10800" y="9341"/>
                </a:lnTo>
                <a:cubicBezTo>
                  <a:pt x="10800" y="9685"/>
                  <a:pt x="5400" y="10028"/>
                  <a:pt x="0" y="10028"/>
                </a:cubicBezTo>
                <a:cubicBezTo>
                  <a:pt x="5400" y="10028"/>
                  <a:pt x="10800" y="10372"/>
                  <a:pt x="10800" y="10715"/>
                </a:cubicBezTo>
                <a:lnTo>
                  <a:pt x="10800" y="20913"/>
                </a:lnTo>
                <a:cubicBezTo>
                  <a:pt x="10800" y="212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26560" y="1700280"/>
            <a:ext cx="7907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водится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по количеству патологоанатомических вскрыт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сего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,2000,10,09+14,2000,10,29 = 30,5503,11,03 – 30,5503,11,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зрослы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4,2000,10,09 = (30,5503,11,03 – 30,5503,111,03) – (30,5503,11,09 – 30,5503,111,0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ети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,2000,10,29 = 30,5503,111,03 – 30,5503,111,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533520" y="20484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4 форма  Межформенный контрол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 30 формой «Сведения о медицинской организаци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11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ежформенный контроль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продолжение):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11280" y="692280"/>
          <a:ext cx="8064360" cy="334800"/>
        </p:xfrm>
        <a:graphic>
          <a:graphicData uri="http://schemas.openxmlformats.org/drawingml/2006/table">
            <a:tbl>
              <a:tblPr/>
              <a:tblGrid>
                <a:gridCol w="4219560"/>
                <a:gridCol w="528480"/>
                <a:gridCol w="3316320"/>
              </a:tblGrid>
              <a:tr h="33480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14"/>
          <p:cNvSpPr/>
          <p:nvPr/>
        </p:nvSpPr>
        <p:spPr>
          <a:xfrm>
            <a:off x="2124000" y="3284640"/>
            <a:ext cx="59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9640" y="1413000"/>
          <a:ext cx="8209080" cy="2403360"/>
        </p:xfrm>
        <a:graphic>
          <a:graphicData uri="http://schemas.openxmlformats.org/drawingml/2006/table">
            <a:tbl>
              <a:tblPr/>
              <a:tblGrid>
                <a:gridCol w="4295880"/>
                <a:gridCol w="538200"/>
                <a:gridCol w="3375000"/>
              </a:tblGrid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сего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т. 2000 «Взрослые» стр.1, гр.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т. 2000 «Дети от 0-17 лет»  стр. 1, гр. 29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5503 гр. 3, стр. 1.1 - гр. 9, стр. 1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зрослые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т. 2000 «Взрослые» стр.1, гр.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5503 гр. 3, (стр. 1.1 - стр.1.1.1)  - гр. 9, (стр. 1.1 – стр. 1.1.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ети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т. 2000  стр. 1, гр. 2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5503 гр. 3, стр.1.1.1  - гр. 9,  стр. 1.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арше трудоспособ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:  т. 2000 стр. 1, гр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5503 гр. 11, стр.1.1.3 - гр. 9,  стр. 1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37"/>
          <p:cNvSpPr/>
          <p:nvPr/>
        </p:nvSpPr>
        <p:spPr>
          <a:xfrm>
            <a:off x="826920" y="3860640"/>
            <a:ext cx="7993080" cy="916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количеству умерших новорожденных в первые 168 часов жизни в стационаре и вскрытиям новорожденных умерших в первые 0-6 суток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9640" y="4869000"/>
          <a:ext cx="8280360" cy="1279440"/>
        </p:xfrm>
        <a:graphic>
          <a:graphicData uri="http://schemas.openxmlformats.org/drawingml/2006/table">
            <a:tbl>
              <a:tblPr/>
              <a:tblGrid>
                <a:gridCol w="4256280"/>
                <a:gridCol w="542880"/>
                <a:gridCol w="3481200"/>
              </a:tblGrid>
              <a:tr h="12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200 гр. 1 «умерло новорожденных в первые 168 ч. жизни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жет быть больше, так как не всегда дети вскрываются (например по религиозным взглядам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5503 гр. 3,  стр.4  - гр. 9, стр. 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вскрыто новорожденных умерших в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первые 0-6 суток (168 ч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50"/>
          <p:cNvSpPr/>
          <p:nvPr/>
        </p:nvSpPr>
        <p:spPr>
          <a:xfrm>
            <a:off x="971640" y="1052640"/>
            <a:ext cx="770400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паталогоанатомическим вскрыт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95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формой 32 «Сведения о медицинской помощи беременным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еницам и родильницам»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у переведенных новорожденны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2100,1,0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2, 2247,1,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у умерших новорожденных в первые 0-6 дней жи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2200,1,0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2,2250,1,06 + 32,2260,1,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611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ежформенный контроль</a:t>
            </a:r>
            <a:r>
              <a:rPr b="1" lang="ru-RU" sz="2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611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ежформенный контроль</a:t>
            </a:r>
            <a:r>
              <a:rPr b="1" lang="en-US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должение):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55640" y="2060640"/>
          <a:ext cx="7993080" cy="2286000"/>
        </p:xfrm>
        <a:graphic>
          <a:graphicData uri="http://schemas.openxmlformats.org/drawingml/2006/table">
            <a:tbl>
              <a:tblPr/>
              <a:tblGrid>
                <a:gridCol w="3665520"/>
                <a:gridCol w="515880"/>
                <a:gridCol w="3811680"/>
              </a:tblGrid>
              <a:tr h="228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. 2100 гр.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переведено новорожденных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. 2247 «переведено новорожденных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учитываются только переводы в др. учреждения на  койки выхаживания недоношенных и патологии новорожденных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36"/>
          <p:cNvSpPr/>
          <p:nvPr/>
        </p:nvSpPr>
        <p:spPr>
          <a:xfrm>
            <a:off x="826920" y="3716280"/>
            <a:ext cx="7632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7"/>
          <p:cNvSpPr/>
          <p:nvPr/>
        </p:nvSpPr>
        <p:spPr>
          <a:xfrm flipV="1" rot="10800000">
            <a:off x="1042560" y="835560"/>
            <a:ext cx="741996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количеству переводов новорожд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7"/>
          <p:cNvSpPr/>
          <p:nvPr/>
        </p:nvSpPr>
        <p:spPr>
          <a:xfrm>
            <a:off x="900000" y="4869000"/>
            <a:ext cx="7848720" cy="82404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&gt;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так как в форме №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14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 дети переводятся  в разные учреждения на разные профили коек и с разных профильных коек (не только родильных, например с детских (пат. нов.), на которые они поступают переводом с родильных коек - внутри учреждени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2"/>
          <p:cNvSpPr/>
          <p:nvPr/>
        </p:nvSpPr>
        <p:spPr>
          <a:xfrm>
            <a:off x="4427640" y="3789360"/>
            <a:ext cx="503280" cy="1008000"/>
          </a:xfrm>
          <a:prstGeom prst="downArrow">
            <a:avLst>
              <a:gd name="adj1" fmla="val 50000"/>
              <a:gd name="adj2" fmla="val 5007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55640" y="1628640"/>
          <a:ext cx="7993080" cy="432000"/>
        </p:xfrm>
        <a:graphic>
          <a:graphicData uri="http://schemas.openxmlformats.org/drawingml/2006/table">
            <a:tbl>
              <a:tblPr/>
              <a:tblGrid>
                <a:gridCol w="3672000"/>
                <a:gridCol w="504720"/>
                <a:gridCol w="38163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611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ежформенный контроль 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продолжение):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26920" y="907920"/>
          <a:ext cx="7777440" cy="365400"/>
        </p:xfrm>
        <a:graphic>
          <a:graphicData uri="http://schemas.openxmlformats.org/drawingml/2006/table">
            <a:tbl>
              <a:tblPr/>
              <a:tblGrid>
                <a:gridCol w="3240360"/>
                <a:gridCol w="576000"/>
                <a:gridCol w="3961080"/>
              </a:tblGrid>
              <a:tr h="36540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Форма  № 3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23"/>
          <p:cNvSpPr/>
          <p:nvPr/>
        </p:nvSpPr>
        <p:spPr>
          <a:xfrm>
            <a:off x="826920" y="1700280"/>
            <a:ext cx="7632720" cy="703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количеству умерших новорожденных в первые 168 часов жизни в стациона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55640" y="2809800"/>
          <a:ext cx="7777080" cy="2395440"/>
        </p:xfrm>
        <a:graphic>
          <a:graphicData uri="http://schemas.openxmlformats.org/drawingml/2006/table">
            <a:tbl>
              <a:tblPr/>
              <a:tblGrid>
                <a:gridCol w="3240000"/>
                <a:gridCol w="576360"/>
                <a:gridCol w="3960720"/>
              </a:tblGrid>
              <a:tr h="240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200  стр.1, гр. 1, (умерло  новорожденных в первые 168 часов жизн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gt;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. 2250 стр. 1, гр.6 «умерло новор. в возрасте 0-6 дней жизни» + т. 2260 стр. 1, гр.8 «умерло новор. в возрасте 0-6 дней жизн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учитываются только новорожденные, умершие  в родильных отделениях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43"/>
          <p:cNvSpPr/>
          <p:nvPr/>
        </p:nvSpPr>
        <p:spPr>
          <a:xfrm>
            <a:off x="826920" y="51577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CG Times"/>
              </a:rPr>
              <a:t>    </a:t>
            </a:r>
            <a:r>
              <a:rPr b="0" lang="ru-RU" sz="1800" spc="-1" strike="noStrike">
                <a:solidFill>
                  <a:srgbClr val="000099"/>
                </a:solidFill>
                <a:latin typeface="CG Times"/>
              </a:rPr>
              <a:t>Т.к. умирают не только в учреждениях родовспоможения, но и в других учреждениях на детских кой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1"/>
          <p:cNvSpPr/>
          <p:nvPr/>
        </p:nvSpPr>
        <p:spPr>
          <a:xfrm>
            <a:off x="3995640" y="4070520"/>
            <a:ext cx="486000" cy="1087200"/>
          </a:xfrm>
          <a:prstGeom prst="downArrow">
            <a:avLst>
              <a:gd name="adj1" fmla="val 50000"/>
              <a:gd name="adj2" fmla="val 6138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Благодарю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за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000" y="1267920"/>
            <a:ext cx="7597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 Отчет включаются сведения о числе койко-дней, проведенных пациентами в круглосуточном стационаре, о числе и составе пациентов, исходах их лечения и об объеме хирургической помощи (экстренной и планово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ведения о  случаях смерти женщин по истечении 42 дней после беременности показываются в Отчете на общих основани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403280" y="404640"/>
            <a:ext cx="59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Указания по заполнению формы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4000" y="1341000"/>
            <a:ext cx="788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Отчете отражаются также сведения о числе операций, независимо от профиля, вида, метода проведения, выполненных пациентам,  выбывшим из стационара, либо умерши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числа проведенных в стационаре операций выделяется число операций, при которых наблюдались осложн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619280" y="404640"/>
            <a:ext cx="576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Указания по заполнению формы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39760" y="188640"/>
            <a:ext cx="80042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Calibri"/>
                <a:ea typeface="Times New Roman"/>
              </a:rPr>
              <a:t>«Состав пациентов в стационаре,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Calibri"/>
                <a:ea typeface="Times New Roman"/>
              </a:rPr>
              <a:t>сроки и исходы лечения» код (2000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33120" y="1557000"/>
            <a:ext cx="8210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его»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ются сведения о всех выписанных пациентах, проведенных ими койко-днях и умерших, в том числе о женщинах, выписанных после нормальных родов и аборт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чание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едения о числе умерших беременных, а также женщин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ших в течение 42 дней после окончания беременност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зависимо от ее продолжительности и локализации от какой-либо причины, связанной с беременностью, отягощенной ею или ее ведением, но не от несчастного случая или случайно возникшей причины в соответствии с критериями ВОЗ, включаются в строку 16.0 «Беременность, роды и послеродовый период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1773360"/>
            <a:ext cx="78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у не включаются сведения о пациентах, переведенных в другие стационары (т.е. пациенты, исходы лечения которых еще не определились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этих контингентах госпитализированных показываются в  21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47280" y="25992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Calibri"/>
                <a:ea typeface="Times New Roman"/>
              </a:rPr>
              <a:t>«Состав пациентов в стационаре,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Calibri"/>
                <a:ea typeface="Times New Roman"/>
              </a:rPr>
              <a:t>сроки и исходы лечения» код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  <a:ea typeface="Times New Roman"/>
              </a:rPr>
              <a:t>(2000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87480" y="439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Calibri"/>
                <a:ea typeface="Times New Roman"/>
              </a:rPr>
              <a:t>«Состав пациентов в стационаре,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Calibri"/>
                <a:ea typeface="Times New Roman"/>
              </a:rPr>
              <a:t>сроки и исходы лечения» код (2000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0200" y="1773360"/>
            <a:ext cx="7597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ы и специализированные больницы вносят в таблицу сведения о всех пациентах, заболевания которых могут соответствовать, но могут и не соответствовать профилю больницы (диспансер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ями использования кода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54.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«Старость»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ачестве первоначальной причины смерти являются: возраст старше 80 лет, отсутствие в медицинской документации хронических заболеваний, травм и их последствий, способных вызвать смерть и подозрений на насильственную смер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39528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f497d"/>
                </a:solidFill>
                <a:latin typeface="Calibri"/>
              </a:rPr>
              <a:t>О КОДИРОВАНИИ СОСТОЯНИЙ «СТАРОСТЬ» И «ДЕМЕНЦИЯ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7T11:05:35Z</dcterms:created>
  <dc:creator>Арсений А. Кучерявый</dc:creator>
  <dc:description/>
  <dc:language>en-US</dc:language>
  <cp:lastModifiedBy>Мария МИ. Баринова</cp:lastModifiedBy>
  <cp:lastPrinted>2017-12-21T12:29:31Z</cp:lastPrinted>
  <dcterms:modified xsi:type="dcterms:W3CDTF">2017-12-21T13:42:00Z</dcterms:modified>
  <cp:revision>327</cp:revision>
  <dc:subject/>
  <dc:title>Видеотрансляция по вопросам мониторинга донорских органов и тканей человека, доноров органов и тканей, пациентов (реципиентов)</dc:title>
</cp:coreProperties>
</file>